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2.wmf" ContentType="image/x-wmf"/>
  <Override PartName="/ppt/media/image9.jpeg" ContentType="image/jpeg"/>
  <Override PartName="/ppt/media/image11.wmf" ContentType="image/x-wmf"/>
  <Override PartName="/ppt/media/image6.wmf" ContentType="image/x-wmf"/>
  <Override PartName="/ppt/media/image20.wmf" ContentType="image/x-wmf"/>
  <Override PartName="/ppt/media/image3.wmf" ContentType="image/x-wmf"/>
  <Override PartName="/ppt/media/image19.png" ContentType="image/png"/>
  <Override PartName="/ppt/media/image1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2.jpeg" ContentType="image/jpeg"/>
  <Override PartName="/ppt/media/image5.wmf" ContentType="image/x-wmf"/>
  <Override PartName="/ppt/media/image18.png" ContentType="image/png"/>
  <Override PartName="/ppt/media/image7.jpeg" ContentType="image/jpeg"/>
  <Override PartName="/ppt/media/image10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84CF-B364-4F0B-B79A-1154C366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D1CC-35CB-493E-ABEA-494A816E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4944-B116-40BA-9B09-7977E8885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0025-1CD6-46B8-9784-FC4F754CB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8012-A0E4-40C4-AB6B-BCD61ABB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3CA6-7DB3-4F4B-B191-2AADFFF2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A2B6-EC06-42E0-B52F-0E9F2B76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15D7-8563-4172-B578-C5896361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EA98-1330-4EA7-80F5-55DEB42D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D5C1-44DC-43AB-BB54-6E8BC3DA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B21C-D718-4B8E-9159-F427EFC3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CE3B-8700-4A22-A569-ACC589FA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AB77-E9B0-4210-9A38-677FF672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41B8-0D52-4193-9CF5-02694260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0503-8DE0-41F6-B23F-2E4B7E8F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6D9A-CB63-46FE-8094-A7AD2F51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9943-EF16-4CCB-B3BF-1AE6F17D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AA68-3877-4C85-8FFB-CEBDB52D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BC03-CFCA-4282-BA69-CA079FE4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5BB8-95CF-419F-B8F9-324A2E36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49BB-5741-4CCE-BEB9-DFF34E76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25A4-AE81-4B7D-889C-02FDD445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A53D-F62B-4F91-A3DF-68115481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A52B-4E89-48A8-9582-7137D81B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C8E0-02F9-4C03-9C99-5764F9291C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9BD0-73EB-4A71-99FF-F8D72736E0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7721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Model for Superconducting Cab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09680" y="228564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uca Bottura(1), Cristina Rosso (2) and Marco Breschi (3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(1) CERN, Switzerland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(2) CryoSoft, Franc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(3) University of Bologna, Ital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rmal Model - 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990720" y="4038480"/>
                <a:ext cx="71215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r>
                          <m:t xml:space="preserve">¶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¶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oule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d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h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2590920" y="2819520"/>
            <a:ext cx="2895480" cy="875880"/>
          </a:xfrm>
          <a:solidFill>
            <a:srgbClr val="ffffff"/>
          </a:solidFill>
          <a:ln w="12600">
            <a:solidFill>
              <a:srgbClr val="ff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olid temperature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00800" y="2895480"/>
            <a:ext cx="2438280" cy="825480"/>
          </a:xfrm>
          <a:solidFill>
            <a:srgbClr val="ffffff"/>
          </a:solidFill>
          <a:ln w="12600">
            <a:solidFill>
              <a:srgbClr val="ff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heat exchange among sol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334120"/>
            <a:ext cx="2209680" cy="1191240"/>
          </a:xfrm>
          <a:solidFill>
            <a:srgbClr val="ffffff"/>
          </a:solidFill>
          <a:ln w="12600">
            <a:solidFill>
              <a:srgbClr val="ff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heat exchange with cool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95280" y="5181480"/>
            <a:ext cx="1752840" cy="459720"/>
          </a:xfrm>
          <a:solidFill>
            <a:srgbClr val="ffffff"/>
          </a:solidFill>
          <a:ln w="12600">
            <a:solidFill>
              <a:srgbClr val="ff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Joule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rallel, 1-D thermal soli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4038480"/>
            <a:ext cx="533520" cy="457200"/>
          </a:xfrm>
          <a:prstGeom prst="ellipse">
            <a:avLst/>
          </a:prstGeom>
          <a:noFill/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4191120"/>
            <a:ext cx="685800" cy="457200"/>
          </a:xfrm>
          <a:prstGeom prst="ellipse">
            <a:avLst/>
          </a:prstGeom>
          <a:noFill/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62720" y="3809880"/>
            <a:ext cx="914400" cy="990720"/>
          </a:xfrm>
          <a:prstGeom prst="ellipse">
            <a:avLst/>
          </a:prstGeom>
          <a:noFill/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114800"/>
            <a:ext cx="1600200" cy="609480"/>
          </a:xfrm>
          <a:prstGeom prst="ellipse">
            <a:avLst/>
          </a:prstGeom>
          <a:noFill/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rmal Model -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-linear material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t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 condu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-linear heat generation (Joule heat) in superconducting materi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riable cross section along the length 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905120" y="2514600"/>
                <a:ext cx="56768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f>
                      <m:num>
                        <m:r>
                          <m:t xml:space="preserve">¶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¶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¶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¶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f>
                      <m:num>
                        <m:r>
                          <m:t xml:space="preserve">¶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¶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f>
                      <m:num>
                        <m:r>
                          <m:t xml:space="preserve">¶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¶</m:t>
                        </m:r>
                        <m:r>
                          <m:t xml:space="preserve">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k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k</m:t>
                                </m:r>
                              </m:sub>
                              <m:sup>
                                <m:r>
                                  <m:t xml:space="preserve">v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k</m:t>
                                </m:r>
                              </m:sub>
                              <m:sup>
                                <m:r>
                                  <m:t xml:space="preserve">ρ</m:t>
                                </m:r>
                              </m:sup>
                            </m:sSubSup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905120" y="4648320"/>
                <a:ext cx="49813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k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Sup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k</m:t>
                                    </m:r>
                                  </m:sub>
                                  <m:sup>
                                    <m:r>
                                      <m:t xml:space="preserve">e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k</m:t>
                                    </m:r>
                                  </m:sub>
                                  <m:sup>
                                    <m:r>
                                      <m:t xml:space="preserve">v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h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e>
                                </m:d>
                                <m:sSubSup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k</m:t>
                                    </m:r>
                                  </m:sub>
                                  <m:sup>
                                    <m:r>
                                      <m:t xml:space="preserve">ρ</m:t>
                                    </m:r>
                                  </m:sup>
                                </m:sSubSup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905120" y="3279600"/>
                <a:ext cx="590544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f>
                          <m:num>
                            <m:r>
                              <m:t xml:space="preserve">¶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k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sSubSup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k</m:t>
                                    </m:r>
                                  </m:sub>
                                  <m:sup>
                                    <m:r>
                                      <m:t xml:space="preserve">ρ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hk</m:t>
                                        </m:r>
                                      </m:sub>
                                      <m:sup>
                                        <m:r>
                                          <m:t xml:space="preserve">e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  <m:sSubSup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hk</m:t>
                                        </m:r>
                                      </m:sub>
                                      <m:sup>
                                        <m:r>
                                          <m:t xml:space="preserve">v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b>
                                            <m:r>
                                              <m:t xml:space="preserve">h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f>
                                          <m:num>
                                            <m:sSubSup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h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bSup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</m:e>
                                    </m:d>
                                    <m:sSubSup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hk</m:t>
                                        </m:r>
                                      </m:sub>
                                      <m:sup>
                                        <m:r>
                                          <m:t xml:space="preserve">ρ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ydraulic Model - 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5791320"/>
            <a:ext cx="1905120" cy="825480"/>
          </a:xfrm>
          <a:solidFill>
            <a:srgbClr val="ffffff"/>
          </a:solidFill>
          <a:ln w="12600">
            <a:solidFill>
              <a:srgbClr val="ff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86600" y="4267080"/>
            <a:ext cx="1905120" cy="1922760"/>
          </a:xfrm>
          <a:solidFill>
            <a:srgbClr val="ffffff"/>
          </a:solidFill>
          <a:ln w="12600">
            <a:solidFill>
              <a:srgbClr val="ff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ass, momentum, and energy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52680" y="5867280"/>
            <a:ext cx="2210040" cy="1191240"/>
          </a:xfrm>
          <a:solidFill>
            <a:srgbClr val="ffffff"/>
          </a:solidFill>
          <a:ln w="12600">
            <a:solidFill>
              <a:srgbClr val="ff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heat exchange with pipe w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2438280"/>
            <a:ext cx="1600200" cy="1241640"/>
          </a:xfrm>
          <a:solidFill>
            <a:srgbClr val="ffffff"/>
          </a:solidFill>
          <a:ln w="12600">
            <a:solidFill>
              <a:srgbClr val="ff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olumetric  flux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ahoma"/>
              </a:rPr>
              <a:t>h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ahoma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rallel, 1-D compressible flow pi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2438280"/>
            <a:ext cx="457200" cy="457200"/>
          </a:xfrm>
          <a:prstGeom prst="ellipse">
            <a:avLst/>
          </a:prstGeom>
          <a:noFill/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57400" y="3200400"/>
            <a:ext cx="457200" cy="457200"/>
          </a:xfrm>
          <a:prstGeom prst="ellipse">
            <a:avLst/>
          </a:prstGeom>
          <a:noFill/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1480" y="2590920"/>
            <a:ext cx="609840" cy="457200"/>
          </a:xfrm>
          <a:prstGeom prst="ellipse">
            <a:avLst/>
          </a:prstGeom>
          <a:noFill/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00400" y="5029200"/>
            <a:ext cx="2819520" cy="838080"/>
          </a:xfrm>
          <a:prstGeom prst="ellipse">
            <a:avLst/>
          </a:prstGeom>
          <a:noFill/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457200" cy="457200"/>
          </a:xfrm>
          <a:prstGeom prst="ellipse">
            <a:avLst/>
          </a:prstGeom>
          <a:noFill/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19920" y="5257800"/>
            <a:ext cx="457200" cy="457200"/>
          </a:xfrm>
          <a:prstGeom prst="ellipse">
            <a:avLst/>
          </a:prstGeom>
          <a:noFill/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77120" y="5257800"/>
            <a:ext cx="457200" cy="457200"/>
          </a:xfrm>
          <a:prstGeom prst="ellipse">
            <a:avLst/>
          </a:prstGeom>
          <a:noFill/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0080" y="3886200"/>
            <a:ext cx="1523880" cy="459720"/>
          </a:xfrm>
          <a:solidFill>
            <a:srgbClr val="ffffff"/>
          </a:solidFill>
          <a:ln w="12600">
            <a:solidFill>
              <a:srgbClr val="ff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3200400"/>
            <a:ext cx="2514600" cy="825480"/>
          </a:xfrm>
          <a:solidFill>
            <a:srgbClr val="ffffff"/>
          </a:solidFill>
          <a:ln w="12600">
            <a:solidFill>
              <a:srgbClr val="ff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ipe wall fr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86600" y="5867280"/>
            <a:ext cx="2057400" cy="825480"/>
          </a:xfrm>
          <a:solidFill>
            <a:srgbClr val="ffffff"/>
          </a:solidFill>
          <a:ln w="12600">
            <a:solidFill>
              <a:srgbClr val="ff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unter-flow in helium-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ydraulic Model -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ct description of 1-D compressible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and high Reynolds flow condi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fluid (He, LN2, Neon,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riable cross section and channel geometry along the length 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pirical correlations f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ic Model - 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048120" y="4114800"/>
                <a:ext cx="36097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r>
                          <m:t xml:space="preserve">¶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¶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Dv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200400" y="4114800"/>
            <a:ext cx="457200" cy="457200"/>
          </a:xfrm>
          <a:prstGeom prst="ellipse">
            <a:avLst/>
          </a:prstGeom>
          <a:noFill/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3733920"/>
            <a:ext cx="2361960" cy="459720"/>
          </a:xfrm>
          <a:solidFill>
            <a:srgbClr val="ffffff"/>
          </a:solidFill>
          <a:ln w="12600">
            <a:solidFill>
              <a:srgbClr val="ff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rand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943600" y="4267080"/>
            <a:ext cx="762120" cy="457200"/>
          </a:xfrm>
          <a:prstGeom prst="ellipse">
            <a:avLst/>
          </a:prstGeom>
          <a:noFill/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5181480"/>
            <a:ext cx="2590920" cy="1191240"/>
          </a:xfrm>
          <a:solidFill>
            <a:srgbClr val="ffffff"/>
          </a:solidFill>
          <a:ln w="12600">
            <a:solidFill>
              <a:srgbClr val="ff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ternal voltages (e.g. dB/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267080"/>
            <a:ext cx="533520" cy="533520"/>
          </a:xfrm>
          <a:prstGeom prst="ellipse">
            <a:avLst/>
          </a:prstGeom>
          <a:noFill/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5880" y="2819520"/>
            <a:ext cx="2210040" cy="1191240"/>
          </a:xfrm>
          <a:solidFill>
            <a:srgbClr val="ffffff"/>
          </a:solidFill>
          <a:ln w="12600">
            <a:solidFill>
              <a:srgbClr val="ff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ter-strand conducta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4343400"/>
            <a:ext cx="152280" cy="380880"/>
          </a:xfrm>
          <a:prstGeom prst="ellipse">
            <a:avLst/>
          </a:prstGeom>
          <a:noFill/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5105520"/>
            <a:ext cx="1752480" cy="825480"/>
          </a:xfrm>
          <a:solidFill>
            <a:srgbClr val="ffffff"/>
          </a:solidFill>
          <a:ln w="12600">
            <a:solidFill>
              <a:srgbClr val="ff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ducta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4343400"/>
            <a:ext cx="228600" cy="380880"/>
          </a:xfrm>
          <a:prstGeom prst="ellipse">
            <a:avLst/>
          </a:prstGeom>
          <a:noFill/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2280" y="2666880"/>
            <a:ext cx="2895840" cy="825480"/>
          </a:xfrm>
          <a:solidFill>
            <a:srgbClr val="ffffff"/>
          </a:solidFill>
          <a:ln w="12600">
            <a:solidFill>
              <a:srgbClr val="ff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arallel resista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rallel, 1-D current carrying condu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ic Model -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-linear parallel resistance (e.g. strand during quenc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riable properties along the length x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strand inductance (cable geometr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strand conductance (localised vs. smeared contact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(field profi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1631880" y="2362320"/>
            <a:ext cx="2743560" cy="5637600"/>
            <a:chOff x="1631880" y="2362320"/>
            <a:chExt cx="2743560" cy="5637600"/>
          </a:xfrm>
        </p:grpSpPr>
        <p:sp>
          <p:nvSpPr>
            <p:cNvPr id="236" name=""/>
            <p:cNvSpPr/>
            <p:nvPr/>
          </p:nvSpPr>
          <p:spPr>
            <a:xfrm>
              <a:off x="2590560" y="5029200"/>
              <a:ext cx="838440" cy="304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631880" y="5257800"/>
              <a:ext cx="2743560" cy="274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549" y="1993"/>
                  </a:moveTo>
                  <a:arcTo wR="10800" hR="10800" stAng="-7522094" swAng="4251575"/>
                  <a:lnTo>
                    <a:pt x="10800" y="10800"/>
                  </a:lnTo>
                  <a:close/>
                </a:path>
                <a:path fill="none" w="21600" h="21600">
                  <a:moveTo>
                    <a:pt x="4549" y="1993"/>
                  </a:moveTo>
                  <a:arcTo wR="10800" hR="10800" stAng="-7522094" swAng="4251575"/>
                </a:path>
              </a:pathLst>
            </a:cu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1631880" y="2361600"/>
              <a:ext cx="2743560" cy="274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549" y="1993"/>
                  </a:moveTo>
                  <a:arcTo wR="10800" hR="10800" stAng="-7522094" swAng="4251575"/>
                  <a:lnTo>
                    <a:pt x="10800" y="10800"/>
                  </a:lnTo>
                  <a:close/>
                </a:path>
                <a:path fill="none" w="21600" h="21600">
                  <a:moveTo>
                    <a:pt x="4549" y="1993"/>
                  </a:moveTo>
                  <a:arcTo wR="10800" hR="10800" stAng="-7522094" swAng="4251575"/>
                </a:path>
              </a:pathLst>
            </a:cu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590560" y="586728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62160" y="5257800"/>
              <a:ext cx="0" cy="30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11240" y="533376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36320" y="5486400"/>
              <a:ext cx="29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19160" y="5105160"/>
              <a:ext cx="12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19160" y="5257800"/>
              <a:ext cx="12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29000" y="5333760"/>
              <a:ext cx="0" cy="68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90560" y="5333760"/>
              <a:ext cx="0" cy="68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3962160" y="4800240"/>
              <a:ext cx="0" cy="30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upling of the Fields - 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ma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 resistance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d for intimate contact (e.g. solder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known 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tact, can be estimated using electrical resistance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762120" y="4800600"/>
                <a:ext cx="10872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σ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495680" y="4192560"/>
                <a:ext cx="119232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533840" y="5462640"/>
                <a:ext cx="116352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3" name=""/>
          <p:cNvGrpSpPr/>
          <p:nvPr/>
        </p:nvGrpSpPr>
        <p:grpSpPr>
          <a:xfrm>
            <a:off x="5867280" y="4572000"/>
            <a:ext cx="990360" cy="1295280"/>
            <a:chOff x="5867280" y="4572000"/>
            <a:chExt cx="990360" cy="1295280"/>
          </a:xfrm>
        </p:grpSpPr>
        <p:sp>
          <p:nvSpPr>
            <p:cNvPr id="254" name=""/>
            <p:cNvSpPr/>
            <p:nvPr/>
          </p:nvSpPr>
          <p:spPr>
            <a:xfrm>
              <a:off x="5867280" y="4572000"/>
              <a:ext cx="99036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5867280" y="5410080"/>
              <a:ext cx="99036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7174080" y="4786200"/>
                <a:ext cx="129204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21240" y="4114800"/>
            <a:ext cx="44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iedemann-Franz-Lorenz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upling of the Fields -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ma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ydrau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tted perimeter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t transfer coefficient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d correlations provide a good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ails not settled (experimental 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ase trans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uced fl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rg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geometry and dimensional eff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upling of the Fields - 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draul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ydrau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tted perimeter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hk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perforati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h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t transfer coefficient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h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-of-magnitude correlations for perforated pi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relevant measurements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verse massflow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h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levant measurements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316320" y="5575320"/>
                <a:ext cx="14428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k</m:t>
                        </m:r>
                      </m:sub>
                    </m:sSub>
                    <m:r>
                      <m:t xml:space="preserve">∝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Δp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upling of the Fields - 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ctri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lec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strand resistance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e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nse experimental work, relevant for AC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-of-magnitude predicted at 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at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uctance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e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classical electrodynam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sc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rix form and solution algorith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ample of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lusions and persp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upling of the Fields - 5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ma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lec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and resistiv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isfactory understanding of macroscopic behaviour of superconducting str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895480" y="4724280"/>
                <a:ext cx="175104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∝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c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2819520" y="4952880"/>
            <a:ext cx="457200" cy="533520"/>
          </a:xfrm>
          <a:prstGeom prst="ellipse">
            <a:avLst/>
          </a:prstGeom>
          <a:noFill/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4343400"/>
            <a:ext cx="1905120" cy="825480"/>
          </a:xfrm>
          <a:solidFill>
            <a:srgbClr val="ffffff"/>
          </a:solidFill>
          <a:ln w="12600">
            <a:solidFill>
              <a:srgbClr val="ff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lectric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86200" y="4800600"/>
            <a:ext cx="533520" cy="457200"/>
          </a:xfrm>
          <a:prstGeom prst="ellipse">
            <a:avLst/>
          </a:prstGeom>
          <a:noFill/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1480" y="4267080"/>
            <a:ext cx="2362320" cy="1191240"/>
          </a:xfrm>
          <a:solidFill>
            <a:srgbClr val="ffffff"/>
          </a:solidFill>
          <a:ln w="12600">
            <a:solidFill>
              <a:srgbClr val="ff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urrent in the superco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ime Sca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769520" cy="42955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990720" y="1981080"/>
            <a:ext cx="7010280" cy="22860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90720" y="2895480"/>
            <a:ext cx="7010280" cy="23623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990720" y="1981080"/>
            <a:ext cx="7010280" cy="3276720"/>
            <a:chOff x="990720" y="1981080"/>
            <a:chExt cx="7010280" cy="3276720"/>
          </a:xfrm>
        </p:grpSpPr>
        <p:sp>
          <p:nvSpPr>
            <p:cNvPr id="277" name=""/>
            <p:cNvSpPr/>
            <p:nvPr/>
          </p:nvSpPr>
          <p:spPr>
            <a:xfrm>
              <a:off x="990720" y="1981080"/>
              <a:ext cx="7010280" cy="83844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90720" y="4419720"/>
              <a:ext cx="7010280" cy="8380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914400" y="4343400"/>
            <a:ext cx="716292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2819520"/>
            <a:ext cx="7162920" cy="1600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981080"/>
            <a:ext cx="7162920" cy="914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19720" y="1981080"/>
            <a:ext cx="990360" cy="335304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trix For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THE equations can be written 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2133720" y="3505320"/>
                <a:ext cx="513720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f>
                      <m:num>
                        <m:r>
                          <m:t xml:space="preserve">¶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a</m:t>
                    </m:r>
                    <m:f>
                      <m:num>
                        <m:r>
                          <m:t xml:space="preserve">¶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¶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f>
                          <m:num>
                            <m:r>
                              <m:t xml:space="preserve">¶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¶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u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2666880" y="3581280"/>
            <a:ext cx="457200" cy="457200"/>
          </a:xfrm>
          <a:prstGeom prst="ellipse">
            <a:avLst/>
          </a:prstGeom>
          <a:noFill/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2965320"/>
            <a:ext cx="1600200" cy="2906280"/>
          </a:xfrm>
          <a:solidFill>
            <a:srgbClr val="ffffff"/>
          </a:solidFill>
          <a:ln w="12600">
            <a:solidFill>
              <a:srgbClr val="ff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unknow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ahoma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p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ahoma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ahoma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76720" y="3352680"/>
            <a:ext cx="990360" cy="1295640"/>
          </a:xfrm>
          <a:prstGeom prst="ellipse">
            <a:avLst/>
          </a:prstGeom>
          <a:noFill/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23880" y="2438280"/>
            <a:ext cx="1828800" cy="459720"/>
          </a:xfrm>
          <a:solidFill>
            <a:srgbClr val="ffffff"/>
          </a:solidFill>
          <a:ln w="12600">
            <a:solidFill>
              <a:srgbClr val="ff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nv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43400" y="3352680"/>
            <a:ext cx="1676520" cy="1447920"/>
          </a:xfrm>
          <a:prstGeom prst="ellipse">
            <a:avLst/>
          </a:prstGeom>
          <a:noFill/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86400" y="2438280"/>
            <a:ext cx="1447920" cy="459720"/>
          </a:xfrm>
          <a:solidFill>
            <a:srgbClr val="ffffff"/>
          </a:solidFill>
          <a:ln w="12600">
            <a:solidFill>
              <a:srgbClr val="ff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if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72200" y="3733920"/>
            <a:ext cx="1143000" cy="685800"/>
          </a:xfrm>
          <a:prstGeom prst="ellipse">
            <a:avLst/>
          </a:prstGeom>
          <a:noFill/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391520" y="3151080"/>
            <a:ext cx="1371600" cy="459720"/>
          </a:xfrm>
          <a:solidFill>
            <a:srgbClr val="ffffff"/>
          </a:solidFill>
          <a:ln w="12600">
            <a:solidFill>
              <a:srgbClr val="ff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54864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arabolic-Hyperbolic system of PDE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lution Algorithm - 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riable order Finite Elements in sp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nodes (linea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6 nodes (quinti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st compromise: 3 nodes (paraboli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riable order, multi-stage, implicit time integration (Beam-Warming cla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ler bwd (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der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ams (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d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 correction up to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error and step control (step halv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st compromise: Crank-Nicolson 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d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lution Algorithm -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high order of accuracy (time) and interpolation (space)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354400" y="3048120"/>
            <a:ext cx="4417200" cy="2514600"/>
            <a:chOff x="2354400" y="3048120"/>
            <a:chExt cx="4417200" cy="2514600"/>
          </a:xfrm>
        </p:grpSpPr>
        <p:grpSp>
          <p:nvGrpSpPr>
            <p:cNvPr id="300" name=""/>
            <p:cNvGrpSpPr/>
            <p:nvPr/>
          </p:nvGrpSpPr>
          <p:grpSpPr>
            <a:xfrm>
              <a:off x="2354400" y="3581280"/>
              <a:ext cx="1353600" cy="761760"/>
              <a:chOff x="2354400" y="3581280"/>
              <a:chExt cx="1353600" cy="761760"/>
            </a:xfrm>
          </p:grpSpPr>
          <p:sp>
            <p:nvSpPr>
              <p:cNvPr id="301" name=""/>
              <p:cNvSpPr/>
              <p:nvPr/>
            </p:nvSpPr>
            <p:spPr>
              <a:xfrm>
                <a:off x="2514600" y="3962160"/>
                <a:ext cx="762120" cy="304920"/>
              </a:xfrm>
              <a:custGeom>
                <a:avLst/>
                <a:gdLst/>
                <a:ahLst/>
                <a:rect l="l" t="t" r="r" b="b"/>
                <a:pathLst>
                  <a:path w="480" h="192">
                    <a:moveTo>
                      <a:pt x="0" y="192"/>
                    </a:moveTo>
                    <a:lnTo>
                      <a:pt x="192" y="192"/>
                    </a:lnTo>
                    <a:lnTo>
                      <a:pt x="192" y="0"/>
                    </a:lnTo>
                    <a:lnTo>
                      <a:pt x="480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590920" y="4267080"/>
                <a:ext cx="99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2819520" y="365724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354400" y="3581280"/>
                <a:ext cx="36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417480" y="3809880"/>
                <a:ext cx="29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2819520" y="4343040"/>
              <a:ext cx="3886200" cy="686160"/>
              <a:chOff x="2819520" y="4343040"/>
              <a:chExt cx="3886200" cy="68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2819520" y="4572000"/>
                <a:ext cx="3657600" cy="152280"/>
              </a:xfrm>
              <a:prstGeom prst="rect">
                <a:avLst/>
              </a:prstGeom>
              <a:gradFill rotWithShape="0">
                <a:gsLst>
                  <a:gs pos="0">
                    <a:srgbClr val="ffebfa"/>
                  </a:gs>
                  <a:gs pos="50000">
                    <a:srgbClr val="5e9eff"/>
                  </a:gs>
                  <a:gs pos="100000">
                    <a:srgbClr val="ffebfa"/>
                  </a:gs>
                </a:gsLst>
                <a:lin ang="108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6477120" y="4343040"/>
                <a:ext cx="228600" cy="686160"/>
                <a:chOff x="6477120" y="4343040"/>
                <a:chExt cx="228600" cy="6861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6477120" y="4343400"/>
                  <a:ext cx="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V="1">
                  <a:off x="6477120" y="4343040"/>
                  <a:ext cx="22860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6477120" y="4495320"/>
                  <a:ext cx="22860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6477120" y="4647960"/>
                  <a:ext cx="22860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6477120" y="4800240"/>
                  <a:ext cx="22860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4" name=""/>
            <p:cNvGrpSpPr/>
            <p:nvPr/>
          </p:nvGrpSpPr>
          <p:grpSpPr>
            <a:xfrm>
              <a:off x="2819520" y="5029200"/>
              <a:ext cx="3657600" cy="533520"/>
              <a:chOff x="2819520" y="5029200"/>
              <a:chExt cx="3657600" cy="533520"/>
            </a:xfrm>
          </p:grpSpPr>
          <p:sp>
            <p:nvSpPr>
              <p:cNvPr id="315" name=""/>
              <p:cNvSpPr/>
              <p:nvPr/>
            </p:nvSpPr>
            <p:spPr>
              <a:xfrm>
                <a:off x="2819520" y="5562720"/>
                <a:ext cx="365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118760" y="5029200"/>
                <a:ext cx="973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L=1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4891680" y="3048120"/>
              <a:ext cx="187992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0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= 300 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0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= 1 b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 = 0.2 b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lution Algorithm - 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723960" y="1523880"/>
            <a:ext cx="3774960" cy="25257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3757680" cy="251316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731880" y="4114800"/>
            <a:ext cx="3757680" cy="251316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4"/>
          <a:stretch/>
        </p:blipFill>
        <p:spPr>
          <a:xfrm>
            <a:off x="4572000" y="4114800"/>
            <a:ext cx="375768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152280" y="2590920"/>
            <a:ext cx="8692920" cy="1933560"/>
            <a:chOff x="152280" y="2590920"/>
            <a:chExt cx="8692920" cy="1933560"/>
          </a:xfrm>
        </p:grpSpPr>
        <p:graphicFrame>
          <p:nvGraphicFramePr>
            <p:cNvPr id="324" name=""/>
            <p:cNvGraphicFramePr/>
            <p:nvPr/>
          </p:nvGraphicFramePr>
          <p:xfrm>
            <a:off x="152280" y="2590920"/>
            <a:ext cx="8692920" cy="1933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2590920"/>
                      <a:ext cx="8692920" cy="193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"/>
            <p:cNvSpPr/>
            <p:nvPr/>
          </p:nvSpPr>
          <p:spPr>
            <a:xfrm>
              <a:off x="7696080" y="3200400"/>
              <a:ext cx="990360" cy="121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 Example of Appli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286000" y="3962520"/>
            <a:ext cx="4419360" cy="1803240"/>
            <a:chOff x="2286000" y="3962520"/>
            <a:chExt cx="4419360" cy="1803240"/>
          </a:xfrm>
        </p:grpSpPr>
        <p:sp>
          <p:nvSpPr>
            <p:cNvPr id="329" name=""/>
            <p:cNvSpPr/>
            <p:nvPr/>
          </p:nvSpPr>
          <p:spPr>
            <a:xfrm>
              <a:off x="2286000" y="3962520"/>
              <a:ext cx="4419360" cy="1522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86000" y="4114800"/>
              <a:ext cx="2438640" cy="1650960"/>
            </a:xfrm>
            <a:custGeom>
              <a:avLst/>
              <a:gdLst/>
              <a:ahLst/>
              <a:rect l="l" t="t" r="r" b="b"/>
              <a:pathLst>
                <a:path w="708" h="1040">
                  <a:moveTo>
                    <a:pt x="9" y="0"/>
                  </a:moveTo>
                  <a:cubicBezTo>
                    <a:pt x="6" y="8"/>
                    <a:pt x="0" y="16"/>
                    <a:pt x="1" y="24"/>
                  </a:cubicBezTo>
                  <a:cubicBezTo>
                    <a:pt x="2" y="36"/>
                    <a:pt x="1" y="49"/>
                    <a:pt x="5" y="60"/>
                  </a:cubicBezTo>
                  <a:cubicBezTo>
                    <a:pt x="14" y="87"/>
                    <a:pt x="91" y="87"/>
                    <a:pt x="105" y="88"/>
                  </a:cubicBezTo>
                  <a:cubicBezTo>
                    <a:pt x="125" y="95"/>
                    <a:pt x="134" y="104"/>
                    <a:pt x="141" y="124"/>
                  </a:cubicBezTo>
                  <a:cubicBezTo>
                    <a:pt x="137" y="152"/>
                    <a:pt x="129" y="165"/>
                    <a:pt x="113" y="188"/>
                  </a:cubicBezTo>
                  <a:cubicBezTo>
                    <a:pt x="105" y="201"/>
                    <a:pt x="101" y="232"/>
                    <a:pt x="101" y="232"/>
                  </a:cubicBezTo>
                  <a:cubicBezTo>
                    <a:pt x="112" y="275"/>
                    <a:pt x="143" y="269"/>
                    <a:pt x="181" y="280"/>
                  </a:cubicBezTo>
                  <a:cubicBezTo>
                    <a:pt x="245" y="276"/>
                    <a:pt x="305" y="263"/>
                    <a:pt x="369" y="256"/>
                  </a:cubicBezTo>
                  <a:cubicBezTo>
                    <a:pt x="416" y="258"/>
                    <a:pt x="509" y="250"/>
                    <a:pt x="561" y="276"/>
                  </a:cubicBezTo>
                  <a:cubicBezTo>
                    <a:pt x="589" y="290"/>
                    <a:pt x="606" y="318"/>
                    <a:pt x="637" y="328"/>
                  </a:cubicBezTo>
                  <a:cubicBezTo>
                    <a:pt x="660" y="346"/>
                    <a:pt x="685" y="359"/>
                    <a:pt x="701" y="384"/>
                  </a:cubicBezTo>
                  <a:cubicBezTo>
                    <a:pt x="708" y="423"/>
                    <a:pt x="700" y="469"/>
                    <a:pt x="665" y="492"/>
                  </a:cubicBezTo>
                  <a:cubicBezTo>
                    <a:pt x="658" y="514"/>
                    <a:pt x="647" y="533"/>
                    <a:pt x="641" y="556"/>
                  </a:cubicBezTo>
                  <a:cubicBezTo>
                    <a:pt x="645" y="601"/>
                    <a:pt x="653" y="628"/>
                    <a:pt x="685" y="660"/>
                  </a:cubicBezTo>
                  <a:cubicBezTo>
                    <a:pt x="697" y="695"/>
                    <a:pt x="692" y="676"/>
                    <a:pt x="697" y="720"/>
                  </a:cubicBezTo>
                  <a:lnTo>
                    <a:pt x="653" y="820"/>
                  </a:lnTo>
                  <a:cubicBezTo>
                    <a:pt x="653" y="820"/>
                    <a:pt x="641" y="856"/>
                    <a:pt x="641" y="856"/>
                  </a:cubicBezTo>
                  <a:cubicBezTo>
                    <a:pt x="638" y="864"/>
                    <a:pt x="633" y="880"/>
                    <a:pt x="633" y="880"/>
                  </a:cubicBezTo>
                  <a:cubicBezTo>
                    <a:pt x="637" y="924"/>
                    <a:pt x="634" y="937"/>
                    <a:pt x="669" y="960"/>
                  </a:cubicBezTo>
                  <a:cubicBezTo>
                    <a:pt x="682" y="999"/>
                    <a:pt x="697" y="993"/>
                    <a:pt x="697" y="104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4419360" y="4114800"/>
              <a:ext cx="2247840" cy="1650960"/>
            </a:xfrm>
            <a:custGeom>
              <a:avLst/>
              <a:gdLst/>
              <a:ahLst/>
              <a:rect l="l" t="t" r="r" b="b"/>
              <a:pathLst>
                <a:path w="708" h="1040">
                  <a:moveTo>
                    <a:pt x="9" y="0"/>
                  </a:moveTo>
                  <a:cubicBezTo>
                    <a:pt x="6" y="8"/>
                    <a:pt x="0" y="16"/>
                    <a:pt x="1" y="24"/>
                  </a:cubicBezTo>
                  <a:cubicBezTo>
                    <a:pt x="2" y="36"/>
                    <a:pt x="1" y="49"/>
                    <a:pt x="5" y="60"/>
                  </a:cubicBezTo>
                  <a:cubicBezTo>
                    <a:pt x="14" y="87"/>
                    <a:pt x="91" y="87"/>
                    <a:pt x="105" y="88"/>
                  </a:cubicBezTo>
                  <a:cubicBezTo>
                    <a:pt x="125" y="95"/>
                    <a:pt x="134" y="104"/>
                    <a:pt x="141" y="124"/>
                  </a:cubicBezTo>
                  <a:cubicBezTo>
                    <a:pt x="137" y="152"/>
                    <a:pt x="129" y="165"/>
                    <a:pt x="113" y="188"/>
                  </a:cubicBezTo>
                  <a:cubicBezTo>
                    <a:pt x="105" y="201"/>
                    <a:pt x="101" y="232"/>
                    <a:pt x="101" y="232"/>
                  </a:cubicBezTo>
                  <a:cubicBezTo>
                    <a:pt x="112" y="275"/>
                    <a:pt x="143" y="269"/>
                    <a:pt x="181" y="280"/>
                  </a:cubicBezTo>
                  <a:cubicBezTo>
                    <a:pt x="245" y="276"/>
                    <a:pt x="305" y="263"/>
                    <a:pt x="369" y="256"/>
                  </a:cubicBezTo>
                  <a:cubicBezTo>
                    <a:pt x="416" y="258"/>
                    <a:pt x="509" y="250"/>
                    <a:pt x="561" y="276"/>
                  </a:cubicBezTo>
                  <a:cubicBezTo>
                    <a:pt x="589" y="290"/>
                    <a:pt x="606" y="318"/>
                    <a:pt x="637" y="328"/>
                  </a:cubicBezTo>
                  <a:cubicBezTo>
                    <a:pt x="660" y="346"/>
                    <a:pt x="685" y="359"/>
                    <a:pt x="701" y="384"/>
                  </a:cubicBezTo>
                  <a:cubicBezTo>
                    <a:pt x="708" y="423"/>
                    <a:pt x="700" y="469"/>
                    <a:pt x="665" y="492"/>
                  </a:cubicBezTo>
                  <a:cubicBezTo>
                    <a:pt x="658" y="514"/>
                    <a:pt x="647" y="533"/>
                    <a:pt x="641" y="556"/>
                  </a:cubicBezTo>
                  <a:cubicBezTo>
                    <a:pt x="645" y="601"/>
                    <a:pt x="653" y="628"/>
                    <a:pt x="685" y="660"/>
                  </a:cubicBezTo>
                  <a:cubicBezTo>
                    <a:pt x="697" y="695"/>
                    <a:pt x="692" y="676"/>
                    <a:pt x="697" y="720"/>
                  </a:cubicBezTo>
                  <a:lnTo>
                    <a:pt x="653" y="820"/>
                  </a:lnTo>
                  <a:cubicBezTo>
                    <a:pt x="653" y="820"/>
                    <a:pt x="641" y="856"/>
                    <a:pt x="641" y="856"/>
                  </a:cubicBezTo>
                  <a:cubicBezTo>
                    <a:pt x="638" y="864"/>
                    <a:pt x="633" y="880"/>
                    <a:pt x="633" y="880"/>
                  </a:cubicBezTo>
                  <a:cubicBezTo>
                    <a:pt x="637" y="924"/>
                    <a:pt x="634" y="937"/>
                    <a:pt x="669" y="960"/>
                  </a:cubicBezTo>
                  <a:cubicBezTo>
                    <a:pt x="682" y="999"/>
                    <a:pt x="697" y="993"/>
                    <a:pt x="697" y="104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6019920" y="2030400"/>
            <a:ext cx="2666880" cy="1557000"/>
          </a:xfrm>
          <a:solidFill>
            <a:srgbClr val="ffffff"/>
          </a:solidFill>
          <a:ln w="1260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-strands 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mm twist p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6 m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10080" y="4660920"/>
            <a:ext cx="2438640" cy="825480"/>
          </a:xfrm>
          <a:solidFill>
            <a:srgbClr val="ffffff"/>
          </a:solidFill>
          <a:ln w="1260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stive h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0 mm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2120" y="2146320"/>
            <a:ext cx="3047760" cy="825480"/>
          </a:xfrm>
          <a:solidFill>
            <a:srgbClr val="ffffff"/>
          </a:solidFill>
          <a:ln w="1260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sition fault (70 m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ux loo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2360" y="4648320"/>
            <a:ext cx="198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2 K, 1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ium b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276880" y="5867280"/>
            <a:ext cx="31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rtesy of C. Schmidt, Fz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ul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 components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thermal NbTi/Cu strands, coupled to electrical str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electrical NbTi/Cu strands, coupled to thermal str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helium channel (large x-section, negligible flow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iform me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74960" indent="-2192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500 linear, 2 nodes elements (d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1.5 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74960" indent="-2192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00 parabolic, 3 nodes elements (d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2 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ive, implicit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der time integration algorith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 s real tim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2’ to 10’ CPU time on DEC-Alpha 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38680" cy="43434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eld Ramp w/o Quench - 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2008080"/>
            <a:ext cx="4038840" cy="459720"/>
          </a:xfrm>
          <a:solidFill>
            <a:srgbClr val="ffffff"/>
          </a:solidFill>
          <a:ln w="1260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mmetry lin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I/dx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8120" y="4038480"/>
            <a:ext cx="1676160" cy="459720"/>
          </a:xfrm>
          <a:solidFill>
            <a:srgbClr val="ffffff"/>
          </a:solidFill>
          <a:ln w="1260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ux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724280"/>
            <a:ext cx="2667240" cy="459720"/>
          </a:xfrm>
          <a:solidFill>
            <a:srgbClr val="ffffff"/>
          </a:solidFill>
          <a:ln w="1260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undar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eld Ramp w/o Quench -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792468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mdot" descr=""/>
          <p:cNvPicPr/>
          <p:nvPr/>
        </p:nvPicPr>
        <p:blipFill>
          <a:blip r:embed="rId1"/>
          <a:stretch/>
        </p:blipFill>
        <p:spPr>
          <a:xfrm>
            <a:off x="4876920" y="2133720"/>
            <a:ext cx="3684600" cy="33829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roduction-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ating induced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3505320"/>
            <a:ext cx="1670040" cy="459720"/>
          </a:xfrm>
          <a:noFill/>
          <a:ln w="1260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s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1676520"/>
            <a:ext cx="1523880" cy="459720"/>
          </a:xfrm>
          <a:noFill/>
          <a:ln w="1260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yno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2895480"/>
            <a:ext cx="2584440" cy="459720"/>
          </a:xfrm>
          <a:noFill/>
          <a:ln w="1260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 mar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8240" y="4038480"/>
            <a:ext cx="4485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tability margin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argely independent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ass-flow: the heat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s greatly enhanced by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position from the str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58200" y="5867280"/>
            <a:ext cx="31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.W.Lue, J.R.Miller, L.Dres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. Appl. Phys.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1, 19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eld Ramp and Quench - 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600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eld Ramp and Quench -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71500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eld Ramp and Quench - 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9074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clusions - Achieve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reh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-D (exact) representation of THE 3-D topolog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s THE coupled fiel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combination of THE compon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non-line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clusions - Applic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rge range of applica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ailed stability and quench propagation, including current distrib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 loss in cables taking including saturation eff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diffusion and temperature profiles in joints and adjacent c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llel cooling of cables in a coi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l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"/>
          <p:cNvSpPr/>
          <p:nvPr/>
        </p:nvSpPr>
        <p:spPr>
          <a:xfrm>
            <a:off x="1628640" y="5105520"/>
            <a:ext cx="592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ny situation obtained assemb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HE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clusions - Perspectiv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ation vs. experimen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ies on cable geomet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th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n CICC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fluids (nitrogen, neon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SC materials (HTc tap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ace p-h adap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ror estimate (front tracking and Z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rror estimat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omated mesh generation for HO-FE’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800600" y="2514600"/>
            <a:ext cx="3638520" cy="29131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roduction-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w coupling an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ra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ff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3505320"/>
            <a:ext cx="1218960" cy="459720"/>
          </a:xfrm>
          <a:noFill/>
          <a:ln w="1260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2819520"/>
            <a:ext cx="3270240" cy="459720"/>
          </a:xfrm>
          <a:noFill/>
          <a:ln w="1260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ium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1720" y="4038480"/>
            <a:ext cx="474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elocity shear and heat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etween flows give rise to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emperature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train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similar 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Taylor-Aris disp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18480" y="5867280"/>
            <a:ext cx="520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Quench Experiment on Long 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nal Report, EPFL/JAERI/SINTEZ/MIT-PFC, 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rl" descr=""/>
          <p:cNvPicPr/>
          <p:nvPr/>
        </p:nvPicPr>
        <p:blipFill>
          <a:blip r:embed="rId1"/>
          <a:stretch/>
        </p:blipFill>
        <p:spPr>
          <a:xfrm>
            <a:off x="4876920" y="2057400"/>
            <a:ext cx="3848040" cy="34113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roduction-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mp-rate limi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3505320"/>
            <a:ext cx="1828800" cy="459720"/>
          </a:xfrm>
          <a:noFill/>
          <a:ln w="1260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mp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819520"/>
            <a:ext cx="2584440" cy="459720"/>
          </a:xfrm>
          <a:noFill/>
          <a:ln w="1260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nch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8520" y="4038480"/>
            <a:ext cx="42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quench current of a co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s significantly affec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ramp-rate and pow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hist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60720" y="5867280"/>
            <a:ext cx="41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. Takayasu, et al., IEEE Trans. App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p.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1), 456-459, 19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038480" y="3048120"/>
            <a:ext cx="4259520" cy="2805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roduction-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er-currents an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ICC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114800" y="2438280"/>
          <a:ext cx="4325760" cy="974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2438280"/>
                    <a:ext cx="432576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4859640" y="5867280"/>
            <a:ext cx="31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.Krempasky, C. Schmi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yogenics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9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23-33,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5562720"/>
            <a:ext cx="2127240" cy="459720"/>
          </a:xfrm>
          <a:noFill/>
          <a:ln w="1260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657600"/>
            <a:ext cx="990720" cy="459720"/>
          </a:xfrm>
          <a:noFill/>
          <a:ln w="1260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0" y="3200400"/>
            <a:ext cx="412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arge, long lasting cur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supercurrents) are ca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y transposition errors w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o external field chan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mqe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378240" cy="4047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roduction-5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QE of tripl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15800" y="4038480"/>
            <a:ext cx="424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balance of current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heat transfer causes a sha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ransition (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kink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) from sing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rand to multiple st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53880" y="5867280"/>
            <a:ext cx="337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. Amemiya, et 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yogenics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8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559-568, 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514600"/>
            <a:ext cx="2584440" cy="459720"/>
          </a:xfrm>
          <a:noFill/>
          <a:ln w="1260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 mar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27240" y="3352680"/>
            <a:ext cx="1987560" cy="459720"/>
          </a:xfrm>
          <a:noFill/>
          <a:ln w="1260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ction I/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Generic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Cab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cable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277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ree Coupled Field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819520" y="1905120"/>
            <a:ext cx="4335120" cy="4323240"/>
            <a:chOff x="2819520" y="1905120"/>
            <a:chExt cx="4335120" cy="4323240"/>
          </a:xfrm>
        </p:grpSpPr>
        <p:sp>
          <p:nvSpPr>
            <p:cNvPr id="130" name=""/>
            <p:cNvSpPr/>
            <p:nvPr/>
          </p:nvSpPr>
          <p:spPr>
            <a:xfrm>
              <a:off x="2837160" y="1905120"/>
              <a:ext cx="3592080" cy="2971440"/>
            </a:xfrm>
            <a:custGeom>
              <a:avLst/>
              <a:gdLst/>
              <a:ahLst/>
              <a:rect l="l" t="t" r="r" b="b"/>
              <a:pathLst>
                <a:path w="5657" h="4680">
                  <a:moveTo>
                    <a:pt x="0" y="3437"/>
                  </a:moveTo>
                  <a:lnTo>
                    <a:pt x="8" y="3069"/>
                  </a:lnTo>
                  <a:lnTo>
                    <a:pt x="77" y="2743"/>
                  </a:lnTo>
                  <a:lnTo>
                    <a:pt x="146" y="2443"/>
                  </a:lnTo>
                  <a:lnTo>
                    <a:pt x="240" y="2177"/>
                  </a:lnTo>
                  <a:lnTo>
                    <a:pt x="403" y="1809"/>
                  </a:lnTo>
                  <a:lnTo>
                    <a:pt x="608" y="1449"/>
                  </a:lnTo>
                  <a:lnTo>
                    <a:pt x="874" y="1131"/>
                  </a:lnTo>
                  <a:lnTo>
                    <a:pt x="1166" y="831"/>
                  </a:lnTo>
                  <a:lnTo>
                    <a:pt x="1483" y="600"/>
                  </a:lnTo>
                  <a:lnTo>
                    <a:pt x="1851" y="369"/>
                  </a:lnTo>
                  <a:lnTo>
                    <a:pt x="2168" y="231"/>
                  </a:lnTo>
                  <a:lnTo>
                    <a:pt x="2623" y="94"/>
                  </a:lnTo>
                  <a:lnTo>
                    <a:pt x="3017" y="26"/>
                  </a:lnTo>
                  <a:lnTo>
                    <a:pt x="3351" y="0"/>
                  </a:lnTo>
                  <a:lnTo>
                    <a:pt x="3720" y="17"/>
                  </a:lnTo>
                  <a:lnTo>
                    <a:pt x="4080" y="69"/>
                  </a:lnTo>
                  <a:lnTo>
                    <a:pt x="4508" y="197"/>
                  </a:lnTo>
                  <a:lnTo>
                    <a:pt x="4920" y="360"/>
                  </a:lnTo>
                  <a:lnTo>
                    <a:pt x="5203" y="531"/>
                  </a:lnTo>
                  <a:lnTo>
                    <a:pt x="5366" y="643"/>
                  </a:lnTo>
                  <a:lnTo>
                    <a:pt x="4911" y="1457"/>
                  </a:lnTo>
                  <a:lnTo>
                    <a:pt x="4886" y="1569"/>
                  </a:lnTo>
                  <a:lnTo>
                    <a:pt x="4911" y="1680"/>
                  </a:lnTo>
                  <a:lnTo>
                    <a:pt x="4954" y="1791"/>
                  </a:lnTo>
                  <a:lnTo>
                    <a:pt x="5074" y="1911"/>
                  </a:lnTo>
                  <a:lnTo>
                    <a:pt x="5194" y="1963"/>
                  </a:lnTo>
                  <a:lnTo>
                    <a:pt x="5323" y="1963"/>
                  </a:lnTo>
                  <a:lnTo>
                    <a:pt x="5486" y="2031"/>
                  </a:lnTo>
                  <a:lnTo>
                    <a:pt x="5606" y="2177"/>
                  </a:lnTo>
                  <a:lnTo>
                    <a:pt x="5657" y="2366"/>
                  </a:lnTo>
                  <a:lnTo>
                    <a:pt x="5640" y="2571"/>
                  </a:lnTo>
                  <a:lnTo>
                    <a:pt x="5546" y="2751"/>
                  </a:lnTo>
                  <a:lnTo>
                    <a:pt x="5357" y="2923"/>
                  </a:lnTo>
                  <a:lnTo>
                    <a:pt x="5186" y="3000"/>
                  </a:lnTo>
                  <a:lnTo>
                    <a:pt x="4954" y="3009"/>
                  </a:lnTo>
                  <a:lnTo>
                    <a:pt x="4783" y="2940"/>
                  </a:lnTo>
                  <a:lnTo>
                    <a:pt x="4611" y="2786"/>
                  </a:lnTo>
                  <a:lnTo>
                    <a:pt x="4560" y="2640"/>
                  </a:lnTo>
                  <a:lnTo>
                    <a:pt x="4508" y="2494"/>
                  </a:lnTo>
                  <a:lnTo>
                    <a:pt x="4423" y="2417"/>
                  </a:lnTo>
                  <a:lnTo>
                    <a:pt x="4294" y="2383"/>
                  </a:lnTo>
                  <a:lnTo>
                    <a:pt x="4174" y="2391"/>
                  </a:lnTo>
                  <a:lnTo>
                    <a:pt x="4071" y="2443"/>
                  </a:lnTo>
                  <a:lnTo>
                    <a:pt x="3386" y="3257"/>
                  </a:lnTo>
                  <a:lnTo>
                    <a:pt x="2400" y="3437"/>
                  </a:lnTo>
                  <a:lnTo>
                    <a:pt x="2288" y="3506"/>
                  </a:lnTo>
                  <a:lnTo>
                    <a:pt x="2228" y="3591"/>
                  </a:lnTo>
                  <a:lnTo>
                    <a:pt x="2186" y="3703"/>
                  </a:lnTo>
                  <a:lnTo>
                    <a:pt x="2177" y="3857"/>
                  </a:lnTo>
                  <a:lnTo>
                    <a:pt x="2220" y="3943"/>
                  </a:lnTo>
                  <a:lnTo>
                    <a:pt x="2314" y="4071"/>
                  </a:lnTo>
                  <a:lnTo>
                    <a:pt x="2366" y="4260"/>
                  </a:lnTo>
                  <a:lnTo>
                    <a:pt x="2323" y="4389"/>
                  </a:lnTo>
                  <a:lnTo>
                    <a:pt x="2203" y="4543"/>
                  </a:lnTo>
                  <a:lnTo>
                    <a:pt x="2014" y="4637"/>
                  </a:lnTo>
                  <a:lnTo>
                    <a:pt x="1826" y="4680"/>
                  </a:lnTo>
                  <a:lnTo>
                    <a:pt x="1637" y="4671"/>
                  </a:lnTo>
                  <a:lnTo>
                    <a:pt x="1466" y="4620"/>
                  </a:lnTo>
                  <a:lnTo>
                    <a:pt x="1337" y="4534"/>
                  </a:lnTo>
                  <a:lnTo>
                    <a:pt x="1208" y="4363"/>
                  </a:lnTo>
                  <a:lnTo>
                    <a:pt x="1166" y="4174"/>
                  </a:lnTo>
                  <a:lnTo>
                    <a:pt x="1183" y="4029"/>
                  </a:lnTo>
                  <a:lnTo>
                    <a:pt x="1268" y="3900"/>
                  </a:lnTo>
                  <a:lnTo>
                    <a:pt x="1337" y="3771"/>
                  </a:lnTo>
                  <a:lnTo>
                    <a:pt x="1337" y="3669"/>
                  </a:lnTo>
                  <a:lnTo>
                    <a:pt x="1294" y="3566"/>
                  </a:lnTo>
                  <a:lnTo>
                    <a:pt x="1183" y="3480"/>
                  </a:lnTo>
                  <a:lnTo>
                    <a:pt x="1037" y="3437"/>
                  </a:lnTo>
                  <a:lnTo>
                    <a:pt x="0" y="3437"/>
                  </a:lnTo>
                  <a:close/>
                </a:path>
              </a:pathLst>
            </a:custGeom>
            <a:solidFill>
              <a:srgbClr val="ff6600">
                <a:alpha val="50000"/>
              </a:srgbClr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819520" y="1908720"/>
              <a:ext cx="4335120" cy="4319640"/>
              <a:chOff x="2819520" y="1908720"/>
              <a:chExt cx="4335120" cy="4319640"/>
            </a:xfrm>
          </p:grpSpPr>
          <p:sp>
            <p:nvSpPr>
              <p:cNvPr id="132" name=""/>
              <p:cNvSpPr/>
              <p:nvPr/>
            </p:nvSpPr>
            <p:spPr>
              <a:xfrm>
                <a:off x="2834640" y="1908720"/>
                <a:ext cx="4320000" cy="431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933"/>
                    </a:moveTo>
                    <a:arcTo wR="10800" hR="10800" stAng="10757778" swAng="75795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933"/>
                    </a:moveTo>
                    <a:arcTo wR="10800" hR="10800" stAng="10757778" swAng="7579574"/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2819520" y="3969720"/>
                <a:ext cx="2161440" cy="914760"/>
                <a:chOff x="2819520" y="3969720"/>
                <a:chExt cx="2161440" cy="914760"/>
              </a:xfrm>
            </p:grpSpPr>
            <p:sp>
              <p:nvSpPr>
                <p:cNvPr id="134" name=""/>
                <p:cNvSpPr/>
                <p:nvPr/>
              </p:nvSpPr>
              <p:spPr>
                <a:xfrm rot="5400000">
                  <a:off x="3668040" y="4220640"/>
                  <a:ext cx="571680" cy="75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616" y="1946"/>
                      </a:moveTo>
                      <a:arcTo wR="10800" hR="10800" stAng="-7495958" swAng="749595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616" y="1946"/>
                      </a:moveTo>
                      <a:arcTo wR="10800" hR="10800" stAng="-7495958" swAng="7495958"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H="1">
                  <a:off x="4221720" y="4074120"/>
                  <a:ext cx="426600" cy="455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397" y="119"/>
                      </a:moveTo>
                      <a:arcTo wR="10800" hR="10800" stAng="-4889718" swAng="7249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397" y="119"/>
                      </a:moveTo>
                      <a:arcTo wR="10800" hR="10800" stAng="-4889718" swAng="7249391"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V="1" rot="5400000">
                  <a:off x="3634560" y="4178520"/>
                  <a:ext cx="655560" cy="75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616" y="1946"/>
                      </a:moveTo>
                      <a:arcTo wR="10800" hR="10800" stAng="-7495958" swAng="749595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616" y="1946"/>
                      </a:moveTo>
                      <a:arcTo wR="10800" hR="10800" stAng="-7495958" swAng="7495958"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H="1" flipV="1" rot="10800000">
                  <a:off x="3267720" y="4093560"/>
                  <a:ext cx="426240" cy="347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754655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7546554"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>
                  <a:off x="2819520" y="4094280"/>
                  <a:ext cx="6649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H="1">
                  <a:off x="4403160" y="3969720"/>
                  <a:ext cx="577800" cy="1047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4975200" y="2301840"/>
                <a:ext cx="1600920" cy="1676160"/>
                <a:chOff x="4975200" y="2301840"/>
                <a:chExt cx="1600920" cy="1676160"/>
              </a:xfrm>
            </p:grpSpPr>
            <p:sp>
              <p:nvSpPr>
                <p:cNvPr id="141" name=""/>
                <p:cNvSpPr/>
                <p:nvPr/>
              </p:nvSpPr>
              <p:spPr>
                <a:xfrm rot="2452200">
                  <a:off x="5798520" y="3125160"/>
                  <a:ext cx="606240" cy="734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616" y="1946"/>
                      </a:moveTo>
                      <a:arcTo wR="10800" hR="10800" stAng="-7495958" swAng="749595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616" y="1946"/>
                      </a:moveTo>
                      <a:arcTo wR="10800" hR="10800" stAng="-7495958" swAng="7495958"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18652200">
                  <a:off x="5961240" y="2691000"/>
                  <a:ext cx="415080" cy="482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397" y="119"/>
                      </a:moveTo>
                      <a:arcTo wR="10800" hR="10800" stAng="-4889718" swAng="7249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397" y="119"/>
                      </a:moveTo>
                      <a:arcTo wR="10800" hR="10800" stAng="-4889718" swAng="7249391"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 rot="2452200">
                  <a:off x="5725800" y="3090600"/>
                  <a:ext cx="694800" cy="734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616" y="1946"/>
                      </a:moveTo>
                      <a:arcTo wR="10800" hR="10800" stAng="-7495958" swAng="749595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616" y="1946"/>
                      </a:moveTo>
                      <a:arcTo wR="10800" hR="10800" stAng="-7495958" swAng="7495958"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H="1" flipV="1" rot="7852200">
                  <a:off x="5326560" y="3427560"/>
                  <a:ext cx="414720" cy="36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754655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7546554"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>
                  <a:off x="4975200" y="3488760"/>
                  <a:ext cx="423360" cy="489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5967360" y="2301840"/>
                  <a:ext cx="283680" cy="497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7" name=""/>
          <p:cNvGrpSpPr/>
          <p:nvPr/>
        </p:nvGrpSpPr>
        <p:grpSpPr>
          <a:xfrm>
            <a:off x="2819160" y="1930680"/>
            <a:ext cx="4334400" cy="4329000"/>
            <a:chOff x="2819160" y="1930680"/>
            <a:chExt cx="4334400" cy="4329000"/>
          </a:xfrm>
        </p:grpSpPr>
        <p:sp>
          <p:nvSpPr>
            <p:cNvPr id="148" name=""/>
            <p:cNvSpPr/>
            <p:nvPr/>
          </p:nvSpPr>
          <p:spPr>
            <a:xfrm>
              <a:off x="2833200" y="3972960"/>
              <a:ext cx="3564000" cy="2286720"/>
            </a:xfrm>
            <a:custGeom>
              <a:avLst/>
              <a:gdLst/>
              <a:ahLst/>
              <a:rect l="l" t="t" r="r" b="b"/>
              <a:pathLst>
                <a:path w="5614" h="3600">
                  <a:moveTo>
                    <a:pt x="1088" y="188"/>
                  </a:moveTo>
                  <a:lnTo>
                    <a:pt x="1226" y="240"/>
                  </a:lnTo>
                  <a:lnTo>
                    <a:pt x="1320" y="343"/>
                  </a:lnTo>
                  <a:lnTo>
                    <a:pt x="1363" y="446"/>
                  </a:lnTo>
                  <a:lnTo>
                    <a:pt x="1337" y="548"/>
                  </a:lnTo>
                  <a:lnTo>
                    <a:pt x="1277" y="643"/>
                  </a:lnTo>
                  <a:lnTo>
                    <a:pt x="1200" y="763"/>
                  </a:lnTo>
                  <a:lnTo>
                    <a:pt x="1191" y="960"/>
                  </a:lnTo>
                  <a:lnTo>
                    <a:pt x="1208" y="1088"/>
                  </a:lnTo>
                  <a:lnTo>
                    <a:pt x="1303" y="1243"/>
                  </a:lnTo>
                  <a:lnTo>
                    <a:pt x="1474" y="1371"/>
                  </a:lnTo>
                  <a:lnTo>
                    <a:pt x="1654" y="1423"/>
                  </a:lnTo>
                  <a:lnTo>
                    <a:pt x="1834" y="1423"/>
                  </a:lnTo>
                  <a:lnTo>
                    <a:pt x="2048" y="1388"/>
                  </a:lnTo>
                  <a:lnTo>
                    <a:pt x="2203" y="1294"/>
                  </a:lnTo>
                  <a:lnTo>
                    <a:pt x="2306" y="1183"/>
                  </a:lnTo>
                  <a:lnTo>
                    <a:pt x="2357" y="994"/>
                  </a:lnTo>
                  <a:lnTo>
                    <a:pt x="2340" y="866"/>
                  </a:lnTo>
                  <a:lnTo>
                    <a:pt x="2271" y="728"/>
                  </a:lnTo>
                  <a:lnTo>
                    <a:pt x="2186" y="566"/>
                  </a:lnTo>
                  <a:lnTo>
                    <a:pt x="2194" y="420"/>
                  </a:lnTo>
                  <a:lnTo>
                    <a:pt x="2254" y="274"/>
                  </a:lnTo>
                  <a:lnTo>
                    <a:pt x="2357" y="197"/>
                  </a:lnTo>
                  <a:lnTo>
                    <a:pt x="2528" y="137"/>
                  </a:lnTo>
                  <a:lnTo>
                    <a:pt x="3377" y="0"/>
                  </a:lnTo>
                  <a:lnTo>
                    <a:pt x="3960" y="977"/>
                  </a:lnTo>
                  <a:lnTo>
                    <a:pt x="4097" y="1088"/>
                  </a:lnTo>
                  <a:lnTo>
                    <a:pt x="4234" y="1114"/>
                  </a:lnTo>
                  <a:lnTo>
                    <a:pt x="4354" y="1088"/>
                  </a:lnTo>
                  <a:lnTo>
                    <a:pt x="4431" y="1020"/>
                  </a:lnTo>
                  <a:lnTo>
                    <a:pt x="4500" y="908"/>
                  </a:lnTo>
                  <a:lnTo>
                    <a:pt x="4534" y="806"/>
                  </a:lnTo>
                  <a:lnTo>
                    <a:pt x="4697" y="660"/>
                  </a:lnTo>
                  <a:lnTo>
                    <a:pt x="4826" y="600"/>
                  </a:lnTo>
                  <a:lnTo>
                    <a:pt x="4997" y="574"/>
                  </a:lnTo>
                  <a:lnTo>
                    <a:pt x="5177" y="617"/>
                  </a:lnTo>
                  <a:lnTo>
                    <a:pt x="5357" y="720"/>
                  </a:lnTo>
                  <a:lnTo>
                    <a:pt x="5486" y="848"/>
                  </a:lnTo>
                  <a:lnTo>
                    <a:pt x="5588" y="1063"/>
                  </a:lnTo>
                  <a:lnTo>
                    <a:pt x="5614" y="1320"/>
                  </a:lnTo>
                  <a:lnTo>
                    <a:pt x="5571" y="1543"/>
                  </a:lnTo>
                  <a:lnTo>
                    <a:pt x="5460" y="1663"/>
                  </a:lnTo>
                  <a:lnTo>
                    <a:pt x="5331" y="1731"/>
                  </a:lnTo>
                  <a:lnTo>
                    <a:pt x="5151" y="1748"/>
                  </a:lnTo>
                  <a:lnTo>
                    <a:pt x="5006" y="1748"/>
                  </a:lnTo>
                  <a:lnTo>
                    <a:pt x="4843" y="1808"/>
                  </a:lnTo>
                  <a:lnTo>
                    <a:pt x="4731" y="1928"/>
                  </a:lnTo>
                  <a:lnTo>
                    <a:pt x="4680" y="2083"/>
                  </a:lnTo>
                  <a:lnTo>
                    <a:pt x="4680" y="2228"/>
                  </a:lnTo>
                  <a:lnTo>
                    <a:pt x="5023" y="3180"/>
                  </a:lnTo>
                  <a:lnTo>
                    <a:pt x="4680" y="3343"/>
                  </a:lnTo>
                  <a:lnTo>
                    <a:pt x="4268" y="3480"/>
                  </a:lnTo>
                  <a:lnTo>
                    <a:pt x="3823" y="3566"/>
                  </a:lnTo>
                  <a:lnTo>
                    <a:pt x="3368" y="3600"/>
                  </a:lnTo>
                  <a:lnTo>
                    <a:pt x="2811" y="3540"/>
                  </a:lnTo>
                  <a:lnTo>
                    <a:pt x="2366" y="3437"/>
                  </a:lnTo>
                  <a:lnTo>
                    <a:pt x="1911" y="3248"/>
                  </a:lnTo>
                  <a:lnTo>
                    <a:pt x="1431" y="2974"/>
                  </a:lnTo>
                  <a:lnTo>
                    <a:pt x="1037" y="2648"/>
                  </a:lnTo>
                  <a:lnTo>
                    <a:pt x="668" y="2220"/>
                  </a:lnTo>
                  <a:lnTo>
                    <a:pt x="360" y="1731"/>
                  </a:lnTo>
                  <a:lnTo>
                    <a:pt x="137" y="1166"/>
                  </a:lnTo>
                  <a:lnTo>
                    <a:pt x="26" y="617"/>
                  </a:lnTo>
                  <a:lnTo>
                    <a:pt x="0" y="180"/>
                  </a:lnTo>
                  <a:lnTo>
                    <a:pt x="1088" y="188"/>
                  </a:lnTo>
                  <a:close/>
                </a:path>
              </a:pathLst>
            </a:custGeom>
            <a:solidFill>
              <a:srgbClr val="ff00ff">
                <a:alpha val="50000"/>
              </a:srgbClr>
            </a:solidFill>
            <a:ln w="93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2819160" y="1930680"/>
              <a:ext cx="4334400" cy="4321440"/>
              <a:chOff x="2819160" y="1930680"/>
              <a:chExt cx="4334400" cy="4321440"/>
            </a:xfrm>
          </p:grpSpPr>
          <p:sp>
            <p:nvSpPr>
              <p:cNvPr id="150" name=""/>
              <p:cNvSpPr/>
              <p:nvPr/>
            </p:nvSpPr>
            <p:spPr>
              <a:xfrm flipV="1">
                <a:off x="2834640" y="1930320"/>
                <a:ext cx="4318920" cy="4321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75"/>
                    </a:moveTo>
                    <a:arcTo wR="10800" hR="10800" stAng="-10791906" swAng="713155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75"/>
                    </a:moveTo>
                    <a:arcTo wR="10800" hR="10800" stAng="-10791906" swAng="7131552"/>
                  </a:path>
                </a:pathLst>
              </a:custGeom>
              <a:noFill/>
              <a:ln w="381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" name=""/>
              <p:cNvGrpSpPr/>
              <p:nvPr/>
            </p:nvGrpSpPr>
            <p:grpSpPr>
              <a:xfrm>
                <a:off x="2819160" y="3968640"/>
                <a:ext cx="2161080" cy="914760"/>
                <a:chOff x="2819160" y="3968640"/>
                <a:chExt cx="2161080" cy="914760"/>
              </a:xfrm>
            </p:grpSpPr>
            <p:sp>
              <p:nvSpPr>
                <p:cNvPr id="152" name=""/>
                <p:cNvSpPr/>
                <p:nvPr/>
              </p:nvSpPr>
              <p:spPr>
                <a:xfrm rot="5400000">
                  <a:off x="3667680" y="4219560"/>
                  <a:ext cx="571680" cy="75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616" y="1946"/>
                      </a:moveTo>
                      <a:arcTo wR="10800" hR="10800" stAng="-7495958" swAng="749595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616" y="1946"/>
                      </a:moveTo>
                      <a:arcTo wR="10800" hR="10800" stAng="-7495958" swAng="7495958"/>
                    </a:path>
                  </a:pathLst>
                </a:custGeom>
                <a:noFill/>
                <a:ln w="381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>
                  <a:off x="4221000" y="4073040"/>
                  <a:ext cx="426600" cy="455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397" y="119"/>
                      </a:moveTo>
                      <a:arcTo wR="10800" hR="10800" stAng="-4889718" swAng="7249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397" y="119"/>
                      </a:moveTo>
                      <a:arcTo wR="10800" hR="10800" stAng="-4889718" swAng="7249391"/>
                    </a:path>
                  </a:pathLst>
                </a:custGeom>
                <a:noFill/>
                <a:ln w="381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 rot="5400000">
                  <a:off x="3634200" y="4177440"/>
                  <a:ext cx="655560" cy="75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616" y="1946"/>
                      </a:moveTo>
                      <a:arcTo wR="10800" hR="10800" stAng="-7495958" swAng="749595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616" y="1946"/>
                      </a:moveTo>
                      <a:arcTo wR="10800" hR="10800" stAng="-7495958" swAng="7495958"/>
                    </a:path>
                  </a:pathLst>
                </a:custGeom>
                <a:noFill/>
                <a:ln w="381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 flipV="1" rot="10800000">
                  <a:off x="3267000" y="4092480"/>
                  <a:ext cx="426240" cy="347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754655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7546554"/>
                    </a:path>
                  </a:pathLst>
                </a:custGeom>
                <a:noFill/>
                <a:ln w="381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H="1">
                  <a:off x="2819160" y="4093200"/>
                  <a:ext cx="664920" cy="0"/>
                </a:xfrm>
                <a:prstGeom prst="line">
                  <a:avLst/>
                </a:prstGeom>
                <a:ln w="381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>
                  <a:off x="4402440" y="3968640"/>
                  <a:ext cx="577800" cy="104760"/>
                </a:xfrm>
                <a:prstGeom prst="line">
                  <a:avLst/>
                </a:prstGeom>
                <a:ln w="381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4964760" y="3961800"/>
                <a:ext cx="1577520" cy="2033640"/>
                <a:chOff x="4964760" y="3961800"/>
                <a:chExt cx="1577520" cy="2033640"/>
              </a:xfrm>
            </p:grpSpPr>
            <p:sp>
              <p:nvSpPr>
                <p:cNvPr id="159" name=""/>
                <p:cNvSpPr/>
                <p:nvPr/>
              </p:nvSpPr>
              <p:spPr>
                <a:xfrm flipV="1" rot="19735200">
                  <a:off x="5746320" y="4304520"/>
                  <a:ext cx="629280" cy="802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616" y="1946"/>
                      </a:moveTo>
                      <a:arcTo wR="10800" hR="10800" stAng="-7495958" swAng="749595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616" y="1946"/>
                      </a:moveTo>
                      <a:arcTo wR="10800" hR="10800" stAng="-7495958" swAng="7495958"/>
                    </a:path>
                  </a:pathLst>
                </a:custGeom>
                <a:noFill/>
                <a:ln w="381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 flipV="1" rot="3535200">
                  <a:off x="5817600" y="5060880"/>
                  <a:ext cx="452520" cy="500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397" y="119"/>
                      </a:moveTo>
                      <a:arcTo wR="10800" hR="10800" stAng="-4889718" swAng="7249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397" y="119"/>
                      </a:moveTo>
                      <a:arcTo wR="10800" hR="10800" stAng="-4889718" swAng="7249391"/>
                    </a:path>
                  </a:pathLst>
                </a:custGeom>
                <a:noFill/>
                <a:ln w="381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rot="19735800">
                  <a:off x="5665320" y="4336200"/>
                  <a:ext cx="721440" cy="801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616" y="1946"/>
                      </a:moveTo>
                      <a:arcTo wR="10800" hR="10800" stAng="-7495958" swAng="749595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616" y="1946"/>
                      </a:moveTo>
                      <a:arcTo wR="10800" hR="10800" stAng="-7495958" swAng="7495958"/>
                    </a:path>
                  </a:pathLst>
                </a:custGeom>
                <a:noFill/>
                <a:ln w="381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 rot="14335200">
                  <a:off x="5263200" y="4272480"/>
                  <a:ext cx="452160" cy="382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754655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7546554"/>
                    </a:path>
                  </a:pathLst>
                </a:custGeom>
                <a:noFill/>
                <a:ln w="381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 flipV="1">
                  <a:off x="4964760" y="3961800"/>
                  <a:ext cx="363960" cy="604080"/>
                </a:xfrm>
                <a:prstGeom prst="line">
                  <a:avLst/>
                </a:prstGeom>
                <a:ln w="381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 flipV="1">
                  <a:off x="5812560" y="5411160"/>
                  <a:ext cx="217800" cy="584280"/>
                </a:xfrm>
                <a:prstGeom prst="line">
                  <a:avLst/>
                </a:prstGeom>
                <a:ln w="381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5" name=""/>
          <p:cNvGrpSpPr/>
          <p:nvPr/>
        </p:nvGrpSpPr>
        <p:grpSpPr>
          <a:xfrm>
            <a:off x="2843640" y="1920960"/>
            <a:ext cx="4322160" cy="4321080"/>
            <a:chOff x="2843640" y="1920960"/>
            <a:chExt cx="4322160" cy="4321080"/>
          </a:xfrm>
        </p:grpSpPr>
        <p:sp>
          <p:nvSpPr>
            <p:cNvPr id="166" name=""/>
            <p:cNvSpPr/>
            <p:nvPr/>
          </p:nvSpPr>
          <p:spPr>
            <a:xfrm>
              <a:off x="4981680" y="2315160"/>
              <a:ext cx="2184120" cy="3664800"/>
            </a:xfrm>
            <a:custGeom>
              <a:avLst/>
              <a:gdLst/>
              <a:ahLst/>
              <a:rect l="l" t="t" r="r" b="b"/>
              <a:pathLst>
                <a:path w="3439" h="5771">
                  <a:moveTo>
                    <a:pt x="0" y="2611"/>
                  </a:moveTo>
                  <a:lnTo>
                    <a:pt x="667" y="1837"/>
                  </a:lnTo>
                  <a:lnTo>
                    <a:pt x="806" y="1751"/>
                  </a:lnTo>
                  <a:lnTo>
                    <a:pt x="957" y="1730"/>
                  </a:lnTo>
                  <a:lnTo>
                    <a:pt x="1096" y="1784"/>
                  </a:lnTo>
                  <a:lnTo>
                    <a:pt x="1182" y="1956"/>
                  </a:lnTo>
                  <a:lnTo>
                    <a:pt x="1204" y="2085"/>
                  </a:lnTo>
                  <a:lnTo>
                    <a:pt x="1279" y="2214"/>
                  </a:lnTo>
                  <a:lnTo>
                    <a:pt x="1440" y="2310"/>
                  </a:lnTo>
                  <a:lnTo>
                    <a:pt x="1634" y="2364"/>
                  </a:lnTo>
                  <a:lnTo>
                    <a:pt x="1838" y="2353"/>
                  </a:lnTo>
                  <a:lnTo>
                    <a:pt x="1978" y="2289"/>
                  </a:lnTo>
                  <a:lnTo>
                    <a:pt x="2096" y="2192"/>
                  </a:lnTo>
                  <a:lnTo>
                    <a:pt x="2214" y="2063"/>
                  </a:lnTo>
                  <a:lnTo>
                    <a:pt x="2268" y="1880"/>
                  </a:lnTo>
                  <a:lnTo>
                    <a:pt x="2278" y="1741"/>
                  </a:lnTo>
                  <a:lnTo>
                    <a:pt x="2246" y="1558"/>
                  </a:lnTo>
                  <a:lnTo>
                    <a:pt x="2182" y="1451"/>
                  </a:lnTo>
                  <a:lnTo>
                    <a:pt x="2010" y="1343"/>
                  </a:lnTo>
                  <a:lnTo>
                    <a:pt x="1881" y="1332"/>
                  </a:lnTo>
                  <a:lnTo>
                    <a:pt x="1752" y="1279"/>
                  </a:lnTo>
                  <a:lnTo>
                    <a:pt x="1634" y="1203"/>
                  </a:lnTo>
                  <a:lnTo>
                    <a:pt x="1548" y="1074"/>
                  </a:lnTo>
                  <a:lnTo>
                    <a:pt x="1515" y="946"/>
                  </a:lnTo>
                  <a:lnTo>
                    <a:pt x="1515" y="817"/>
                  </a:lnTo>
                  <a:lnTo>
                    <a:pt x="1988" y="0"/>
                  </a:lnTo>
                  <a:lnTo>
                    <a:pt x="2300" y="236"/>
                  </a:lnTo>
                  <a:lnTo>
                    <a:pt x="2622" y="569"/>
                  </a:lnTo>
                  <a:lnTo>
                    <a:pt x="2870" y="892"/>
                  </a:lnTo>
                  <a:lnTo>
                    <a:pt x="3063" y="1246"/>
                  </a:lnTo>
                  <a:lnTo>
                    <a:pt x="3181" y="1515"/>
                  </a:lnTo>
                  <a:lnTo>
                    <a:pt x="3299" y="1816"/>
                  </a:lnTo>
                  <a:lnTo>
                    <a:pt x="3385" y="2181"/>
                  </a:lnTo>
                  <a:lnTo>
                    <a:pt x="3439" y="2568"/>
                  </a:lnTo>
                  <a:lnTo>
                    <a:pt x="3439" y="3095"/>
                  </a:lnTo>
                  <a:lnTo>
                    <a:pt x="3353" y="3525"/>
                  </a:lnTo>
                  <a:lnTo>
                    <a:pt x="3224" y="3987"/>
                  </a:lnTo>
                  <a:lnTo>
                    <a:pt x="3031" y="4384"/>
                  </a:lnTo>
                  <a:lnTo>
                    <a:pt x="2816" y="4750"/>
                  </a:lnTo>
                  <a:lnTo>
                    <a:pt x="2569" y="5061"/>
                  </a:lnTo>
                  <a:lnTo>
                    <a:pt x="2321" y="5298"/>
                  </a:lnTo>
                  <a:lnTo>
                    <a:pt x="2031" y="5545"/>
                  </a:lnTo>
                  <a:lnTo>
                    <a:pt x="1698" y="5760"/>
                  </a:lnTo>
                  <a:lnTo>
                    <a:pt x="1623" y="5771"/>
                  </a:lnTo>
                  <a:lnTo>
                    <a:pt x="1290" y="4814"/>
                  </a:lnTo>
                  <a:lnTo>
                    <a:pt x="1301" y="4642"/>
                  </a:lnTo>
                  <a:lnTo>
                    <a:pt x="1397" y="4481"/>
                  </a:lnTo>
                  <a:lnTo>
                    <a:pt x="1537" y="4384"/>
                  </a:lnTo>
                  <a:lnTo>
                    <a:pt x="1666" y="4374"/>
                  </a:lnTo>
                  <a:lnTo>
                    <a:pt x="1859" y="4374"/>
                  </a:lnTo>
                  <a:lnTo>
                    <a:pt x="2074" y="4298"/>
                  </a:lnTo>
                  <a:lnTo>
                    <a:pt x="2193" y="4137"/>
                  </a:lnTo>
                  <a:lnTo>
                    <a:pt x="2235" y="3954"/>
                  </a:lnTo>
                  <a:lnTo>
                    <a:pt x="2225" y="3761"/>
                  </a:lnTo>
                  <a:lnTo>
                    <a:pt x="2160" y="3568"/>
                  </a:lnTo>
                  <a:lnTo>
                    <a:pt x="2031" y="3396"/>
                  </a:lnTo>
                  <a:lnTo>
                    <a:pt x="1870" y="3267"/>
                  </a:lnTo>
                  <a:lnTo>
                    <a:pt x="1666" y="3191"/>
                  </a:lnTo>
                  <a:lnTo>
                    <a:pt x="1451" y="3202"/>
                  </a:lnTo>
                  <a:lnTo>
                    <a:pt x="1268" y="3288"/>
                  </a:lnTo>
                  <a:lnTo>
                    <a:pt x="1150" y="3428"/>
                  </a:lnTo>
                  <a:lnTo>
                    <a:pt x="1086" y="3578"/>
                  </a:lnTo>
                  <a:lnTo>
                    <a:pt x="1000" y="3707"/>
                  </a:lnTo>
                  <a:lnTo>
                    <a:pt x="828" y="3729"/>
                  </a:lnTo>
                  <a:lnTo>
                    <a:pt x="688" y="3707"/>
                  </a:lnTo>
                  <a:lnTo>
                    <a:pt x="591" y="3611"/>
                  </a:lnTo>
                  <a:lnTo>
                    <a:pt x="0" y="2611"/>
                  </a:lnTo>
                  <a:close/>
                </a:path>
              </a:pathLst>
            </a:cu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843640" y="1920960"/>
              <a:ext cx="4321080" cy="4321080"/>
              <a:chOff x="2843640" y="1920960"/>
              <a:chExt cx="4321080" cy="4321080"/>
            </a:xfrm>
          </p:grpSpPr>
          <p:sp>
            <p:nvSpPr>
              <p:cNvPr id="168" name=""/>
              <p:cNvSpPr/>
              <p:nvPr/>
            </p:nvSpPr>
            <p:spPr>
              <a:xfrm>
                <a:off x="2843640" y="1920960"/>
                <a:ext cx="4321080" cy="432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958" y="1927"/>
                    </a:moveTo>
                    <a:arcTo wR="10800" hR="10800" stAng="-3314344" swAng="702810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958" y="1927"/>
                    </a:moveTo>
                    <a:arcTo wR="10800" hR="10800" stAng="-3314344" swAng="7028105"/>
                  </a:path>
                </a:pathLst>
              </a:cu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4975200" y="2302200"/>
                <a:ext cx="1601280" cy="1676160"/>
                <a:chOff x="4975200" y="2302200"/>
                <a:chExt cx="1601280" cy="1676160"/>
              </a:xfrm>
            </p:grpSpPr>
            <p:sp>
              <p:nvSpPr>
                <p:cNvPr id="170" name=""/>
                <p:cNvSpPr/>
                <p:nvPr/>
              </p:nvSpPr>
              <p:spPr>
                <a:xfrm rot="2452200">
                  <a:off x="5798880" y="3125880"/>
                  <a:ext cx="606600" cy="734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616" y="1946"/>
                      </a:moveTo>
                      <a:arcTo wR="10800" hR="10800" stAng="-7495958" swAng="749595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616" y="1946"/>
                      </a:moveTo>
                      <a:arcTo wR="10800" hR="10800" stAng="-7495958" swAng="7495958"/>
                    </a:path>
                  </a:pathLst>
                </a:custGeom>
                <a:noFill/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 rot="18652200">
                  <a:off x="5961960" y="2691720"/>
                  <a:ext cx="415080" cy="48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397" y="119"/>
                      </a:moveTo>
                      <a:arcTo wR="10800" hR="10800" stAng="-4889718" swAng="7249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397" y="119"/>
                      </a:moveTo>
                      <a:arcTo wR="10800" hR="10800" stAng="-4889718" swAng="7249391"/>
                    </a:path>
                  </a:pathLst>
                </a:custGeom>
                <a:noFill/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V="1" rot="2452200">
                  <a:off x="5725080" y="3090960"/>
                  <a:ext cx="695520" cy="734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616" y="1946"/>
                      </a:moveTo>
                      <a:arcTo wR="10800" hR="10800" stAng="-7495958" swAng="749595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616" y="1946"/>
                      </a:moveTo>
                      <a:arcTo wR="10800" hR="10800" stAng="-7495958" swAng="7495958"/>
                    </a:path>
                  </a:pathLst>
                </a:custGeom>
                <a:noFill/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H="1" flipV="1" rot="7852200">
                  <a:off x="5326920" y="3428280"/>
                  <a:ext cx="414720" cy="36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754655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7546554"/>
                    </a:path>
                  </a:pathLst>
                </a:custGeom>
                <a:noFill/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H="1">
                  <a:off x="4975200" y="3489120"/>
                  <a:ext cx="423360" cy="489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H="1">
                  <a:off x="5967360" y="2302200"/>
                  <a:ext cx="283680" cy="4975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4965480" y="3963960"/>
                <a:ext cx="1577880" cy="2032920"/>
                <a:chOff x="4965480" y="3963960"/>
                <a:chExt cx="1577880" cy="2032920"/>
              </a:xfrm>
            </p:grpSpPr>
            <p:sp>
              <p:nvSpPr>
                <p:cNvPr id="177" name=""/>
                <p:cNvSpPr/>
                <p:nvPr/>
              </p:nvSpPr>
              <p:spPr>
                <a:xfrm flipV="1" rot="19735200">
                  <a:off x="5747040" y="4305960"/>
                  <a:ext cx="630000" cy="801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616" y="1946"/>
                      </a:moveTo>
                      <a:arcTo wR="10800" hR="10800" stAng="-7495958" swAng="749595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616" y="1946"/>
                      </a:moveTo>
                      <a:arcTo wR="10800" hR="10800" stAng="-7495958" swAng="7495958"/>
                    </a:path>
                  </a:pathLst>
                </a:custGeom>
                <a:noFill/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 flipV="1" rot="3535200">
                  <a:off x="5817960" y="5061960"/>
                  <a:ext cx="452520" cy="501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397" y="119"/>
                      </a:moveTo>
                      <a:arcTo wR="10800" hR="10800" stAng="-4889718" swAng="7249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397" y="119"/>
                      </a:moveTo>
                      <a:arcTo wR="10800" hR="10800" stAng="-4889718" swAng="7249391"/>
                    </a:path>
                  </a:pathLst>
                </a:custGeom>
                <a:noFill/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rot="19735800">
                  <a:off x="5666400" y="4337640"/>
                  <a:ext cx="721800" cy="801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616" y="1946"/>
                      </a:moveTo>
                      <a:arcTo wR="10800" hR="10800" stAng="-7495958" swAng="749595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616" y="1946"/>
                      </a:moveTo>
                      <a:arcTo wR="10800" hR="10800" stAng="-7495958" swAng="7495958"/>
                    </a:path>
                  </a:pathLst>
                </a:custGeom>
                <a:noFill/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 rot="14335200">
                  <a:off x="5264640" y="4273200"/>
                  <a:ext cx="452160" cy="383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754655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7546554"/>
                    </a:path>
                  </a:pathLst>
                </a:custGeom>
                <a:noFill/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 flipV="1">
                  <a:off x="4965480" y="3963960"/>
                  <a:ext cx="363600" cy="6037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 flipV="1">
                  <a:off x="5813280" y="5412960"/>
                  <a:ext cx="217440" cy="5839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1018440" y="1676520"/>
            <a:ext cx="18493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hermal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 stran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8360" y="4572000"/>
            <a:ext cx="19926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Hydrau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ahoma"/>
              </a:rPr>
              <a:t>- hel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ahoma"/>
              </a:rPr>
              <a:t>- L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ahoma"/>
              </a:rPr>
              <a:t>- n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ahoma"/>
              </a:rPr>
              <a:t>-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99280" y="3124080"/>
            <a:ext cx="16513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Electric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- stran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- stabil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- sh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-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5T12:48:05Z</dcterms:created>
  <dc:creator>Luca Bottura</dc:creator>
  <dc:description/>
  <dc:language>en-US</dc:language>
  <cp:lastModifiedBy>Luca Bottura</cp:lastModifiedBy>
  <cp:lastPrinted>2000-08-30T10:29:00Z</cp:lastPrinted>
  <dcterms:modified xsi:type="dcterms:W3CDTF">2000-08-30T13:55:16Z</dcterms:modified>
  <cp:revision>43</cp:revision>
  <dc:subject/>
  <dc:title>A Unified Model for Thermal, Hydraulic and Electric Analysis of Superconducting Cables</dc:title>
</cp:coreProperties>
</file>