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33624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5280" y="2149560"/>
            <a:ext cx="33624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18240" y="105264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5280" y="214956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118240" y="214956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1082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532160" y="1052640"/>
            <a:ext cx="1082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669400" y="1052640"/>
            <a:ext cx="1082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5280" y="2149560"/>
            <a:ext cx="1082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532160" y="2149560"/>
            <a:ext cx="1082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2669400" y="2149560"/>
            <a:ext cx="1082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5280" y="1052640"/>
            <a:ext cx="336240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33624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16405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118240" y="1052640"/>
            <a:ext cx="16405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18240" y="1052640"/>
            <a:ext cx="16405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5280" y="214956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16405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18240" y="105264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18240" y="214956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18240" y="1052640"/>
            <a:ext cx="16405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5280" y="2149560"/>
            <a:ext cx="33624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Lucida Bright"/>
              </a:rPr>
              <a:t>Click to edit the title text format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052640"/>
            <a:ext cx="33624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49400" indent="-149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340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6200" indent="-18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0640" indent="-18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948360" y="6278400"/>
            <a:ext cx="2057760" cy="750240"/>
            <a:chOff x="6948360" y="6278400"/>
            <a:chExt cx="2057760" cy="750240"/>
          </a:xfrm>
        </p:grpSpPr>
        <p:sp>
          <p:nvSpPr>
            <p:cNvPr id="3" name=""/>
            <p:cNvSpPr/>
            <p:nvPr/>
          </p:nvSpPr>
          <p:spPr>
            <a:xfrm>
              <a:off x="6950880" y="6278400"/>
              <a:ext cx="205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cc99"/>
                  </a:solidFill>
                  <a:latin typeface="Arial"/>
                </a:rPr>
                <a:t>ASC 20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6948360" y="6354360"/>
              <a:ext cx="2016000" cy="674280"/>
              <a:chOff x="6948360" y="6354360"/>
              <a:chExt cx="2016000" cy="674280"/>
            </a:xfrm>
          </p:grpSpPr>
          <p:sp>
            <p:nvSpPr>
              <p:cNvPr id="5" name=""/>
              <p:cNvSpPr/>
              <p:nvPr/>
            </p:nvSpPr>
            <p:spPr>
              <a:xfrm>
                <a:off x="6951240" y="6354360"/>
                <a:ext cx="2013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9900"/>
                    </a:solidFill>
                    <a:latin typeface="Arial Narrow"/>
                  </a:rPr>
                  <a:t>Superconductors in the Marketpla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48360" y="6508440"/>
                <a:ext cx="1644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Rockwell Condensed"/>
                  </a:rPr>
                  <a:t>Superconducting Magne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"/>
          <p:cNvSpPr/>
          <p:nvPr/>
        </p:nvSpPr>
        <p:spPr>
          <a:xfrm>
            <a:off x="189720" y="645336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artin Wilson 'Magnet Design' slide no </a:t>
            </a:r>
            <a:fld id="{D61F6399-E3D9-4956-A0E5-8AD5D08782A4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82680" y="3724200"/>
            <a:ext cx="33624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22840" y="1591920"/>
            <a:ext cx="3898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 stat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x jumping and fine fila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steresis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 in terms of magne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amentary compo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ing between filaments in a wi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wi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ime consta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upled magnetiz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upling lo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ing between wires in a 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 field loss and Norris’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S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22720" y="213840"/>
            <a:ext cx="34509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AC Losses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95120" y="539640"/>
            <a:ext cx="8556480" cy="1052640"/>
            <a:chOff x="195120" y="539640"/>
            <a:chExt cx="8556480" cy="1052640"/>
          </a:xfrm>
        </p:grpSpPr>
        <p:sp>
          <p:nvSpPr>
            <p:cNvPr id="48" name=""/>
            <p:cNvSpPr/>
            <p:nvPr/>
          </p:nvSpPr>
          <p:spPr>
            <a:xfrm>
              <a:off x="485640" y="615960"/>
              <a:ext cx="7318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9480" y="1038240"/>
              <a:ext cx="422280" cy="474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5120" y="96516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5240" y="1269720"/>
              <a:ext cx="8226360" cy="3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0160" y="53964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320960" y="4986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artin Wil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34805" t="10019" r="22817" b="34033"/>
          <a:stretch/>
        </p:blipFill>
        <p:spPr>
          <a:xfrm>
            <a:off x="566640" y="1862280"/>
            <a:ext cx="34498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Magnetization of a superconductor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743" name=""/>
          <p:cNvSpPr/>
          <p:nvPr/>
        </p:nvSpPr>
        <p:spPr>
          <a:xfrm>
            <a:off x="693000" y="838080"/>
            <a:ext cx="771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induced currents produce a magnetic moment and hence a magnetiz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= magnetic moment per unit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rcRect l="-4117" t="-2134" r="-3712" b="-6638"/>
          <a:stretch/>
        </p:blipFill>
        <p:spPr>
          <a:xfrm>
            <a:off x="826920" y="1558800"/>
            <a:ext cx="7561440" cy="475308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3981960" y="19890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572600" y="4219560"/>
            <a:ext cx="45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734000" y="4017960"/>
            <a:ext cx="3224160" cy="1428840"/>
            <a:chOff x="4734000" y="4017960"/>
            <a:chExt cx="3224160" cy="1428840"/>
          </a:xfrm>
        </p:grpSpPr>
        <p:grpSp>
          <p:nvGrpSpPr>
            <p:cNvPr id="748" name=""/>
            <p:cNvGrpSpPr/>
            <p:nvPr/>
          </p:nvGrpSpPr>
          <p:grpSpPr>
            <a:xfrm>
              <a:off x="6588000" y="4222800"/>
              <a:ext cx="1368720" cy="1224000"/>
              <a:chOff x="6588000" y="4222800"/>
              <a:chExt cx="1368720" cy="12240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7020000" y="4799160"/>
                <a:ext cx="936720" cy="647640"/>
                <a:chOff x="7020000" y="4799160"/>
                <a:chExt cx="936720" cy="6476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7236000" y="4799160"/>
                  <a:ext cx="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740720" y="4799160"/>
                  <a:ext cx="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020000" y="5015160"/>
                  <a:ext cx="2160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740720" y="5015160"/>
                  <a:ext cx="2160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236000" y="5015160"/>
                  <a:ext cx="252360" cy="215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>
                  <a:off x="7488000" y="5015160"/>
                  <a:ext cx="252360" cy="215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"/>
              <p:cNvSpPr/>
              <p:nvPr/>
            </p:nvSpPr>
            <p:spPr>
              <a:xfrm>
                <a:off x="6588000" y="4222800"/>
                <a:ext cx="936720" cy="648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 flipV="1">
              <a:off x="5824440" y="4146480"/>
              <a:ext cx="260280" cy="39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734000" y="4017960"/>
              <a:ext cx="3224160" cy="1039680"/>
            </a:xfrm>
            <a:custGeom>
              <a:avLst/>
              <a:gdLst/>
              <a:ahLst/>
              <a:rect l="l" t="t" r="r" b="b"/>
              <a:pathLst>
                <a:path w="2031" h="655">
                  <a:moveTo>
                    <a:pt x="0" y="655"/>
                  </a:moveTo>
                  <a:cubicBezTo>
                    <a:pt x="5" y="622"/>
                    <a:pt x="10" y="589"/>
                    <a:pt x="21" y="556"/>
                  </a:cubicBezTo>
                  <a:cubicBezTo>
                    <a:pt x="32" y="523"/>
                    <a:pt x="48" y="489"/>
                    <a:pt x="66" y="457"/>
                  </a:cubicBezTo>
                  <a:cubicBezTo>
                    <a:pt x="84" y="425"/>
                    <a:pt x="108" y="386"/>
                    <a:pt x="126" y="361"/>
                  </a:cubicBezTo>
                  <a:cubicBezTo>
                    <a:pt x="144" y="336"/>
                    <a:pt x="153" y="328"/>
                    <a:pt x="177" y="307"/>
                  </a:cubicBezTo>
                  <a:cubicBezTo>
                    <a:pt x="201" y="286"/>
                    <a:pt x="236" y="255"/>
                    <a:pt x="273" y="235"/>
                  </a:cubicBezTo>
                  <a:cubicBezTo>
                    <a:pt x="310" y="215"/>
                    <a:pt x="356" y="200"/>
                    <a:pt x="402" y="184"/>
                  </a:cubicBezTo>
                  <a:cubicBezTo>
                    <a:pt x="448" y="168"/>
                    <a:pt x="506" y="149"/>
                    <a:pt x="552" y="136"/>
                  </a:cubicBezTo>
                  <a:cubicBezTo>
                    <a:pt x="598" y="123"/>
                    <a:pt x="627" y="118"/>
                    <a:pt x="678" y="109"/>
                  </a:cubicBezTo>
                  <a:cubicBezTo>
                    <a:pt x="729" y="100"/>
                    <a:pt x="782" y="88"/>
                    <a:pt x="858" y="79"/>
                  </a:cubicBezTo>
                  <a:cubicBezTo>
                    <a:pt x="934" y="70"/>
                    <a:pt x="1043" y="60"/>
                    <a:pt x="1137" y="52"/>
                  </a:cubicBezTo>
                  <a:cubicBezTo>
                    <a:pt x="1231" y="44"/>
                    <a:pt x="1332" y="35"/>
                    <a:pt x="1425" y="28"/>
                  </a:cubicBezTo>
                  <a:cubicBezTo>
                    <a:pt x="1518" y="21"/>
                    <a:pt x="1613" y="15"/>
                    <a:pt x="1698" y="10"/>
                  </a:cubicBezTo>
                  <a:cubicBezTo>
                    <a:pt x="1783" y="5"/>
                    <a:pt x="1880" y="2"/>
                    <a:pt x="1935" y="1"/>
                  </a:cubicBezTo>
                  <a:cubicBezTo>
                    <a:pt x="1990" y="0"/>
                    <a:pt x="2010" y="0"/>
                    <a:pt x="2031" y="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7885080" y="2638440"/>
            <a:ext cx="863640" cy="1380960"/>
            <a:chOff x="7885080" y="2638440"/>
            <a:chExt cx="863640" cy="1380960"/>
          </a:xfrm>
        </p:grpSpPr>
        <p:grpSp>
          <p:nvGrpSpPr>
            <p:cNvPr id="760" name=""/>
            <p:cNvGrpSpPr/>
            <p:nvPr/>
          </p:nvGrpSpPr>
          <p:grpSpPr>
            <a:xfrm>
              <a:off x="7885080" y="2638440"/>
              <a:ext cx="863640" cy="1152360"/>
              <a:chOff x="7885080" y="2638440"/>
              <a:chExt cx="863640" cy="1152360"/>
            </a:xfrm>
          </p:grpSpPr>
          <p:grpSp>
            <p:nvGrpSpPr>
              <p:cNvPr id="761" name=""/>
              <p:cNvGrpSpPr/>
              <p:nvPr/>
            </p:nvGrpSpPr>
            <p:grpSpPr>
              <a:xfrm>
                <a:off x="7885080" y="2638440"/>
                <a:ext cx="863640" cy="647640"/>
                <a:chOff x="7885080" y="2638440"/>
                <a:chExt cx="863640" cy="64764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8172360" y="292752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>
                  <a:off x="8316720" y="2927520"/>
                  <a:ext cx="14472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"/>
                <p:cNvGrpSpPr/>
                <p:nvPr/>
              </p:nvGrpSpPr>
              <p:grpSpPr>
                <a:xfrm>
                  <a:off x="7885080" y="2638440"/>
                  <a:ext cx="863640" cy="647640"/>
                  <a:chOff x="7885080" y="2638440"/>
                  <a:chExt cx="863640" cy="64764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8101080" y="2638440"/>
                    <a:ext cx="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8534160" y="2638440"/>
                    <a:ext cx="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7885080" y="2927520"/>
                    <a:ext cx="863640" cy="71280"/>
                    <a:chOff x="7885080" y="2927520"/>
                    <a:chExt cx="863640" cy="7128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7885080" y="2998800"/>
                      <a:ext cx="21600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>
                      <a:off x="8532720" y="2998800"/>
                      <a:ext cx="21600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flipV="1">
                      <a:off x="8101080" y="2927520"/>
                      <a:ext cx="71280" cy="698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8461440" y="2927520"/>
                      <a:ext cx="71280" cy="712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72" name=""/>
              <p:cNvSpPr/>
              <p:nvPr/>
            </p:nvSpPr>
            <p:spPr>
              <a:xfrm flipV="1">
                <a:off x="8028000" y="3286080"/>
                <a:ext cx="216000" cy="504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7910640" y="3689280"/>
              <a:ext cx="41040" cy="330120"/>
            </a:xfrm>
            <a:custGeom>
              <a:avLst/>
              <a:gdLst/>
              <a:ahLst/>
              <a:rect l="l" t="t" r="r" b="b"/>
              <a:pathLst>
                <a:path w="26" h="208">
                  <a:moveTo>
                    <a:pt x="26" y="208"/>
                  </a:moveTo>
                  <a:cubicBezTo>
                    <a:pt x="26" y="156"/>
                    <a:pt x="26" y="105"/>
                    <a:pt x="26" y="75"/>
                  </a:cubicBezTo>
                  <a:cubicBezTo>
                    <a:pt x="26" y="45"/>
                    <a:pt x="25" y="36"/>
                    <a:pt x="23" y="25"/>
                  </a:cubicBezTo>
                  <a:cubicBezTo>
                    <a:pt x="21" y="14"/>
                    <a:pt x="19" y="13"/>
                    <a:pt x="15" y="9"/>
                  </a:cubicBezTo>
                  <a:cubicBezTo>
                    <a:pt x="11" y="5"/>
                    <a:pt x="3" y="1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619520" y="2271600"/>
            <a:ext cx="3291120" cy="1414440"/>
            <a:chOff x="4619520" y="2271600"/>
            <a:chExt cx="3291120" cy="1414440"/>
          </a:xfrm>
        </p:grpSpPr>
        <p:grpSp>
          <p:nvGrpSpPr>
            <p:cNvPr id="775" name=""/>
            <p:cNvGrpSpPr/>
            <p:nvPr/>
          </p:nvGrpSpPr>
          <p:grpSpPr>
            <a:xfrm>
              <a:off x="5580000" y="2350800"/>
              <a:ext cx="1007640" cy="1078920"/>
              <a:chOff x="5580000" y="2350800"/>
              <a:chExt cx="1007640" cy="1078920"/>
            </a:xfrm>
          </p:grpSpPr>
          <p:grpSp>
            <p:nvGrpSpPr>
              <p:cNvPr id="776" name=""/>
              <p:cNvGrpSpPr/>
              <p:nvPr/>
            </p:nvGrpSpPr>
            <p:grpSpPr>
              <a:xfrm>
                <a:off x="5651640" y="2350800"/>
                <a:ext cx="936000" cy="647640"/>
                <a:chOff x="5651640" y="2350800"/>
                <a:chExt cx="936000" cy="647640"/>
              </a:xfrm>
            </p:grpSpPr>
            <p:sp>
              <p:nvSpPr>
                <p:cNvPr id="777" name=""/>
                <p:cNvSpPr/>
                <p:nvPr/>
              </p:nvSpPr>
              <p:spPr>
                <a:xfrm flipV="1">
                  <a:off x="5867280" y="2350800"/>
                  <a:ext cx="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6372000" y="2350800"/>
                  <a:ext cx="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651640" y="2782440"/>
                  <a:ext cx="215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372000" y="2782440"/>
                  <a:ext cx="215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5867280" y="2566800"/>
                  <a:ext cx="252000" cy="215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 flipV="1">
                  <a:off x="6119640" y="2566800"/>
                  <a:ext cx="252000" cy="215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3" name=""/>
              <p:cNvSpPr/>
              <p:nvPr/>
            </p:nvSpPr>
            <p:spPr>
              <a:xfrm flipV="1">
                <a:off x="5580000" y="2926800"/>
                <a:ext cx="504720" cy="502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 flipH="1" flipV="1">
              <a:off x="6035760" y="3569760"/>
              <a:ext cx="288720" cy="25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19520" y="2271600"/>
              <a:ext cx="3291120" cy="1414440"/>
            </a:xfrm>
            <a:custGeom>
              <a:avLst/>
              <a:gdLst/>
              <a:ahLst/>
              <a:rect l="l" t="t" r="r" b="b"/>
              <a:pathLst>
                <a:path w="2073" h="891">
                  <a:moveTo>
                    <a:pt x="0" y="0"/>
                  </a:moveTo>
                  <a:cubicBezTo>
                    <a:pt x="9" y="85"/>
                    <a:pt x="18" y="170"/>
                    <a:pt x="33" y="243"/>
                  </a:cubicBezTo>
                  <a:cubicBezTo>
                    <a:pt x="48" y="316"/>
                    <a:pt x="68" y="387"/>
                    <a:pt x="90" y="441"/>
                  </a:cubicBezTo>
                  <a:cubicBezTo>
                    <a:pt x="112" y="495"/>
                    <a:pt x="131" y="528"/>
                    <a:pt x="162" y="567"/>
                  </a:cubicBezTo>
                  <a:cubicBezTo>
                    <a:pt x="193" y="606"/>
                    <a:pt x="225" y="644"/>
                    <a:pt x="279" y="675"/>
                  </a:cubicBezTo>
                  <a:cubicBezTo>
                    <a:pt x="333" y="706"/>
                    <a:pt x="402" y="734"/>
                    <a:pt x="486" y="756"/>
                  </a:cubicBezTo>
                  <a:cubicBezTo>
                    <a:pt x="570" y="778"/>
                    <a:pt x="676" y="793"/>
                    <a:pt x="786" y="807"/>
                  </a:cubicBezTo>
                  <a:cubicBezTo>
                    <a:pt x="896" y="821"/>
                    <a:pt x="1020" y="830"/>
                    <a:pt x="1146" y="840"/>
                  </a:cubicBezTo>
                  <a:cubicBezTo>
                    <a:pt x="1272" y="850"/>
                    <a:pt x="1391" y="859"/>
                    <a:pt x="1545" y="867"/>
                  </a:cubicBezTo>
                  <a:cubicBezTo>
                    <a:pt x="1699" y="875"/>
                    <a:pt x="1886" y="883"/>
                    <a:pt x="2073" y="89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4646520" y="3838680"/>
            <a:ext cx="1509840" cy="1823760"/>
            <a:chOff x="4646520" y="3838680"/>
            <a:chExt cx="1509840" cy="1823760"/>
          </a:xfrm>
        </p:grpSpPr>
        <p:grpSp>
          <p:nvGrpSpPr>
            <p:cNvPr id="787" name=""/>
            <p:cNvGrpSpPr/>
            <p:nvPr/>
          </p:nvGrpSpPr>
          <p:grpSpPr>
            <a:xfrm>
              <a:off x="4788000" y="4367160"/>
              <a:ext cx="1368360" cy="1295280"/>
              <a:chOff x="4788000" y="4367160"/>
              <a:chExt cx="1368360" cy="129528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219640" y="5014800"/>
                <a:ext cx="936720" cy="647640"/>
                <a:chOff x="5219640" y="5014800"/>
                <a:chExt cx="936720" cy="6476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435640" y="5014800"/>
                  <a:ext cx="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940360" y="5014800"/>
                  <a:ext cx="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1" name=""/>
                <p:cNvGrpSpPr/>
                <p:nvPr/>
              </p:nvGrpSpPr>
              <p:grpSpPr>
                <a:xfrm>
                  <a:off x="5219640" y="5230440"/>
                  <a:ext cx="936720" cy="144720"/>
                  <a:chOff x="5219640" y="5230440"/>
                  <a:chExt cx="936720" cy="14472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5219640" y="5230440"/>
                    <a:ext cx="2160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5940360" y="5230440"/>
                    <a:ext cx="2160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5435640" y="5230440"/>
                    <a:ext cx="144360" cy="144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H="1">
                    <a:off x="5795640" y="5230440"/>
                    <a:ext cx="144360" cy="144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5580000" y="5375160"/>
                    <a:ext cx="2160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7" name=""/>
              <p:cNvSpPr/>
              <p:nvPr/>
            </p:nvSpPr>
            <p:spPr>
              <a:xfrm>
                <a:off x="4788000" y="4367160"/>
                <a:ext cx="863640" cy="718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4646520" y="3838680"/>
              <a:ext cx="87480" cy="1268280"/>
            </a:xfrm>
            <a:custGeom>
              <a:avLst/>
              <a:gdLst/>
              <a:ahLst/>
              <a:rect l="l" t="t" r="r" b="b"/>
              <a:pathLst>
                <a:path w="55" h="799">
                  <a:moveTo>
                    <a:pt x="1" y="0"/>
                  </a:moveTo>
                  <a:cubicBezTo>
                    <a:pt x="0" y="65"/>
                    <a:pt x="0" y="131"/>
                    <a:pt x="1" y="186"/>
                  </a:cubicBezTo>
                  <a:cubicBezTo>
                    <a:pt x="2" y="241"/>
                    <a:pt x="6" y="276"/>
                    <a:pt x="7" y="330"/>
                  </a:cubicBezTo>
                  <a:cubicBezTo>
                    <a:pt x="8" y="384"/>
                    <a:pt x="9" y="466"/>
                    <a:pt x="10" y="513"/>
                  </a:cubicBezTo>
                  <a:cubicBezTo>
                    <a:pt x="11" y="560"/>
                    <a:pt x="12" y="588"/>
                    <a:pt x="13" y="615"/>
                  </a:cubicBezTo>
                  <a:cubicBezTo>
                    <a:pt x="14" y="642"/>
                    <a:pt x="15" y="658"/>
                    <a:pt x="16" y="678"/>
                  </a:cubicBezTo>
                  <a:cubicBezTo>
                    <a:pt x="17" y="698"/>
                    <a:pt x="18" y="718"/>
                    <a:pt x="19" y="735"/>
                  </a:cubicBezTo>
                  <a:cubicBezTo>
                    <a:pt x="20" y="752"/>
                    <a:pt x="19" y="770"/>
                    <a:pt x="22" y="780"/>
                  </a:cubicBezTo>
                  <a:cubicBezTo>
                    <a:pt x="25" y="790"/>
                    <a:pt x="32" y="799"/>
                    <a:pt x="37" y="798"/>
                  </a:cubicBezTo>
                  <a:cubicBezTo>
                    <a:pt x="42" y="797"/>
                    <a:pt x="52" y="778"/>
                    <a:pt x="55" y="77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649760" y="4121280"/>
              <a:ext cx="7920" cy="193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290600" y="1957320"/>
            <a:ext cx="3328920" cy="1733760"/>
            <a:chOff x="1290600" y="1957320"/>
            <a:chExt cx="3328920" cy="1733760"/>
          </a:xfrm>
        </p:grpSpPr>
        <p:grpSp>
          <p:nvGrpSpPr>
            <p:cNvPr id="801" name=""/>
            <p:cNvGrpSpPr/>
            <p:nvPr/>
          </p:nvGrpSpPr>
          <p:grpSpPr>
            <a:xfrm>
              <a:off x="2195640" y="2206800"/>
              <a:ext cx="1224000" cy="1223280"/>
              <a:chOff x="2195640" y="2206800"/>
              <a:chExt cx="1224000" cy="122328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2195640" y="2206800"/>
                <a:ext cx="936000" cy="647280"/>
                <a:chOff x="2195640" y="2206800"/>
                <a:chExt cx="936000" cy="647280"/>
              </a:xfrm>
            </p:grpSpPr>
            <p:sp>
              <p:nvSpPr>
                <p:cNvPr id="803" name=""/>
                <p:cNvSpPr/>
                <p:nvPr/>
              </p:nvSpPr>
              <p:spPr>
                <a:xfrm flipV="1">
                  <a:off x="2411280" y="2206800"/>
                  <a:ext cx="0" cy="64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V="1">
                  <a:off x="2916000" y="2206800"/>
                  <a:ext cx="0" cy="64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2195640" y="2638440"/>
                  <a:ext cx="215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916000" y="2638440"/>
                  <a:ext cx="215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V="1">
                  <a:off x="2411280" y="2423160"/>
                  <a:ext cx="252000" cy="2152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 flipV="1">
                  <a:off x="2663640" y="2423160"/>
                  <a:ext cx="252000" cy="2152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"/>
              <p:cNvSpPr/>
              <p:nvPr/>
            </p:nvSpPr>
            <p:spPr>
              <a:xfrm>
                <a:off x="2700360" y="2854080"/>
                <a:ext cx="719280" cy="576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 flipH="1">
              <a:off x="3131640" y="3503520"/>
              <a:ext cx="360360" cy="7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90600" y="1957320"/>
              <a:ext cx="3328920" cy="1733760"/>
            </a:xfrm>
            <a:custGeom>
              <a:avLst/>
              <a:gdLst/>
              <a:ahLst/>
              <a:rect l="l" t="t" r="r" b="b"/>
              <a:pathLst>
                <a:path w="2097" h="1092">
                  <a:moveTo>
                    <a:pt x="2097" y="186"/>
                  </a:moveTo>
                  <a:cubicBezTo>
                    <a:pt x="2094" y="163"/>
                    <a:pt x="2092" y="140"/>
                    <a:pt x="2091" y="117"/>
                  </a:cubicBezTo>
                  <a:cubicBezTo>
                    <a:pt x="2090" y="94"/>
                    <a:pt x="2091" y="64"/>
                    <a:pt x="2091" y="45"/>
                  </a:cubicBezTo>
                  <a:cubicBezTo>
                    <a:pt x="2091" y="26"/>
                    <a:pt x="2091" y="6"/>
                    <a:pt x="2088" y="3"/>
                  </a:cubicBezTo>
                  <a:cubicBezTo>
                    <a:pt x="2085" y="0"/>
                    <a:pt x="2073" y="10"/>
                    <a:pt x="2070" y="27"/>
                  </a:cubicBezTo>
                  <a:cubicBezTo>
                    <a:pt x="2067" y="44"/>
                    <a:pt x="2069" y="74"/>
                    <a:pt x="2067" y="108"/>
                  </a:cubicBezTo>
                  <a:cubicBezTo>
                    <a:pt x="2065" y="142"/>
                    <a:pt x="2063" y="189"/>
                    <a:pt x="2058" y="234"/>
                  </a:cubicBezTo>
                  <a:cubicBezTo>
                    <a:pt x="2053" y="279"/>
                    <a:pt x="2047" y="325"/>
                    <a:pt x="2037" y="378"/>
                  </a:cubicBezTo>
                  <a:cubicBezTo>
                    <a:pt x="2027" y="431"/>
                    <a:pt x="2015" y="500"/>
                    <a:pt x="1995" y="552"/>
                  </a:cubicBezTo>
                  <a:cubicBezTo>
                    <a:pt x="1975" y="604"/>
                    <a:pt x="1947" y="650"/>
                    <a:pt x="1917" y="693"/>
                  </a:cubicBezTo>
                  <a:cubicBezTo>
                    <a:pt x="1887" y="736"/>
                    <a:pt x="1858" y="776"/>
                    <a:pt x="1812" y="810"/>
                  </a:cubicBezTo>
                  <a:cubicBezTo>
                    <a:pt x="1766" y="844"/>
                    <a:pt x="1715" y="870"/>
                    <a:pt x="1644" y="897"/>
                  </a:cubicBezTo>
                  <a:cubicBezTo>
                    <a:pt x="1573" y="924"/>
                    <a:pt x="1504" y="951"/>
                    <a:pt x="1383" y="975"/>
                  </a:cubicBezTo>
                  <a:cubicBezTo>
                    <a:pt x="1262" y="999"/>
                    <a:pt x="1073" y="1024"/>
                    <a:pt x="918" y="1041"/>
                  </a:cubicBezTo>
                  <a:cubicBezTo>
                    <a:pt x="763" y="1058"/>
                    <a:pt x="572" y="1069"/>
                    <a:pt x="453" y="1077"/>
                  </a:cubicBezTo>
                  <a:cubicBezTo>
                    <a:pt x="334" y="1085"/>
                    <a:pt x="279" y="1087"/>
                    <a:pt x="204" y="1089"/>
                  </a:cubicBezTo>
                  <a:cubicBezTo>
                    <a:pt x="129" y="1091"/>
                    <a:pt x="34" y="1092"/>
                    <a:pt x="0" y="10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24000" y="2711160"/>
            <a:ext cx="1014120" cy="1317960"/>
            <a:chOff x="324000" y="2711160"/>
            <a:chExt cx="1014120" cy="1317960"/>
          </a:xfrm>
        </p:grpSpPr>
        <p:grpSp>
          <p:nvGrpSpPr>
            <p:cNvPr id="813" name=""/>
            <p:cNvGrpSpPr/>
            <p:nvPr/>
          </p:nvGrpSpPr>
          <p:grpSpPr>
            <a:xfrm>
              <a:off x="324000" y="2711160"/>
              <a:ext cx="934920" cy="1079280"/>
              <a:chOff x="324000" y="2711160"/>
              <a:chExt cx="934920" cy="1079280"/>
            </a:xfrm>
          </p:grpSpPr>
          <p:grpSp>
            <p:nvGrpSpPr>
              <p:cNvPr id="814" name=""/>
              <p:cNvGrpSpPr/>
              <p:nvPr/>
            </p:nvGrpSpPr>
            <p:grpSpPr>
              <a:xfrm>
                <a:off x="324000" y="2711160"/>
                <a:ext cx="862920" cy="647640"/>
                <a:chOff x="324000" y="2711160"/>
                <a:chExt cx="862920" cy="647640"/>
              </a:xfrm>
            </p:grpSpPr>
            <p:sp>
              <p:nvSpPr>
                <p:cNvPr id="815" name=""/>
                <p:cNvSpPr/>
                <p:nvPr/>
              </p:nvSpPr>
              <p:spPr>
                <a:xfrm flipV="1">
                  <a:off x="610920" y="2926800"/>
                  <a:ext cx="14400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 flipV="1">
                  <a:off x="754920" y="29268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7" name=""/>
                <p:cNvGrpSpPr/>
                <p:nvPr/>
              </p:nvGrpSpPr>
              <p:grpSpPr>
                <a:xfrm>
                  <a:off x="324000" y="2711160"/>
                  <a:ext cx="862920" cy="647640"/>
                  <a:chOff x="324000" y="2711160"/>
                  <a:chExt cx="862920" cy="64764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 flipV="1">
                    <a:off x="539640" y="2711160"/>
                    <a:ext cx="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V="1">
                    <a:off x="972720" y="2711160"/>
                    <a:ext cx="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324000" y="2998440"/>
                    <a:ext cx="862920" cy="71280"/>
                    <a:chOff x="324000" y="2998440"/>
                    <a:chExt cx="862920" cy="7128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324000" y="2998440"/>
                      <a:ext cx="2156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971280" y="2998440"/>
                      <a:ext cx="2156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539640" y="2999880"/>
                      <a:ext cx="70920" cy="698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 flipV="1">
                      <a:off x="900000" y="2998440"/>
                      <a:ext cx="70920" cy="712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25" name=""/>
              <p:cNvSpPr/>
              <p:nvPr/>
            </p:nvSpPr>
            <p:spPr>
              <a:xfrm flipH="1" flipV="1">
                <a:off x="755640" y="3359160"/>
                <a:ext cx="503280" cy="431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1282680" y="3691080"/>
              <a:ext cx="55440" cy="338040"/>
            </a:xfrm>
            <a:custGeom>
              <a:avLst/>
              <a:gdLst/>
              <a:ahLst/>
              <a:rect l="l" t="t" r="r" b="b"/>
              <a:pathLst>
                <a:path w="35" h="213">
                  <a:moveTo>
                    <a:pt x="2" y="0"/>
                  </a:moveTo>
                  <a:cubicBezTo>
                    <a:pt x="1" y="66"/>
                    <a:pt x="0" y="132"/>
                    <a:pt x="2" y="165"/>
                  </a:cubicBezTo>
                  <a:cubicBezTo>
                    <a:pt x="4" y="198"/>
                    <a:pt x="6" y="190"/>
                    <a:pt x="11" y="198"/>
                  </a:cubicBezTo>
                  <a:cubicBezTo>
                    <a:pt x="16" y="206"/>
                    <a:pt x="31" y="211"/>
                    <a:pt x="35" y="21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343160" y="4029120"/>
            <a:ext cx="3276360" cy="1438200"/>
            <a:chOff x="1343160" y="4029120"/>
            <a:chExt cx="3276360" cy="1438200"/>
          </a:xfrm>
        </p:grpSpPr>
        <p:grpSp>
          <p:nvGrpSpPr>
            <p:cNvPr id="828" name=""/>
            <p:cNvGrpSpPr/>
            <p:nvPr/>
          </p:nvGrpSpPr>
          <p:grpSpPr>
            <a:xfrm>
              <a:off x="1877040" y="4172040"/>
              <a:ext cx="1216440" cy="1150920"/>
              <a:chOff x="1877040" y="4172040"/>
              <a:chExt cx="1216440" cy="115092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1877040" y="4675320"/>
                <a:ext cx="932040" cy="647640"/>
                <a:chOff x="1877040" y="4675320"/>
                <a:chExt cx="932040" cy="64764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2091960" y="4675320"/>
                  <a:ext cx="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94160" y="4675320"/>
                  <a:ext cx="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877040" y="4891320"/>
                  <a:ext cx="214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594160" y="4891320"/>
                  <a:ext cx="214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091960" y="4891320"/>
                  <a:ext cx="250920" cy="215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2342880" y="4891320"/>
                  <a:ext cx="250920" cy="215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6" name=""/>
              <p:cNvSpPr/>
              <p:nvPr/>
            </p:nvSpPr>
            <p:spPr>
              <a:xfrm flipH="1">
                <a:off x="2377440" y="4172040"/>
                <a:ext cx="716040" cy="505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3445200" y="4160880"/>
              <a:ext cx="260280" cy="38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343160" y="4029120"/>
              <a:ext cx="3276360" cy="1438200"/>
            </a:xfrm>
            <a:custGeom>
              <a:avLst/>
              <a:gdLst/>
              <a:ahLst/>
              <a:rect l="l" t="t" r="r" b="b"/>
              <a:pathLst>
                <a:path w="2073" h="906">
                  <a:moveTo>
                    <a:pt x="0" y="0"/>
                  </a:moveTo>
                  <a:cubicBezTo>
                    <a:pt x="288" y="13"/>
                    <a:pt x="577" y="26"/>
                    <a:pt x="768" y="36"/>
                  </a:cubicBezTo>
                  <a:cubicBezTo>
                    <a:pt x="959" y="46"/>
                    <a:pt x="1038" y="53"/>
                    <a:pt x="1149" y="63"/>
                  </a:cubicBezTo>
                  <a:cubicBezTo>
                    <a:pt x="1260" y="73"/>
                    <a:pt x="1364" y="85"/>
                    <a:pt x="1437" y="96"/>
                  </a:cubicBezTo>
                  <a:cubicBezTo>
                    <a:pt x="1510" y="107"/>
                    <a:pt x="1540" y="116"/>
                    <a:pt x="1587" y="129"/>
                  </a:cubicBezTo>
                  <a:cubicBezTo>
                    <a:pt x="1634" y="142"/>
                    <a:pt x="1681" y="158"/>
                    <a:pt x="1722" y="177"/>
                  </a:cubicBezTo>
                  <a:cubicBezTo>
                    <a:pt x="1763" y="196"/>
                    <a:pt x="1797" y="216"/>
                    <a:pt x="1830" y="243"/>
                  </a:cubicBezTo>
                  <a:cubicBezTo>
                    <a:pt x="1863" y="270"/>
                    <a:pt x="1897" y="305"/>
                    <a:pt x="1923" y="342"/>
                  </a:cubicBezTo>
                  <a:cubicBezTo>
                    <a:pt x="1949" y="379"/>
                    <a:pt x="1967" y="414"/>
                    <a:pt x="1986" y="465"/>
                  </a:cubicBezTo>
                  <a:cubicBezTo>
                    <a:pt x="2005" y="516"/>
                    <a:pt x="2023" y="575"/>
                    <a:pt x="2037" y="648"/>
                  </a:cubicBezTo>
                  <a:cubicBezTo>
                    <a:pt x="2051" y="721"/>
                    <a:pt x="2062" y="813"/>
                    <a:pt x="2073" y="90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4619520" y="5081760"/>
            <a:ext cx="112680" cy="650880"/>
          </a:xfrm>
          <a:custGeom>
            <a:avLst/>
            <a:gdLst/>
            <a:ahLst/>
            <a:rect l="l" t="t" r="r" b="b"/>
            <a:pathLst>
              <a:path w="71" h="410">
                <a:moveTo>
                  <a:pt x="0" y="243"/>
                </a:moveTo>
                <a:cubicBezTo>
                  <a:pt x="1" y="270"/>
                  <a:pt x="3" y="298"/>
                  <a:pt x="5" y="323"/>
                </a:cubicBezTo>
                <a:cubicBezTo>
                  <a:pt x="7" y="348"/>
                  <a:pt x="9" y="381"/>
                  <a:pt x="11" y="395"/>
                </a:cubicBezTo>
                <a:cubicBezTo>
                  <a:pt x="13" y="409"/>
                  <a:pt x="13" y="406"/>
                  <a:pt x="15" y="408"/>
                </a:cubicBezTo>
                <a:cubicBezTo>
                  <a:pt x="17" y="410"/>
                  <a:pt x="24" y="410"/>
                  <a:pt x="26" y="405"/>
                </a:cubicBezTo>
                <a:cubicBezTo>
                  <a:pt x="28" y="400"/>
                  <a:pt x="28" y="395"/>
                  <a:pt x="30" y="377"/>
                </a:cubicBezTo>
                <a:cubicBezTo>
                  <a:pt x="32" y="359"/>
                  <a:pt x="34" y="323"/>
                  <a:pt x="36" y="294"/>
                </a:cubicBezTo>
                <a:cubicBezTo>
                  <a:pt x="38" y="265"/>
                  <a:pt x="40" y="230"/>
                  <a:pt x="42" y="203"/>
                </a:cubicBezTo>
                <a:cubicBezTo>
                  <a:pt x="44" y="176"/>
                  <a:pt x="45" y="156"/>
                  <a:pt x="48" y="132"/>
                </a:cubicBezTo>
                <a:cubicBezTo>
                  <a:pt x="51" y="108"/>
                  <a:pt x="55" y="81"/>
                  <a:pt x="59" y="59"/>
                </a:cubicBezTo>
                <a:cubicBezTo>
                  <a:pt x="63" y="37"/>
                  <a:pt x="67" y="18"/>
                  <a:pt x="7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4389480" y="17794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417024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6848640" y="3630600"/>
            <a:ext cx="110880" cy="442800"/>
            <a:chOff x="6848640" y="3630600"/>
            <a:chExt cx="110880" cy="442800"/>
          </a:xfrm>
        </p:grpSpPr>
        <p:sp>
          <p:nvSpPr>
            <p:cNvPr id="843" name=""/>
            <p:cNvSpPr/>
            <p:nvPr/>
          </p:nvSpPr>
          <p:spPr>
            <a:xfrm rot="10800000">
              <a:off x="6850080" y="3630600"/>
              <a:ext cx="109440" cy="442800"/>
            </a:xfrm>
            <a:custGeom>
              <a:avLst/>
              <a:gdLst/>
              <a:ahLst/>
              <a:rect l="l" t="t" r="r" b="b"/>
              <a:pathLst>
                <a:path w="69" h="270">
                  <a:moveTo>
                    <a:pt x="69" y="270"/>
                  </a:moveTo>
                  <a:cubicBezTo>
                    <a:pt x="68" y="211"/>
                    <a:pt x="67" y="153"/>
                    <a:pt x="66" y="117"/>
                  </a:cubicBezTo>
                  <a:cubicBezTo>
                    <a:pt x="65" y="81"/>
                    <a:pt x="65" y="69"/>
                    <a:pt x="63" y="54"/>
                  </a:cubicBezTo>
                  <a:cubicBezTo>
                    <a:pt x="61" y="39"/>
                    <a:pt x="55" y="31"/>
                    <a:pt x="51" y="24"/>
                  </a:cubicBezTo>
                  <a:cubicBezTo>
                    <a:pt x="47" y="17"/>
                    <a:pt x="44" y="16"/>
                    <a:pt x="36" y="12"/>
                  </a:cubicBezTo>
                  <a:cubicBezTo>
                    <a:pt x="28" y="8"/>
                    <a:pt x="8" y="2"/>
                    <a:pt x="0" y="0"/>
                  </a:cubicBezTo>
                </a:path>
              </a:pathLst>
            </a:cu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48640" y="3757680"/>
              <a:ext cx="4680" cy="109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6862680" y="3638520"/>
            <a:ext cx="109800" cy="428760"/>
            <a:chOff x="6862680" y="3638520"/>
            <a:chExt cx="109800" cy="428760"/>
          </a:xfrm>
        </p:grpSpPr>
        <p:sp>
          <p:nvSpPr>
            <p:cNvPr id="846" name=""/>
            <p:cNvSpPr/>
            <p:nvPr/>
          </p:nvSpPr>
          <p:spPr>
            <a:xfrm>
              <a:off x="6862680" y="3638520"/>
              <a:ext cx="109800" cy="428760"/>
            </a:xfrm>
            <a:custGeom>
              <a:avLst/>
              <a:gdLst/>
              <a:ahLst/>
              <a:rect l="l" t="t" r="r" b="b"/>
              <a:pathLst>
                <a:path w="69" h="270">
                  <a:moveTo>
                    <a:pt x="69" y="270"/>
                  </a:moveTo>
                  <a:cubicBezTo>
                    <a:pt x="68" y="211"/>
                    <a:pt x="67" y="153"/>
                    <a:pt x="66" y="117"/>
                  </a:cubicBezTo>
                  <a:cubicBezTo>
                    <a:pt x="65" y="81"/>
                    <a:pt x="65" y="69"/>
                    <a:pt x="63" y="54"/>
                  </a:cubicBezTo>
                  <a:cubicBezTo>
                    <a:pt x="61" y="39"/>
                    <a:pt x="55" y="31"/>
                    <a:pt x="51" y="24"/>
                  </a:cubicBezTo>
                  <a:cubicBezTo>
                    <a:pt x="47" y="17"/>
                    <a:pt x="44" y="16"/>
                    <a:pt x="36" y="12"/>
                  </a:cubicBezTo>
                  <a:cubicBezTo>
                    <a:pt x="28" y="8"/>
                    <a:pt x="8" y="2"/>
                    <a:pt x="0" y="0"/>
                  </a:cubicBezTo>
                </a:path>
              </a:pathLst>
            </a:cu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6969240" y="3868200"/>
              <a:ext cx="0" cy="142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5510160" y="3603600"/>
            <a:ext cx="50760" cy="644400"/>
            <a:chOff x="5510160" y="3603600"/>
            <a:chExt cx="50760" cy="644400"/>
          </a:xfrm>
        </p:grpSpPr>
        <p:sp>
          <p:nvSpPr>
            <p:cNvPr id="849" name=""/>
            <p:cNvSpPr/>
            <p:nvPr/>
          </p:nvSpPr>
          <p:spPr>
            <a:xfrm>
              <a:off x="5510160" y="3603600"/>
              <a:ext cx="50760" cy="644400"/>
            </a:xfrm>
            <a:custGeom>
              <a:avLst/>
              <a:gdLst/>
              <a:ahLst/>
              <a:rect l="l" t="t" r="r" b="b"/>
              <a:pathLst>
                <a:path w="32" h="406">
                  <a:moveTo>
                    <a:pt x="32" y="406"/>
                  </a:moveTo>
                  <a:cubicBezTo>
                    <a:pt x="28" y="308"/>
                    <a:pt x="25" y="211"/>
                    <a:pt x="23" y="163"/>
                  </a:cubicBezTo>
                  <a:cubicBezTo>
                    <a:pt x="21" y="115"/>
                    <a:pt x="22" y="132"/>
                    <a:pt x="21" y="115"/>
                  </a:cubicBezTo>
                  <a:cubicBezTo>
                    <a:pt x="20" y="98"/>
                    <a:pt x="19" y="78"/>
                    <a:pt x="17" y="61"/>
                  </a:cubicBezTo>
                  <a:cubicBezTo>
                    <a:pt x="15" y="44"/>
                    <a:pt x="11" y="25"/>
                    <a:pt x="8" y="15"/>
                  </a:cubicBezTo>
                  <a:cubicBezTo>
                    <a:pt x="5" y="5"/>
                    <a:pt x="2" y="2"/>
                    <a:pt x="0" y="0"/>
                  </a:cubicBezTo>
                </a:path>
              </a:pathLst>
            </a:cu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5555880" y="4141440"/>
              <a:ext cx="3240" cy="572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501880" y="3606480"/>
            <a:ext cx="50760" cy="492120"/>
            <a:chOff x="5501880" y="3606480"/>
            <a:chExt cx="50760" cy="492120"/>
          </a:xfrm>
        </p:grpSpPr>
        <p:sp>
          <p:nvSpPr>
            <p:cNvPr id="852" name=""/>
            <p:cNvSpPr/>
            <p:nvPr/>
          </p:nvSpPr>
          <p:spPr>
            <a:xfrm rot="10800000">
              <a:off x="5501880" y="3606480"/>
              <a:ext cx="50760" cy="492120"/>
            </a:xfrm>
            <a:custGeom>
              <a:avLst/>
              <a:gdLst/>
              <a:ahLst/>
              <a:rect l="l" t="t" r="r" b="b"/>
              <a:pathLst>
                <a:path w="32" h="406">
                  <a:moveTo>
                    <a:pt x="32" y="406"/>
                  </a:moveTo>
                  <a:cubicBezTo>
                    <a:pt x="28" y="308"/>
                    <a:pt x="25" y="211"/>
                    <a:pt x="23" y="163"/>
                  </a:cubicBezTo>
                  <a:cubicBezTo>
                    <a:pt x="21" y="115"/>
                    <a:pt x="22" y="132"/>
                    <a:pt x="21" y="115"/>
                  </a:cubicBezTo>
                  <a:cubicBezTo>
                    <a:pt x="20" y="98"/>
                    <a:pt x="19" y="78"/>
                    <a:pt x="17" y="61"/>
                  </a:cubicBezTo>
                  <a:cubicBezTo>
                    <a:pt x="15" y="44"/>
                    <a:pt x="11" y="25"/>
                    <a:pt x="8" y="15"/>
                  </a:cubicBezTo>
                  <a:cubicBezTo>
                    <a:pt x="5" y="5"/>
                    <a:pt x="2" y="2"/>
                    <a:pt x="0" y="0"/>
                  </a:cubicBezTo>
                </a:path>
              </a:pathLst>
            </a:cu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05480" y="3689280"/>
              <a:ext cx="4680" cy="1065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662040" y="0"/>
            <a:ext cx="777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Magnetization and AC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24000" y="838080"/>
            <a:ext cx="570528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 losses are the work done by the external fiel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f the sample is taken round a closed magnetization loop such that the finishing conditions are the same as the starting conditions it may be shown that the ac loss Q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341360" y="2311560"/>
                <a:ext cx="26640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dH</m:t>
                        </m:r>
                        <m:r>
                          <m:t xml:space="preserve">=</m:t>
                        </m:r>
                        <m:nary>
                          <m:naryPr>
                            <m:chr m:val="∮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HdM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4645080" y="2590920"/>
            <a:ext cx="4024080" cy="3025800"/>
          </a:xfrm>
          <a:prstGeom prst="rect">
            <a:avLst/>
          </a:prstGeom>
          <a:ln w="0">
            <a:noFill/>
          </a:ln>
        </p:spPr>
      </p:pic>
      <p:grpSp>
        <p:nvGrpSpPr>
          <p:cNvPr id="858" name=""/>
          <p:cNvGrpSpPr/>
          <p:nvPr/>
        </p:nvGrpSpPr>
        <p:grpSpPr>
          <a:xfrm>
            <a:off x="407880" y="2671920"/>
            <a:ext cx="8132760" cy="2884320"/>
            <a:chOff x="407880" y="2671920"/>
            <a:chExt cx="8132760" cy="2884320"/>
          </a:xfrm>
        </p:grpSpPr>
        <p:sp>
          <p:nvSpPr>
            <p:cNvPr id="859" name=""/>
            <p:cNvSpPr/>
            <p:nvPr/>
          </p:nvSpPr>
          <p:spPr>
            <a:xfrm>
              <a:off x="407880" y="3438360"/>
              <a:ext cx="4046760" cy="10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Aft>
                  <a:spcPts val="146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GB" sz="1800" spc="-1" strike="noStrike">
                  <a:solidFill>
                    <a:srgbClr val="0000ff"/>
                  </a:solidFill>
                  <a:latin typeface="Arial"/>
                </a:rPr>
                <a:t>= area of magnetization lo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Aft>
                  <a:spcPts val="13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or a proof see any text book on Thermodynam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88000" y="2671920"/>
              <a:ext cx="3752640" cy="2884320"/>
            </a:xfrm>
            <a:custGeom>
              <a:avLst/>
              <a:gdLst/>
              <a:ahLst/>
              <a:rect l="l" t="t" r="r" b="b"/>
              <a:pathLst>
                <a:path w="2060" h="1642">
                  <a:moveTo>
                    <a:pt x="1032" y="79"/>
                  </a:moveTo>
                  <a:cubicBezTo>
                    <a:pt x="1038" y="98"/>
                    <a:pt x="1041" y="133"/>
                    <a:pt x="1047" y="163"/>
                  </a:cubicBezTo>
                  <a:cubicBezTo>
                    <a:pt x="1053" y="193"/>
                    <a:pt x="1056" y="227"/>
                    <a:pt x="1068" y="259"/>
                  </a:cubicBezTo>
                  <a:cubicBezTo>
                    <a:pt x="1080" y="291"/>
                    <a:pt x="1095" y="322"/>
                    <a:pt x="1116" y="352"/>
                  </a:cubicBezTo>
                  <a:cubicBezTo>
                    <a:pt x="1137" y="382"/>
                    <a:pt x="1165" y="410"/>
                    <a:pt x="1194" y="436"/>
                  </a:cubicBezTo>
                  <a:cubicBezTo>
                    <a:pt x="1223" y="462"/>
                    <a:pt x="1246" y="486"/>
                    <a:pt x="1293" y="511"/>
                  </a:cubicBezTo>
                  <a:cubicBezTo>
                    <a:pt x="1340" y="536"/>
                    <a:pt x="1407" y="565"/>
                    <a:pt x="1479" y="586"/>
                  </a:cubicBezTo>
                  <a:cubicBezTo>
                    <a:pt x="1551" y="607"/>
                    <a:pt x="1652" y="624"/>
                    <a:pt x="1722" y="637"/>
                  </a:cubicBezTo>
                  <a:cubicBezTo>
                    <a:pt x="1792" y="650"/>
                    <a:pt x="1855" y="654"/>
                    <a:pt x="1899" y="661"/>
                  </a:cubicBezTo>
                  <a:cubicBezTo>
                    <a:pt x="1943" y="668"/>
                    <a:pt x="1967" y="674"/>
                    <a:pt x="1986" y="679"/>
                  </a:cubicBezTo>
                  <a:cubicBezTo>
                    <a:pt x="2005" y="684"/>
                    <a:pt x="2008" y="685"/>
                    <a:pt x="2013" y="691"/>
                  </a:cubicBezTo>
                  <a:cubicBezTo>
                    <a:pt x="2018" y="697"/>
                    <a:pt x="2013" y="667"/>
                    <a:pt x="2019" y="718"/>
                  </a:cubicBezTo>
                  <a:cubicBezTo>
                    <a:pt x="2025" y="769"/>
                    <a:pt x="2045" y="948"/>
                    <a:pt x="2049" y="997"/>
                  </a:cubicBezTo>
                  <a:cubicBezTo>
                    <a:pt x="2053" y="1046"/>
                    <a:pt x="2051" y="1011"/>
                    <a:pt x="2046" y="1015"/>
                  </a:cubicBezTo>
                  <a:cubicBezTo>
                    <a:pt x="2041" y="1019"/>
                    <a:pt x="2060" y="1016"/>
                    <a:pt x="2022" y="1021"/>
                  </a:cubicBezTo>
                  <a:cubicBezTo>
                    <a:pt x="1984" y="1026"/>
                    <a:pt x="1887" y="1038"/>
                    <a:pt x="1815" y="1048"/>
                  </a:cubicBezTo>
                  <a:cubicBezTo>
                    <a:pt x="1743" y="1058"/>
                    <a:pt x="1663" y="1062"/>
                    <a:pt x="1593" y="1078"/>
                  </a:cubicBezTo>
                  <a:cubicBezTo>
                    <a:pt x="1523" y="1094"/>
                    <a:pt x="1456" y="1112"/>
                    <a:pt x="1395" y="1141"/>
                  </a:cubicBezTo>
                  <a:cubicBezTo>
                    <a:pt x="1334" y="1170"/>
                    <a:pt x="1271" y="1206"/>
                    <a:pt x="1227" y="1249"/>
                  </a:cubicBezTo>
                  <a:cubicBezTo>
                    <a:pt x="1183" y="1292"/>
                    <a:pt x="1152" y="1355"/>
                    <a:pt x="1131" y="1402"/>
                  </a:cubicBezTo>
                  <a:cubicBezTo>
                    <a:pt x="1110" y="1449"/>
                    <a:pt x="1110" y="1494"/>
                    <a:pt x="1101" y="1528"/>
                  </a:cubicBezTo>
                  <a:cubicBezTo>
                    <a:pt x="1092" y="1562"/>
                    <a:pt x="1084" y="1590"/>
                    <a:pt x="1080" y="1606"/>
                  </a:cubicBezTo>
                  <a:cubicBezTo>
                    <a:pt x="1076" y="1622"/>
                    <a:pt x="1079" y="1621"/>
                    <a:pt x="1077" y="1627"/>
                  </a:cubicBezTo>
                  <a:cubicBezTo>
                    <a:pt x="1075" y="1633"/>
                    <a:pt x="1069" y="1642"/>
                    <a:pt x="1065" y="1642"/>
                  </a:cubicBezTo>
                  <a:cubicBezTo>
                    <a:pt x="1061" y="1642"/>
                    <a:pt x="1055" y="1641"/>
                    <a:pt x="1050" y="1630"/>
                  </a:cubicBezTo>
                  <a:cubicBezTo>
                    <a:pt x="1045" y="1619"/>
                    <a:pt x="1038" y="1583"/>
                    <a:pt x="1032" y="1573"/>
                  </a:cubicBezTo>
                  <a:cubicBezTo>
                    <a:pt x="1026" y="1563"/>
                    <a:pt x="1019" y="1577"/>
                    <a:pt x="1014" y="1567"/>
                  </a:cubicBezTo>
                  <a:cubicBezTo>
                    <a:pt x="1009" y="1557"/>
                    <a:pt x="1009" y="1539"/>
                    <a:pt x="1002" y="1510"/>
                  </a:cubicBezTo>
                  <a:cubicBezTo>
                    <a:pt x="995" y="1481"/>
                    <a:pt x="982" y="1417"/>
                    <a:pt x="975" y="1393"/>
                  </a:cubicBezTo>
                  <a:cubicBezTo>
                    <a:pt x="968" y="1369"/>
                    <a:pt x="970" y="1384"/>
                    <a:pt x="957" y="1363"/>
                  </a:cubicBezTo>
                  <a:cubicBezTo>
                    <a:pt x="944" y="1342"/>
                    <a:pt x="921" y="1294"/>
                    <a:pt x="897" y="1267"/>
                  </a:cubicBezTo>
                  <a:cubicBezTo>
                    <a:pt x="873" y="1240"/>
                    <a:pt x="835" y="1216"/>
                    <a:pt x="813" y="1198"/>
                  </a:cubicBezTo>
                  <a:cubicBezTo>
                    <a:pt x="791" y="1180"/>
                    <a:pt x="787" y="1173"/>
                    <a:pt x="762" y="1159"/>
                  </a:cubicBezTo>
                  <a:cubicBezTo>
                    <a:pt x="737" y="1145"/>
                    <a:pt x="695" y="1125"/>
                    <a:pt x="660" y="1111"/>
                  </a:cubicBezTo>
                  <a:cubicBezTo>
                    <a:pt x="625" y="1097"/>
                    <a:pt x="591" y="1084"/>
                    <a:pt x="549" y="1072"/>
                  </a:cubicBezTo>
                  <a:cubicBezTo>
                    <a:pt x="507" y="1060"/>
                    <a:pt x="459" y="1047"/>
                    <a:pt x="408" y="1036"/>
                  </a:cubicBezTo>
                  <a:cubicBezTo>
                    <a:pt x="357" y="1025"/>
                    <a:pt x="288" y="1014"/>
                    <a:pt x="243" y="1006"/>
                  </a:cubicBezTo>
                  <a:cubicBezTo>
                    <a:pt x="198" y="998"/>
                    <a:pt x="167" y="996"/>
                    <a:pt x="138" y="991"/>
                  </a:cubicBezTo>
                  <a:cubicBezTo>
                    <a:pt x="109" y="986"/>
                    <a:pt x="84" y="984"/>
                    <a:pt x="69" y="979"/>
                  </a:cubicBezTo>
                  <a:cubicBezTo>
                    <a:pt x="54" y="974"/>
                    <a:pt x="51" y="970"/>
                    <a:pt x="45" y="961"/>
                  </a:cubicBezTo>
                  <a:cubicBezTo>
                    <a:pt x="39" y="952"/>
                    <a:pt x="37" y="953"/>
                    <a:pt x="33" y="928"/>
                  </a:cubicBezTo>
                  <a:cubicBezTo>
                    <a:pt x="29" y="903"/>
                    <a:pt x="23" y="856"/>
                    <a:pt x="18" y="811"/>
                  </a:cubicBezTo>
                  <a:cubicBezTo>
                    <a:pt x="13" y="766"/>
                    <a:pt x="0" y="683"/>
                    <a:pt x="0" y="655"/>
                  </a:cubicBezTo>
                  <a:cubicBezTo>
                    <a:pt x="0" y="627"/>
                    <a:pt x="7" y="644"/>
                    <a:pt x="18" y="640"/>
                  </a:cubicBezTo>
                  <a:cubicBezTo>
                    <a:pt x="29" y="636"/>
                    <a:pt x="18" y="638"/>
                    <a:pt x="69" y="631"/>
                  </a:cubicBezTo>
                  <a:cubicBezTo>
                    <a:pt x="120" y="624"/>
                    <a:pt x="241" y="613"/>
                    <a:pt x="324" y="598"/>
                  </a:cubicBezTo>
                  <a:cubicBezTo>
                    <a:pt x="407" y="583"/>
                    <a:pt x="502" y="563"/>
                    <a:pt x="570" y="541"/>
                  </a:cubicBezTo>
                  <a:cubicBezTo>
                    <a:pt x="638" y="519"/>
                    <a:pt x="691" y="492"/>
                    <a:pt x="735" y="466"/>
                  </a:cubicBezTo>
                  <a:cubicBezTo>
                    <a:pt x="779" y="440"/>
                    <a:pt x="809" y="416"/>
                    <a:pt x="837" y="385"/>
                  </a:cubicBezTo>
                  <a:cubicBezTo>
                    <a:pt x="865" y="354"/>
                    <a:pt x="888" y="319"/>
                    <a:pt x="906" y="280"/>
                  </a:cubicBezTo>
                  <a:cubicBezTo>
                    <a:pt x="924" y="241"/>
                    <a:pt x="937" y="190"/>
                    <a:pt x="948" y="151"/>
                  </a:cubicBezTo>
                  <a:cubicBezTo>
                    <a:pt x="959" y="112"/>
                    <a:pt x="967" y="68"/>
                    <a:pt x="972" y="46"/>
                  </a:cubicBezTo>
                  <a:cubicBezTo>
                    <a:pt x="977" y="24"/>
                    <a:pt x="975" y="26"/>
                    <a:pt x="978" y="19"/>
                  </a:cubicBezTo>
                  <a:cubicBezTo>
                    <a:pt x="981" y="12"/>
                    <a:pt x="987" y="0"/>
                    <a:pt x="990" y="1"/>
                  </a:cubicBezTo>
                  <a:cubicBezTo>
                    <a:pt x="993" y="2"/>
                    <a:pt x="993" y="15"/>
                    <a:pt x="996" y="22"/>
                  </a:cubicBezTo>
                  <a:cubicBezTo>
                    <a:pt x="999" y="29"/>
                    <a:pt x="1004" y="38"/>
                    <a:pt x="1008" y="46"/>
                  </a:cubicBezTo>
                  <a:cubicBezTo>
                    <a:pt x="1012" y="54"/>
                    <a:pt x="1026" y="60"/>
                    <a:pt x="1032" y="79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4645080" y="2521080"/>
            <a:ext cx="4184280" cy="3274560"/>
            <a:chOff x="4645080" y="2521080"/>
            <a:chExt cx="4184280" cy="3274560"/>
          </a:xfrm>
        </p:grpSpPr>
        <p:sp>
          <p:nvSpPr>
            <p:cNvPr id="862" name=""/>
            <p:cNvSpPr/>
            <p:nvPr/>
          </p:nvSpPr>
          <p:spPr>
            <a:xfrm>
              <a:off x="6657120" y="2521080"/>
              <a:ext cx="0" cy="3274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645080" y="4123440"/>
              <a:ext cx="4184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20480" y="264636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411760" y="3486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800280" y="2876400"/>
            <a:ext cx="38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4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in Jm-3 an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in units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422280" y="4595760"/>
            <a:ext cx="3971880" cy="1519200"/>
            <a:chOff x="422280" y="4595760"/>
            <a:chExt cx="3971880" cy="1519200"/>
          </a:xfrm>
        </p:grpSpPr>
        <mc:AlternateContent>
          <mc:Choice xmlns:a14="http://schemas.microsoft.com/office/drawing/2010/main" Requires="a14">
            <p:sp>
              <p:nvSpPr>
                <p:cNvPr id="868" name=""/>
                <p:cNvSpPr txBox="1"/>
                <p:nvPr/>
              </p:nvSpPr>
              <p:spPr>
                <a:xfrm>
                  <a:off x="1846440" y="5640480"/>
                  <a:ext cx="119664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nary>
                        <m:naryPr>
                          <m:chr m:val="∮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MdB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69" name=""/>
            <p:cNvSpPr/>
            <p:nvPr/>
          </p:nvSpPr>
          <p:spPr>
            <a:xfrm>
              <a:off x="422280" y="4595760"/>
              <a:ext cx="3971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f the magnetization is small compared to the external field (almost always the case) we may also wr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198360" y="109440"/>
            <a:ext cx="8945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AC Losses: </a:t>
            </a:r>
            <a:r>
              <a:rPr b="0" i="1" lang="en-GB" sz="2800" spc="-1" strike="noStrike">
                <a:solidFill>
                  <a:srgbClr val="333399"/>
                </a:solidFill>
                <a:latin typeface="Lucida Bright"/>
              </a:rPr>
              <a:t>below penetration</a:t>
            </a: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 </a:t>
            </a:r>
            <a:r>
              <a:rPr b="0" i="1" lang="en-GB" sz="2400" spc="-1" strike="noStrike">
                <a:solidFill>
                  <a:srgbClr val="333399"/>
                </a:solidFill>
                <a:latin typeface="Lucida Bright"/>
              </a:rPr>
              <a:t>(small field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6097680" y="858960"/>
            <a:ext cx="2000160" cy="1404000"/>
            <a:chOff x="6097680" y="858960"/>
            <a:chExt cx="2000160" cy="1404000"/>
          </a:xfrm>
        </p:grpSpPr>
        <p:sp>
          <p:nvSpPr>
            <p:cNvPr id="872" name=""/>
            <p:cNvSpPr/>
            <p:nvPr/>
          </p:nvSpPr>
          <p:spPr>
            <a:xfrm>
              <a:off x="6097680" y="133272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6726960" y="858960"/>
              <a:ext cx="1370880" cy="1404000"/>
              <a:chOff x="6726960" y="858960"/>
              <a:chExt cx="1370880" cy="1404000"/>
            </a:xfrm>
          </p:grpSpPr>
          <p:sp>
            <p:nvSpPr>
              <p:cNvPr id="874" name=""/>
              <p:cNvSpPr/>
              <p:nvPr/>
            </p:nvSpPr>
            <p:spPr>
              <a:xfrm>
                <a:off x="7003800" y="858960"/>
                <a:ext cx="0" cy="14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928640" y="860760"/>
                <a:ext cx="0" cy="140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6" name=""/>
              <p:cNvGrpSpPr/>
              <p:nvPr/>
            </p:nvGrpSpPr>
            <p:grpSpPr>
              <a:xfrm>
                <a:off x="6841800" y="1037160"/>
                <a:ext cx="1256040" cy="527760"/>
                <a:chOff x="6841800" y="1037160"/>
                <a:chExt cx="1256040" cy="52776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7007400" y="1041120"/>
                  <a:ext cx="459000" cy="5220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7462800" y="1042920"/>
                  <a:ext cx="458640" cy="5220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930080" y="1037160"/>
                  <a:ext cx="16776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841800" y="1042920"/>
                  <a:ext cx="16776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6840000" y="1552680"/>
                <a:ext cx="1255680" cy="527760"/>
                <a:chOff x="6840000" y="1552680"/>
                <a:chExt cx="1255680" cy="527760"/>
              </a:xfrm>
            </p:grpSpPr>
            <p:sp>
              <p:nvSpPr>
                <p:cNvPr id="882" name=""/>
                <p:cNvSpPr/>
                <p:nvPr/>
              </p:nvSpPr>
              <p:spPr>
                <a:xfrm flipV="1">
                  <a:off x="7005600" y="1554480"/>
                  <a:ext cx="459000" cy="5220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flipV="1">
                  <a:off x="7460640" y="1552680"/>
                  <a:ext cx="458640" cy="5220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7927920" y="2080440"/>
                  <a:ext cx="16776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840000" y="2074680"/>
                  <a:ext cx="16776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6" name=""/>
              <p:cNvSpPr/>
              <p:nvPr/>
            </p:nvSpPr>
            <p:spPr>
              <a:xfrm>
                <a:off x="6726960" y="1045080"/>
                <a:ext cx="0" cy="10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191120" y="1103400"/>
                <a:ext cx="126036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8" name=""/>
          <p:cNvSpPr/>
          <p:nvPr/>
        </p:nvSpPr>
        <p:spPr>
          <a:xfrm>
            <a:off x="556920" y="1120680"/>
            <a:ext cx="33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e penetration field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mpli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64120" y="1717560"/>
            <a:ext cx="37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small amplitudes of field osci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6154560" y="2600280"/>
            <a:ext cx="1933920" cy="633600"/>
            <a:chOff x="6154560" y="2600280"/>
            <a:chExt cx="1933920" cy="633600"/>
          </a:xfrm>
        </p:grpSpPr>
        <p:sp>
          <p:nvSpPr>
            <p:cNvPr id="891" name=""/>
            <p:cNvSpPr/>
            <p:nvPr/>
          </p:nvSpPr>
          <p:spPr>
            <a:xfrm>
              <a:off x="6154560" y="2754360"/>
              <a:ext cx="52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89760" y="260028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915320" y="2602080"/>
              <a:ext cx="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6996240" y="2919240"/>
              <a:ext cx="122040" cy="1368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7789680" y="2898720"/>
              <a:ext cx="122040" cy="15552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920000" y="3060720"/>
              <a:ext cx="1684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831000" y="3054240"/>
              <a:ext cx="1681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13640" y="277344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6829560" y="2778120"/>
              <a:ext cx="1255680" cy="142920"/>
              <a:chOff x="6829560" y="2778120"/>
              <a:chExt cx="1255680" cy="142920"/>
            </a:xfrm>
          </p:grpSpPr>
          <p:sp>
            <p:nvSpPr>
              <p:cNvPr id="900" name=""/>
              <p:cNvSpPr/>
              <p:nvPr/>
            </p:nvSpPr>
            <p:spPr>
              <a:xfrm>
                <a:off x="6994440" y="2782800"/>
                <a:ext cx="127080" cy="138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7792920" y="2784600"/>
                <a:ext cx="115920" cy="133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916760" y="2778120"/>
                <a:ext cx="1684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829560" y="2784600"/>
                <a:ext cx="1681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110360" y="2914560"/>
                <a:ext cx="695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1050840" y="2125800"/>
                <a:ext cx="1009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3645000" y="2157480"/>
                <a:ext cx="1644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2518200" y="23036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1863720" y="2951280"/>
                <a:ext cx="477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"/>
          <p:cNvSpPr/>
          <p:nvPr/>
        </p:nvSpPr>
        <p:spPr>
          <a:xfrm>
            <a:off x="1106280" y="302256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94080" y="308448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like a field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85720" y="3751200"/>
            <a:ext cx="7508160" cy="1859040"/>
            <a:chOff x="585720" y="3751200"/>
            <a:chExt cx="7508160" cy="1859040"/>
          </a:xfrm>
        </p:grpSpPr>
        <p:grpSp>
          <p:nvGrpSpPr>
            <p:cNvPr id="912" name=""/>
            <p:cNvGrpSpPr/>
            <p:nvPr/>
          </p:nvGrpSpPr>
          <p:grpSpPr>
            <a:xfrm>
              <a:off x="6226200" y="3816360"/>
              <a:ext cx="1867680" cy="1793880"/>
              <a:chOff x="6226200" y="3816360"/>
              <a:chExt cx="1867680" cy="1793880"/>
            </a:xfrm>
          </p:grpSpPr>
          <p:sp>
            <p:nvSpPr>
              <p:cNvPr id="913" name=""/>
              <p:cNvSpPr/>
              <p:nvPr/>
            </p:nvSpPr>
            <p:spPr>
              <a:xfrm>
                <a:off x="6226200" y="4446720"/>
                <a:ext cx="465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GB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999120" y="3816360"/>
                <a:ext cx="0" cy="179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924680" y="3818160"/>
                <a:ext cx="0" cy="175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"/>
              <p:cNvGrpSpPr/>
              <p:nvPr/>
            </p:nvGrpSpPr>
            <p:grpSpPr>
              <a:xfrm>
                <a:off x="6838920" y="3994200"/>
                <a:ext cx="1254960" cy="529560"/>
                <a:chOff x="6838920" y="3994200"/>
                <a:chExt cx="1254960" cy="52956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004520" y="3998160"/>
                  <a:ext cx="459000" cy="523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7459200" y="3999960"/>
                  <a:ext cx="458280" cy="523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926480" y="3994200"/>
                  <a:ext cx="1674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838920" y="3999960"/>
                  <a:ext cx="1674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6835680" y="4896720"/>
                <a:ext cx="1257120" cy="527760"/>
                <a:chOff x="6835680" y="4896720"/>
                <a:chExt cx="1257120" cy="527760"/>
              </a:xfrm>
            </p:grpSpPr>
            <p:sp>
              <p:nvSpPr>
                <p:cNvPr id="922" name=""/>
                <p:cNvSpPr/>
                <p:nvPr/>
              </p:nvSpPr>
              <p:spPr>
                <a:xfrm flipV="1">
                  <a:off x="7001640" y="4898520"/>
                  <a:ext cx="459720" cy="5220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 flipV="1">
                  <a:off x="7456680" y="4896720"/>
                  <a:ext cx="459000" cy="5220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25040" y="5424480"/>
                  <a:ext cx="16776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835680" y="5418720"/>
                  <a:ext cx="16776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"/>
              <p:cNvSpPr/>
              <p:nvPr/>
            </p:nvSpPr>
            <p:spPr>
              <a:xfrm>
                <a:off x="6723000" y="4003560"/>
                <a:ext cx="0" cy="141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585720" y="3751200"/>
              <a:ext cx="375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or large amplitudes of field oscil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8" name=""/>
                <p:cNvSpPr txBox="1"/>
                <p:nvPr/>
              </p:nvSpPr>
              <p:spPr>
                <a:xfrm>
                  <a:off x="1220760" y="4197240"/>
                  <a:ext cx="176364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β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  <m:sSup>
                                <m:e>
                                  <m:r>
                                    <m:t xml:space="preserve">β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9" name=""/>
          <p:cNvGrpSpPr/>
          <p:nvPr/>
        </p:nvGrpSpPr>
        <p:grpSpPr>
          <a:xfrm>
            <a:off x="683640" y="5054760"/>
            <a:ext cx="1900800" cy="1062000"/>
            <a:chOff x="683640" y="5054760"/>
            <a:chExt cx="1900800" cy="1062000"/>
          </a:xfrm>
        </p:grpSpPr>
        <p:sp>
          <p:nvSpPr>
            <p:cNvPr id="930" name=""/>
            <p:cNvSpPr/>
            <p:nvPr/>
          </p:nvSpPr>
          <p:spPr>
            <a:xfrm>
              <a:off x="683640" y="5054760"/>
              <a:ext cx="125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 gen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1" name=""/>
                <p:cNvSpPr txBox="1"/>
                <p:nvPr/>
              </p:nvSpPr>
              <p:spPr>
                <a:xfrm>
                  <a:off x="1182600" y="5415120"/>
                  <a:ext cx="140184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Γ</m:t>
                      </m:r>
                      <m:r>
                        <m:t xml:space="preserve">(</m:t>
                      </m:r>
                      <m:r>
                        <m:t xml:space="preserve">β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2" name=""/>
          <p:cNvGrpSpPr/>
          <p:nvPr/>
        </p:nvGrpSpPr>
        <p:grpSpPr>
          <a:xfrm>
            <a:off x="1706400" y="973080"/>
            <a:ext cx="7243920" cy="5386320"/>
            <a:chOff x="1706400" y="973080"/>
            <a:chExt cx="7243920" cy="5386320"/>
          </a:xfrm>
        </p:grpSpPr>
        <p:pic>
          <p:nvPicPr>
            <p:cNvPr id="933" name="" descr=""/>
            <p:cNvPicPr/>
            <p:nvPr/>
          </p:nvPicPr>
          <p:blipFill>
            <a:blip r:embed="rId1"/>
            <a:stretch/>
          </p:blipFill>
          <p:spPr>
            <a:xfrm>
              <a:off x="1706400" y="973080"/>
              <a:ext cx="7243920" cy="53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5611680" y="1096920"/>
              <a:ext cx="0" cy="4743360"/>
            </a:xfrm>
            <a:prstGeom prst="line">
              <a:avLst/>
            </a:prstGeom>
            <a:ln w="190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2793960" y="1441440"/>
              <a:ext cx="1258920" cy="633240"/>
              <a:chOff x="2793960" y="1441440"/>
              <a:chExt cx="1258920" cy="633240"/>
            </a:xfrm>
          </p:grpSpPr>
          <p:sp>
            <p:nvSpPr>
              <p:cNvPr id="936" name=""/>
              <p:cNvSpPr/>
              <p:nvPr/>
            </p:nvSpPr>
            <p:spPr>
              <a:xfrm>
                <a:off x="2954520" y="1441440"/>
                <a:ext cx="0" cy="62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880080" y="1442880"/>
                <a:ext cx="0" cy="63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2960640" y="1760040"/>
                <a:ext cx="122400" cy="136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 flipV="1">
                <a:off x="3754440" y="1739880"/>
                <a:ext cx="122400" cy="155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884760" y="1901880"/>
                <a:ext cx="1681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795760" y="1895400"/>
                <a:ext cx="1681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2" name=""/>
              <p:cNvGrpSpPr/>
              <p:nvPr/>
            </p:nvGrpSpPr>
            <p:grpSpPr>
              <a:xfrm>
                <a:off x="2793960" y="1619280"/>
                <a:ext cx="1255680" cy="142920"/>
                <a:chOff x="2793960" y="1619280"/>
                <a:chExt cx="1255680" cy="1429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2958840" y="1623960"/>
                  <a:ext cx="127080" cy="1382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3757320" y="1625760"/>
                  <a:ext cx="115920" cy="1332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881160" y="1619280"/>
                  <a:ext cx="1684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2793960" y="1625760"/>
                  <a:ext cx="1681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074760" y="1755720"/>
                  <a:ext cx="6955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8" name=""/>
            <p:cNvGrpSpPr/>
            <p:nvPr/>
          </p:nvGrpSpPr>
          <p:grpSpPr>
            <a:xfrm>
              <a:off x="6761160" y="3763800"/>
              <a:ext cx="952200" cy="1320840"/>
              <a:chOff x="6761160" y="3763800"/>
              <a:chExt cx="952200" cy="1320840"/>
            </a:xfrm>
          </p:grpSpPr>
          <p:sp>
            <p:nvSpPr>
              <p:cNvPr id="949" name=""/>
              <p:cNvSpPr/>
              <p:nvPr/>
            </p:nvSpPr>
            <p:spPr>
              <a:xfrm>
                <a:off x="6885000" y="3763800"/>
                <a:ext cx="0" cy="130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585200" y="3765240"/>
                <a:ext cx="0" cy="13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6762960" y="3901680"/>
                <a:ext cx="950400" cy="409320"/>
                <a:chOff x="6762960" y="3901680"/>
                <a:chExt cx="950400" cy="4093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6888240" y="3904920"/>
                  <a:ext cx="347400" cy="4046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7232760" y="3906360"/>
                  <a:ext cx="347040" cy="4046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586640" y="3901680"/>
                  <a:ext cx="1267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762960" y="3906360"/>
                  <a:ext cx="1267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6761160" y="4533840"/>
                <a:ext cx="951120" cy="409320"/>
                <a:chOff x="6761160" y="4533840"/>
                <a:chExt cx="951120" cy="409320"/>
              </a:xfrm>
            </p:grpSpPr>
            <p:sp>
              <p:nvSpPr>
                <p:cNvPr id="957" name=""/>
                <p:cNvSpPr/>
                <p:nvPr/>
              </p:nvSpPr>
              <p:spPr>
                <a:xfrm flipV="1">
                  <a:off x="6886800" y="4535280"/>
                  <a:ext cx="347760" cy="4046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 flipV="1">
                  <a:off x="7230960" y="4533840"/>
                  <a:ext cx="347400" cy="4046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585200" y="4943160"/>
                  <a:ext cx="1270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761160" y="4938480"/>
                  <a:ext cx="1270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1" name=""/>
          <p:cNvSpPr/>
          <p:nvPr/>
        </p:nvSpPr>
        <p:spPr>
          <a:xfrm>
            <a:off x="213120" y="10843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ff"/>
                </a:solidFill>
                <a:latin typeface="Arial"/>
              </a:rPr>
              <a:t>R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98360" y="109440"/>
            <a:ext cx="8945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AC Losses: general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423720" y="3059280"/>
                <a:ext cx="7178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04920" y="1647720"/>
                <a:ext cx="1350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5" name=""/>
          <p:cNvSpPr/>
          <p:nvPr/>
        </p:nvSpPr>
        <p:spPr>
          <a:xfrm>
            <a:off x="326160" y="25462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70040" y="-360"/>
            <a:ext cx="7850160" cy="609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Filamentary composite wires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967" name=""/>
          <p:cNvSpPr/>
          <p:nvPr/>
        </p:nvSpPr>
        <p:spPr>
          <a:xfrm>
            <a:off x="382680" y="9129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04920" y="1600200"/>
            <a:ext cx="49258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 can reduc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y making the superconductor as fine filaments.  For ease of handling, an array of many filaments is embedded in a copper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1"/>
          <a:stretch/>
        </p:blipFill>
        <p:spPr>
          <a:xfrm>
            <a:off x="141120" y="2514600"/>
            <a:ext cx="5276880" cy="361476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5557680" y="3048120"/>
            <a:ext cx="33228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fortunately, in changing fields, the filament are coupled together; screening currents go up the LHS filaments and return down the RHS filaments, crossing the copper at each end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ime these currents decay, but for wires ~ 100m long,  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the decay time is many yea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the advantages of subdivision are l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2"/>
          <a:srcRect l="23036" t="16237" r="25603" b="47189"/>
          <a:stretch/>
        </p:blipFill>
        <p:spPr>
          <a:xfrm>
            <a:off x="5638680" y="762120"/>
            <a:ext cx="3086280" cy="2125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1846440" y="874800"/>
                <a:ext cx="1161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ΔB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1981080" cy="609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Twisting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974" name=""/>
          <p:cNvSpPr/>
          <p:nvPr/>
        </p:nvSpPr>
        <p:spPr>
          <a:xfrm>
            <a:off x="266760" y="1052640"/>
            <a:ext cx="404028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upling may be reduced by twisting the wire, because the induced emf reverses every half twist 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uced coupling currents then flow along the filaments and then vertically down through th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 each end of the wire, the current crosses over and then returns along the other side of the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8591400" y="1238400"/>
            <a:ext cx="37332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339080" y="669600"/>
            <a:ext cx="4576320" cy="2936160"/>
            <a:chOff x="4339080" y="669600"/>
            <a:chExt cx="4576320" cy="2936160"/>
          </a:xfrm>
        </p:grpSpPr>
        <p:sp>
          <p:nvSpPr>
            <p:cNvPr id="977" name=""/>
            <p:cNvSpPr/>
            <p:nvPr/>
          </p:nvSpPr>
          <p:spPr>
            <a:xfrm>
              <a:off x="6756480" y="938160"/>
              <a:ext cx="2158920" cy="471600"/>
            </a:xfrm>
            <a:custGeom>
              <a:avLst/>
              <a:gdLst/>
              <a:ahLst/>
              <a:rect l="l" t="t" r="r" b="b"/>
              <a:pathLst>
                <a:path w="1356" h="469">
                  <a:moveTo>
                    <a:pt x="0" y="20"/>
                  </a:moveTo>
                  <a:cubicBezTo>
                    <a:pt x="24" y="10"/>
                    <a:pt x="49" y="0"/>
                    <a:pt x="92" y="0"/>
                  </a:cubicBezTo>
                  <a:cubicBezTo>
                    <a:pt x="135" y="0"/>
                    <a:pt x="199" y="5"/>
                    <a:pt x="256" y="20"/>
                  </a:cubicBezTo>
                  <a:cubicBezTo>
                    <a:pt x="313" y="35"/>
                    <a:pt x="359" y="52"/>
                    <a:pt x="436" y="92"/>
                  </a:cubicBezTo>
                  <a:cubicBezTo>
                    <a:pt x="513" y="132"/>
                    <a:pt x="649" y="219"/>
                    <a:pt x="720" y="260"/>
                  </a:cubicBezTo>
                  <a:cubicBezTo>
                    <a:pt x="791" y="301"/>
                    <a:pt x="808" y="309"/>
                    <a:pt x="864" y="336"/>
                  </a:cubicBezTo>
                  <a:cubicBezTo>
                    <a:pt x="920" y="363"/>
                    <a:pt x="995" y="399"/>
                    <a:pt x="1056" y="420"/>
                  </a:cubicBezTo>
                  <a:cubicBezTo>
                    <a:pt x="1117" y="441"/>
                    <a:pt x="1182" y="459"/>
                    <a:pt x="1228" y="464"/>
                  </a:cubicBezTo>
                  <a:cubicBezTo>
                    <a:pt x="1274" y="469"/>
                    <a:pt x="1311" y="455"/>
                    <a:pt x="1332" y="452"/>
                  </a:cubicBezTo>
                  <a:cubicBezTo>
                    <a:pt x="1353" y="449"/>
                    <a:pt x="1352" y="445"/>
                    <a:pt x="1356" y="4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8" name=""/>
            <p:cNvGrpSpPr/>
            <p:nvPr/>
          </p:nvGrpSpPr>
          <p:grpSpPr>
            <a:xfrm>
              <a:off x="4529520" y="884160"/>
              <a:ext cx="383400" cy="718200"/>
              <a:chOff x="4529520" y="884160"/>
              <a:chExt cx="383400" cy="718200"/>
            </a:xfrm>
          </p:grpSpPr>
          <p:sp>
            <p:nvSpPr>
              <p:cNvPr id="979" name=""/>
              <p:cNvSpPr/>
              <p:nvPr/>
            </p:nvSpPr>
            <p:spPr>
              <a:xfrm flipV="1">
                <a:off x="4680000" y="884160"/>
                <a:ext cx="0" cy="380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29520" y="12650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333399"/>
                    </a:solidFill>
                    <a:latin typeface="Times New Roman"/>
                  </a:rPr>
                  <a:t>B`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 rot="20306400">
              <a:off x="4618080" y="1649520"/>
              <a:ext cx="1334880" cy="177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20306400">
              <a:off x="4802040" y="1788840"/>
              <a:ext cx="152640" cy="18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20306400">
              <a:off x="4970160" y="1709280"/>
              <a:ext cx="15228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306400">
              <a:off x="5157720" y="1696680"/>
              <a:ext cx="15264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20306400">
              <a:off x="5335200" y="1753920"/>
              <a:ext cx="15228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20306400">
              <a:off x="5493960" y="1868040"/>
              <a:ext cx="15228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306400">
              <a:off x="5632200" y="2022120"/>
              <a:ext cx="15228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20306400">
              <a:off x="5735520" y="2214360"/>
              <a:ext cx="152640" cy="18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20306400">
              <a:off x="4692240" y="1949040"/>
              <a:ext cx="15228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20306400">
              <a:off x="4620960" y="2138040"/>
              <a:ext cx="15228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20306400">
              <a:off x="4606560" y="2346120"/>
              <a:ext cx="152280" cy="18864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20306400">
              <a:off x="4649400" y="2553840"/>
              <a:ext cx="15228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20306400">
              <a:off x="4730400" y="2752200"/>
              <a:ext cx="15228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20306400">
              <a:off x="4858920" y="2931840"/>
              <a:ext cx="15228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20306400">
              <a:off x="5006880" y="3069720"/>
              <a:ext cx="15264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20306400">
              <a:off x="5195520" y="3160440"/>
              <a:ext cx="15228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20306400">
              <a:off x="5381280" y="3177720"/>
              <a:ext cx="15228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20306400">
              <a:off x="5557680" y="3122280"/>
              <a:ext cx="15264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20306400">
              <a:off x="5689440" y="2993760"/>
              <a:ext cx="152640" cy="18864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20306400">
              <a:off x="5773320" y="2823840"/>
              <a:ext cx="15228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20306400">
              <a:off x="5787720" y="2415960"/>
              <a:ext cx="152280" cy="18864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20306400">
              <a:off x="5814720" y="2623680"/>
              <a:ext cx="152280" cy="189000"/>
            </a:xfrm>
            <a:prstGeom prst="ellipse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4937040" y="704880"/>
              <a:ext cx="24195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5689440" y="1549080"/>
              <a:ext cx="2899080" cy="17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53040" y="1593720"/>
              <a:ext cx="2184480" cy="757440"/>
            </a:xfrm>
            <a:custGeom>
              <a:avLst/>
              <a:gdLst/>
              <a:ahLst/>
              <a:rect l="l" t="t" r="r" b="b"/>
              <a:pathLst>
                <a:path w="1356" h="469">
                  <a:moveTo>
                    <a:pt x="0" y="20"/>
                  </a:moveTo>
                  <a:cubicBezTo>
                    <a:pt x="24" y="10"/>
                    <a:pt x="49" y="0"/>
                    <a:pt x="92" y="0"/>
                  </a:cubicBezTo>
                  <a:cubicBezTo>
                    <a:pt x="135" y="0"/>
                    <a:pt x="199" y="5"/>
                    <a:pt x="256" y="20"/>
                  </a:cubicBezTo>
                  <a:cubicBezTo>
                    <a:pt x="313" y="35"/>
                    <a:pt x="359" y="52"/>
                    <a:pt x="436" y="92"/>
                  </a:cubicBezTo>
                  <a:cubicBezTo>
                    <a:pt x="513" y="132"/>
                    <a:pt x="649" y="219"/>
                    <a:pt x="720" y="260"/>
                  </a:cubicBezTo>
                  <a:cubicBezTo>
                    <a:pt x="791" y="301"/>
                    <a:pt x="808" y="309"/>
                    <a:pt x="864" y="336"/>
                  </a:cubicBezTo>
                  <a:cubicBezTo>
                    <a:pt x="920" y="363"/>
                    <a:pt x="995" y="399"/>
                    <a:pt x="1056" y="420"/>
                  </a:cubicBezTo>
                  <a:cubicBezTo>
                    <a:pt x="1117" y="441"/>
                    <a:pt x="1182" y="459"/>
                    <a:pt x="1228" y="464"/>
                  </a:cubicBezTo>
                  <a:cubicBezTo>
                    <a:pt x="1274" y="469"/>
                    <a:pt x="1311" y="455"/>
                    <a:pt x="1332" y="452"/>
                  </a:cubicBezTo>
                  <a:cubicBezTo>
                    <a:pt x="1353" y="449"/>
                    <a:pt x="1352" y="445"/>
                    <a:pt x="1356" y="4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83160" y="1765440"/>
              <a:ext cx="1695600" cy="695160"/>
            </a:xfrm>
            <a:custGeom>
              <a:avLst/>
              <a:gdLst/>
              <a:ahLst/>
              <a:rect l="l" t="t" r="r" b="b"/>
              <a:pathLst>
                <a:path w="1032" h="430">
                  <a:moveTo>
                    <a:pt x="0" y="0"/>
                  </a:moveTo>
                  <a:cubicBezTo>
                    <a:pt x="40" y="16"/>
                    <a:pt x="81" y="33"/>
                    <a:pt x="132" y="60"/>
                  </a:cubicBezTo>
                  <a:cubicBezTo>
                    <a:pt x="183" y="87"/>
                    <a:pt x="252" y="131"/>
                    <a:pt x="308" y="164"/>
                  </a:cubicBezTo>
                  <a:cubicBezTo>
                    <a:pt x="364" y="197"/>
                    <a:pt x="408" y="228"/>
                    <a:pt x="468" y="260"/>
                  </a:cubicBezTo>
                  <a:cubicBezTo>
                    <a:pt x="528" y="292"/>
                    <a:pt x="611" y="331"/>
                    <a:pt x="668" y="356"/>
                  </a:cubicBezTo>
                  <a:cubicBezTo>
                    <a:pt x="725" y="381"/>
                    <a:pt x="763" y="396"/>
                    <a:pt x="808" y="408"/>
                  </a:cubicBezTo>
                  <a:cubicBezTo>
                    <a:pt x="853" y="420"/>
                    <a:pt x="899" y="430"/>
                    <a:pt x="936" y="428"/>
                  </a:cubicBezTo>
                  <a:cubicBezTo>
                    <a:pt x="973" y="426"/>
                    <a:pt x="1002" y="411"/>
                    <a:pt x="1032" y="3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810400" y="2098800"/>
              <a:ext cx="1215720" cy="444240"/>
            </a:xfrm>
            <a:custGeom>
              <a:avLst/>
              <a:gdLst/>
              <a:ahLst/>
              <a:rect l="l" t="t" r="r" b="b"/>
              <a:pathLst>
                <a:path w="722" h="260">
                  <a:moveTo>
                    <a:pt x="0" y="0"/>
                  </a:moveTo>
                  <a:cubicBezTo>
                    <a:pt x="46" y="29"/>
                    <a:pt x="92" y="59"/>
                    <a:pt x="152" y="90"/>
                  </a:cubicBezTo>
                  <a:cubicBezTo>
                    <a:pt x="212" y="121"/>
                    <a:pt x="304" y="164"/>
                    <a:pt x="362" y="188"/>
                  </a:cubicBezTo>
                  <a:cubicBezTo>
                    <a:pt x="420" y="212"/>
                    <a:pt x="457" y="222"/>
                    <a:pt x="498" y="234"/>
                  </a:cubicBezTo>
                  <a:cubicBezTo>
                    <a:pt x="539" y="246"/>
                    <a:pt x="578" y="256"/>
                    <a:pt x="610" y="258"/>
                  </a:cubicBezTo>
                  <a:cubicBezTo>
                    <a:pt x="642" y="260"/>
                    <a:pt x="669" y="248"/>
                    <a:pt x="688" y="244"/>
                  </a:cubicBezTo>
                  <a:cubicBezTo>
                    <a:pt x="707" y="240"/>
                    <a:pt x="714" y="237"/>
                    <a:pt x="722" y="2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85000" y="2629080"/>
              <a:ext cx="622080" cy="145800"/>
            </a:xfrm>
            <a:custGeom>
              <a:avLst/>
              <a:gdLst/>
              <a:ahLst/>
              <a:rect l="l" t="t" r="r" b="b"/>
              <a:pathLst>
                <a:path w="392" h="92">
                  <a:moveTo>
                    <a:pt x="0" y="0"/>
                  </a:moveTo>
                  <a:cubicBezTo>
                    <a:pt x="42" y="18"/>
                    <a:pt x="84" y="37"/>
                    <a:pt x="120" y="50"/>
                  </a:cubicBezTo>
                  <a:cubicBezTo>
                    <a:pt x="156" y="63"/>
                    <a:pt x="181" y="73"/>
                    <a:pt x="214" y="80"/>
                  </a:cubicBezTo>
                  <a:cubicBezTo>
                    <a:pt x="247" y="87"/>
                    <a:pt x="290" y="92"/>
                    <a:pt x="320" y="92"/>
                  </a:cubicBezTo>
                  <a:cubicBezTo>
                    <a:pt x="350" y="92"/>
                    <a:pt x="371" y="85"/>
                    <a:pt x="392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81760" y="2822400"/>
              <a:ext cx="453960" cy="68400"/>
            </a:xfrm>
            <a:custGeom>
              <a:avLst/>
              <a:gdLst/>
              <a:ahLst/>
              <a:rect l="l" t="t" r="r" b="b"/>
              <a:pathLst>
                <a:path w="286" h="43">
                  <a:moveTo>
                    <a:pt x="0" y="0"/>
                  </a:moveTo>
                  <a:cubicBezTo>
                    <a:pt x="34" y="11"/>
                    <a:pt x="68" y="23"/>
                    <a:pt x="96" y="30"/>
                  </a:cubicBezTo>
                  <a:cubicBezTo>
                    <a:pt x="124" y="37"/>
                    <a:pt x="145" y="41"/>
                    <a:pt x="168" y="42"/>
                  </a:cubicBezTo>
                  <a:cubicBezTo>
                    <a:pt x="191" y="43"/>
                    <a:pt x="216" y="38"/>
                    <a:pt x="236" y="34"/>
                  </a:cubicBezTo>
                  <a:cubicBezTo>
                    <a:pt x="256" y="30"/>
                    <a:pt x="271" y="24"/>
                    <a:pt x="286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46840" y="2965320"/>
              <a:ext cx="304560" cy="3672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10"/>
                  </a:moveTo>
                  <a:cubicBezTo>
                    <a:pt x="13" y="14"/>
                    <a:pt x="27" y="18"/>
                    <a:pt x="46" y="20"/>
                  </a:cubicBezTo>
                  <a:cubicBezTo>
                    <a:pt x="65" y="22"/>
                    <a:pt x="88" y="23"/>
                    <a:pt x="112" y="20"/>
                  </a:cubicBezTo>
                  <a:cubicBezTo>
                    <a:pt x="136" y="17"/>
                    <a:pt x="164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77000" y="30924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22"/>
                  </a:moveTo>
                  <a:cubicBezTo>
                    <a:pt x="16" y="20"/>
                    <a:pt x="32" y="18"/>
                    <a:pt x="44" y="16"/>
                  </a:cubicBezTo>
                  <a:cubicBezTo>
                    <a:pt x="56" y="14"/>
                    <a:pt x="62" y="13"/>
                    <a:pt x="74" y="10"/>
                  </a:cubicBezTo>
                  <a:cubicBezTo>
                    <a:pt x="86" y="7"/>
                    <a:pt x="100" y="3"/>
                    <a:pt x="1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373720" y="1503360"/>
              <a:ext cx="2133720" cy="738360"/>
            </a:xfrm>
            <a:custGeom>
              <a:avLst/>
              <a:gdLst/>
              <a:ahLst/>
              <a:rect l="l" t="t" r="r" b="b"/>
              <a:pathLst>
                <a:path w="1356" h="469">
                  <a:moveTo>
                    <a:pt x="0" y="20"/>
                  </a:moveTo>
                  <a:cubicBezTo>
                    <a:pt x="24" y="10"/>
                    <a:pt x="49" y="0"/>
                    <a:pt x="92" y="0"/>
                  </a:cubicBezTo>
                  <a:cubicBezTo>
                    <a:pt x="135" y="0"/>
                    <a:pt x="199" y="5"/>
                    <a:pt x="256" y="20"/>
                  </a:cubicBezTo>
                  <a:cubicBezTo>
                    <a:pt x="313" y="35"/>
                    <a:pt x="359" y="52"/>
                    <a:pt x="436" y="92"/>
                  </a:cubicBezTo>
                  <a:cubicBezTo>
                    <a:pt x="513" y="132"/>
                    <a:pt x="649" y="219"/>
                    <a:pt x="720" y="260"/>
                  </a:cubicBezTo>
                  <a:cubicBezTo>
                    <a:pt x="791" y="301"/>
                    <a:pt x="808" y="309"/>
                    <a:pt x="864" y="336"/>
                  </a:cubicBezTo>
                  <a:cubicBezTo>
                    <a:pt x="920" y="363"/>
                    <a:pt x="995" y="399"/>
                    <a:pt x="1056" y="420"/>
                  </a:cubicBezTo>
                  <a:cubicBezTo>
                    <a:pt x="1117" y="441"/>
                    <a:pt x="1182" y="459"/>
                    <a:pt x="1228" y="464"/>
                  </a:cubicBezTo>
                  <a:cubicBezTo>
                    <a:pt x="1274" y="469"/>
                    <a:pt x="1311" y="455"/>
                    <a:pt x="1332" y="452"/>
                  </a:cubicBezTo>
                  <a:cubicBezTo>
                    <a:pt x="1353" y="449"/>
                    <a:pt x="1352" y="445"/>
                    <a:pt x="1356" y="4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562720" y="1425600"/>
              <a:ext cx="2139840" cy="700200"/>
            </a:xfrm>
            <a:custGeom>
              <a:avLst/>
              <a:gdLst/>
              <a:ahLst/>
              <a:rect l="l" t="t" r="r" b="b"/>
              <a:pathLst>
                <a:path w="1356" h="469">
                  <a:moveTo>
                    <a:pt x="0" y="20"/>
                  </a:moveTo>
                  <a:cubicBezTo>
                    <a:pt x="24" y="10"/>
                    <a:pt x="49" y="0"/>
                    <a:pt x="92" y="0"/>
                  </a:cubicBezTo>
                  <a:cubicBezTo>
                    <a:pt x="135" y="0"/>
                    <a:pt x="199" y="5"/>
                    <a:pt x="256" y="20"/>
                  </a:cubicBezTo>
                  <a:cubicBezTo>
                    <a:pt x="313" y="35"/>
                    <a:pt x="359" y="52"/>
                    <a:pt x="436" y="92"/>
                  </a:cubicBezTo>
                  <a:cubicBezTo>
                    <a:pt x="513" y="132"/>
                    <a:pt x="649" y="219"/>
                    <a:pt x="720" y="260"/>
                  </a:cubicBezTo>
                  <a:cubicBezTo>
                    <a:pt x="791" y="301"/>
                    <a:pt x="808" y="309"/>
                    <a:pt x="864" y="336"/>
                  </a:cubicBezTo>
                  <a:cubicBezTo>
                    <a:pt x="920" y="363"/>
                    <a:pt x="995" y="399"/>
                    <a:pt x="1056" y="420"/>
                  </a:cubicBezTo>
                  <a:cubicBezTo>
                    <a:pt x="1117" y="441"/>
                    <a:pt x="1182" y="459"/>
                    <a:pt x="1228" y="464"/>
                  </a:cubicBezTo>
                  <a:cubicBezTo>
                    <a:pt x="1274" y="469"/>
                    <a:pt x="1311" y="455"/>
                    <a:pt x="1332" y="452"/>
                  </a:cubicBezTo>
                  <a:cubicBezTo>
                    <a:pt x="1353" y="449"/>
                    <a:pt x="1352" y="445"/>
                    <a:pt x="1356" y="4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762520" y="1344600"/>
              <a:ext cx="2140200" cy="650880"/>
            </a:xfrm>
            <a:custGeom>
              <a:avLst/>
              <a:gdLst/>
              <a:ahLst/>
              <a:rect l="l" t="t" r="r" b="b"/>
              <a:pathLst>
                <a:path w="1356" h="469">
                  <a:moveTo>
                    <a:pt x="0" y="20"/>
                  </a:moveTo>
                  <a:cubicBezTo>
                    <a:pt x="24" y="10"/>
                    <a:pt x="49" y="0"/>
                    <a:pt x="92" y="0"/>
                  </a:cubicBezTo>
                  <a:cubicBezTo>
                    <a:pt x="135" y="0"/>
                    <a:pt x="199" y="5"/>
                    <a:pt x="256" y="20"/>
                  </a:cubicBezTo>
                  <a:cubicBezTo>
                    <a:pt x="313" y="35"/>
                    <a:pt x="359" y="52"/>
                    <a:pt x="436" y="92"/>
                  </a:cubicBezTo>
                  <a:cubicBezTo>
                    <a:pt x="513" y="132"/>
                    <a:pt x="649" y="219"/>
                    <a:pt x="720" y="260"/>
                  </a:cubicBezTo>
                  <a:cubicBezTo>
                    <a:pt x="791" y="301"/>
                    <a:pt x="808" y="309"/>
                    <a:pt x="864" y="336"/>
                  </a:cubicBezTo>
                  <a:cubicBezTo>
                    <a:pt x="920" y="363"/>
                    <a:pt x="995" y="399"/>
                    <a:pt x="1056" y="420"/>
                  </a:cubicBezTo>
                  <a:cubicBezTo>
                    <a:pt x="1117" y="441"/>
                    <a:pt x="1182" y="459"/>
                    <a:pt x="1228" y="464"/>
                  </a:cubicBezTo>
                  <a:cubicBezTo>
                    <a:pt x="1274" y="469"/>
                    <a:pt x="1311" y="455"/>
                    <a:pt x="1332" y="452"/>
                  </a:cubicBezTo>
                  <a:cubicBezTo>
                    <a:pt x="1353" y="449"/>
                    <a:pt x="1352" y="445"/>
                    <a:pt x="1356" y="4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961240" y="1260360"/>
              <a:ext cx="2145960" cy="617760"/>
            </a:xfrm>
            <a:custGeom>
              <a:avLst/>
              <a:gdLst/>
              <a:ahLst/>
              <a:rect l="l" t="t" r="r" b="b"/>
              <a:pathLst>
                <a:path w="1356" h="469">
                  <a:moveTo>
                    <a:pt x="0" y="20"/>
                  </a:moveTo>
                  <a:cubicBezTo>
                    <a:pt x="24" y="10"/>
                    <a:pt x="49" y="0"/>
                    <a:pt x="92" y="0"/>
                  </a:cubicBezTo>
                  <a:cubicBezTo>
                    <a:pt x="135" y="0"/>
                    <a:pt x="199" y="5"/>
                    <a:pt x="256" y="20"/>
                  </a:cubicBezTo>
                  <a:cubicBezTo>
                    <a:pt x="313" y="35"/>
                    <a:pt x="359" y="52"/>
                    <a:pt x="436" y="92"/>
                  </a:cubicBezTo>
                  <a:cubicBezTo>
                    <a:pt x="513" y="132"/>
                    <a:pt x="649" y="219"/>
                    <a:pt x="720" y="260"/>
                  </a:cubicBezTo>
                  <a:cubicBezTo>
                    <a:pt x="791" y="301"/>
                    <a:pt x="808" y="309"/>
                    <a:pt x="864" y="336"/>
                  </a:cubicBezTo>
                  <a:cubicBezTo>
                    <a:pt x="920" y="363"/>
                    <a:pt x="995" y="399"/>
                    <a:pt x="1056" y="420"/>
                  </a:cubicBezTo>
                  <a:cubicBezTo>
                    <a:pt x="1117" y="441"/>
                    <a:pt x="1182" y="459"/>
                    <a:pt x="1228" y="464"/>
                  </a:cubicBezTo>
                  <a:cubicBezTo>
                    <a:pt x="1274" y="469"/>
                    <a:pt x="1311" y="455"/>
                    <a:pt x="1332" y="452"/>
                  </a:cubicBezTo>
                  <a:cubicBezTo>
                    <a:pt x="1353" y="449"/>
                    <a:pt x="1352" y="445"/>
                    <a:pt x="1356" y="4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146640" y="1182600"/>
              <a:ext cx="2138400" cy="579600"/>
            </a:xfrm>
            <a:custGeom>
              <a:avLst/>
              <a:gdLst/>
              <a:ahLst/>
              <a:rect l="l" t="t" r="r" b="b"/>
              <a:pathLst>
                <a:path w="1356" h="469">
                  <a:moveTo>
                    <a:pt x="0" y="20"/>
                  </a:moveTo>
                  <a:cubicBezTo>
                    <a:pt x="24" y="10"/>
                    <a:pt x="49" y="0"/>
                    <a:pt x="92" y="0"/>
                  </a:cubicBezTo>
                  <a:cubicBezTo>
                    <a:pt x="135" y="0"/>
                    <a:pt x="199" y="5"/>
                    <a:pt x="256" y="20"/>
                  </a:cubicBezTo>
                  <a:cubicBezTo>
                    <a:pt x="313" y="35"/>
                    <a:pt x="359" y="52"/>
                    <a:pt x="436" y="92"/>
                  </a:cubicBezTo>
                  <a:cubicBezTo>
                    <a:pt x="513" y="132"/>
                    <a:pt x="649" y="219"/>
                    <a:pt x="720" y="260"/>
                  </a:cubicBezTo>
                  <a:cubicBezTo>
                    <a:pt x="791" y="301"/>
                    <a:pt x="808" y="309"/>
                    <a:pt x="864" y="336"/>
                  </a:cubicBezTo>
                  <a:cubicBezTo>
                    <a:pt x="920" y="363"/>
                    <a:pt x="995" y="399"/>
                    <a:pt x="1056" y="420"/>
                  </a:cubicBezTo>
                  <a:cubicBezTo>
                    <a:pt x="1117" y="441"/>
                    <a:pt x="1182" y="459"/>
                    <a:pt x="1228" y="464"/>
                  </a:cubicBezTo>
                  <a:cubicBezTo>
                    <a:pt x="1274" y="469"/>
                    <a:pt x="1311" y="455"/>
                    <a:pt x="1332" y="452"/>
                  </a:cubicBezTo>
                  <a:cubicBezTo>
                    <a:pt x="1353" y="449"/>
                    <a:pt x="1352" y="445"/>
                    <a:pt x="1356" y="4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346800" y="1098720"/>
              <a:ext cx="2179800" cy="512640"/>
            </a:xfrm>
            <a:custGeom>
              <a:avLst/>
              <a:gdLst/>
              <a:ahLst/>
              <a:rect l="l" t="t" r="r" b="b"/>
              <a:pathLst>
                <a:path w="1356" h="469">
                  <a:moveTo>
                    <a:pt x="0" y="20"/>
                  </a:moveTo>
                  <a:cubicBezTo>
                    <a:pt x="24" y="10"/>
                    <a:pt x="49" y="0"/>
                    <a:pt x="92" y="0"/>
                  </a:cubicBezTo>
                  <a:cubicBezTo>
                    <a:pt x="135" y="0"/>
                    <a:pt x="199" y="5"/>
                    <a:pt x="256" y="20"/>
                  </a:cubicBezTo>
                  <a:cubicBezTo>
                    <a:pt x="313" y="35"/>
                    <a:pt x="359" y="52"/>
                    <a:pt x="436" y="92"/>
                  </a:cubicBezTo>
                  <a:cubicBezTo>
                    <a:pt x="513" y="132"/>
                    <a:pt x="649" y="219"/>
                    <a:pt x="720" y="260"/>
                  </a:cubicBezTo>
                  <a:cubicBezTo>
                    <a:pt x="791" y="301"/>
                    <a:pt x="808" y="309"/>
                    <a:pt x="864" y="336"/>
                  </a:cubicBezTo>
                  <a:cubicBezTo>
                    <a:pt x="920" y="363"/>
                    <a:pt x="995" y="399"/>
                    <a:pt x="1056" y="420"/>
                  </a:cubicBezTo>
                  <a:cubicBezTo>
                    <a:pt x="1117" y="441"/>
                    <a:pt x="1182" y="459"/>
                    <a:pt x="1228" y="464"/>
                  </a:cubicBezTo>
                  <a:cubicBezTo>
                    <a:pt x="1274" y="469"/>
                    <a:pt x="1311" y="455"/>
                    <a:pt x="1332" y="452"/>
                  </a:cubicBezTo>
                  <a:cubicBezTo>
                    <a:pt x="1353" y="449"/>
                    <a:pt x="1352" y="445"/>
                    <a:pt x="1356" y="4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558120" y="1019160"/>
              <a:ext cx="2158920" cy="484200"/>
            </a:xfrm>
            <a:custGeom>
              <a:avLst/>
              <a:gdLst/>
              <a:ahLst/>
              <a:rect l="l" t="t" r="r" b="b"/>
              <a:pathLst>
                <a:path w="1356" h="469">
                  <a:moveTo>
                    <a:pt x="0" y="20"/>
                  </a:moveTo>
                  <a:cubicBezTo>
                    <a:pt x="24" y="10"/>
                    <a:pt x="49" y="0"/>
                    <a:pt x="92" y="0"/>
                  </a:cubicBezTo>
                  <a:cubicBezTo>
                    <a:pt x="135" y="0"/>
                    <a:pt x="199" y="5"/>
                    <a:pt x="256" y="20"/>
                  </a:cubicBezTo>
                  <a:cubicBezTo>
                    <a:pt x="313" y="35"/>
                    <a:pt x="359" y="52"/>
                    <a:pt x="436" y="92"/>
                  </a:cubicBezTo>
                  <a:cubicBezTo>
                    <a:pt x="513" y="132"/>
                    <a:pt x="649" y="219"/>
                    <a:pt x="720" y="260"/>
                  </a:cubicBezTo>
                  <a:cubicBezTo>
                    <a:pt x="791" y="301"/>
                    <a:pt x="808" y="309"/>
                    <a:pt x="864" y="336"/>
                  </a:cubicBezTo>
                  <a:cubicBezTo>
                    <a:pt x="920" y="363"/>
                    <a:pt x="995" y="399"/>
                    <a:pt x="1056" y="420"/>
                  </a:cubicBezTo>
                  <a:cubicBezTo>
                    <a:pt x="1117" y="441"/>
                    <a:pt x="1182" y="459"/>
                    <a:pt x="1228" y="464"/>
                  </a:cubicBezTo>
                  <a:cubicBezTo>
                    <a:pt x="1274" y="469"/>
                    <a:pt x="1311" y="455"/>
                    <a:pt x="1332" y="452"/>
                  </a:cubicBezTo>
                  <a:cubicBezTo>
                    <a:pt x="1353" y="449"/>
                    <a:pt x="1352" y="445"/>
                    <a:pt x="1356" y="4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632480" y="2203560"/>
              <a:ext cx="1288800" cy="571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61080" y="1873080"/>
              <a:ext cx="971280" cy="444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937120" y="2371680"/>
              <a:ext cx="905040" cy="274680"/>
            </a:xfrm>
            <a:custGeom>
              <a:avLst/>
              <a:gdLst/>
              <a:ahLst/>
              <a:rect l="l" t="t" r="r" b="b"/>
              <a:pathLst>
                <a:path w="570" h="173">
                  <a:moveTo>
                    <a:pt x="0" y="0"/>
                  </a:moveTo>
                  <a:cubicBezTo>
                    <a:pt x="39" y="19"/>
                    <a:pt x="79" y="38"/>
                    <a:pt x="116" y="56"/>
                  </a:cubicBezTo>
                  <a:cubicBezTo>
                    <a:pt x="153" y="74"/>
                    <a:pt x="186" y="91"/>
                    <a:pt x="226" y="106"/>
                  </a:cubicBezTo>
                  <a:cubicBezTo>
                    <a:pt x="266" y="121"/>
                    <a:pt x="313" y="135"/>
                    <a:pt x="354" y="146"/>
                  </a:cubicBezTo>
                  <a:cubicBezTo>
                    <a:pt x="395" y="157"/>
                    <a:pt x="443" y="167"/>
                    <a:pt x="472" y="170"/>
                  </a:cubicBezTo>
                  <a:cubicBezTo>
                    <a:pt x="501" y="173"/>
                    <a:pt x="510" y="168"/>
                    <a:pt x="526" y="164"/>
                  </a:cubicBezTo>
                  <a:cubicBezTo>
                    <a:pt x="542" y="160"/>
                    <a:pt x="556" y="154"/>
                    <a:pt x="570" y="1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5826240" y="1004400"/>
              <a:ext cx="2600280" cy="1589400"/>
              <a:chOff x="5826240" y="1004400"/>
              <a:chExt cx="2600280" cy="1589400"/>
            </a:xfrm>
          </p:grpSpPr>
          <p:sp>
            <p:nvSpPr>
              <p:cNvPr id="1023" name=""/>
              <p:cNvSpPr/>
              <p:nvPr/>
            </p:nvSpPr>
            <p:spPr>
              <a:xfrm>
                <a:off x="7394760" y="1184040"/>
                <a:ext cx="0" cy="90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8421840" y="1004400"/>
                <a:ext cx="4680" cy="476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6462720" y="1687320"/>
                <a:ext cx="6480" cy="9050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391520" y="1174680"/>
                <a:ext cx="1035000" cy="311040"/>
              </a:xfrm>
              <a:custGeom>
                <a:avLst/>
                <a:gdLst/>
                <a:ahLst/>
                <a:rect l="l" t="t" r="r" b="b"/>
                <a:pathLst>
                  <a:path w="652" h="196">
                    <a:moveTo>
                      <a:pt x="0" y="0"/>
                    </a:moveTo>
                    <a:cubicBezTo>
                      <a:pt x="71" y="28"/>
                      <a:pt x="142" y="56"/>
                      <a:pt x="198" y="76"/>
                    </a:cubicBezTo>
                    <a:cubicBezTo>
                      <a:pt x="254" y="96"/>
                      <a:pt x="289" y="106"/>
                      <a:pt x="334" y="120"/>
                    </a:cubicBezTo>
                    <a:cubicBezTo>
                      <a:pt x="379" y="134"/>
                      <a:pt x="425" y="149"/>
                      <a:pt x="468" y="160"/>
                    </a:cubicBezTo>
                    <a:cubicBezTo>
                      <a:pt x="511" y="171"/>
                      <a:pt x="561" y="180"/>
                      <a:pt x="592" y="186"/>
                    </a:cubicBezTo>
                    <a:cubicBezTo>
                      <a:pt x="623" y="192"/>
                      <a:pt x="637" y="194"/>
                      <a:pt x="652" y="19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467760" y="1679400"/>
                <a:ext cx="923760" cy="409680"/>
              </a:xfrm>
              <a:custGeom>
                <a:avLst/>
                <a:gdLst/>
                <a:ahLst/>
                <a:rect l="l" t="t" r="r" b="b"/>
                <a:pathLst>
                  <a:path w="582" h="258">
                    <a:moveTo>
                      <a:pt x="0" y="0"/>
                    </a:moveTo>
                    <a:cubicBezTo>
                      <a:pt x="40" y="25"/>
                      <a:pt x="81" y="51"/>
                      <a:pt x="126" y="76"/>
                    </a:cubicBezTo>
                    <a:cubicBezTo>
                      <a:pt x="171" y="101"/>
                      <a:pt x="227" y="127"/>
                      <a:pt x="272" y="148"/>
                    </a:cubicBezTo>
                    <a:cubicBezTo>
                      <a:pt x="317" y="169"/>
                      <a:pt x="359" y="187"/>
                      <a:pt x="396" y="202"/>
                    </a:cubicBezTo>
                    <a:cubicBezTo>
                      <a:pt x="433" y="217"/>
                      <a:pt x="461" y="227"/>
                      <a:pt x="492" y="236"/>
                    </a:cubicBezTo>
                    <a:cubicBezTo>
                      <a:pt x="523" y="245"/>
                      <a:pt x="552" y="251"/>
                      <a:pt x="582" y="25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826240" y="2307960"/>
                <a:ext cx="644400" cy="285840"/>
              </a:xfrm>
              <a:custGeom>
                <a:avLst/>
                <a:gdLst/>
                <a:ahLst/>
                <a:rect l="l" t="t" r="r" b="b"/>
                <a:pathLst>
                  <a:path w="406" h="180">
                    <a:moveTo>
                      <a:pt x="0" y="0"/>
                    </a:moveTo>
                    <a:cubicBezTo>
                      <a:pt x="26" y="16"/>
                      <a:pt x="53" y="32"/>
                      <a:pt x="88" y="50"/>
                    </a:cubicBezTo>
                    <a:cubicBezTo>
                      <a:pt x="123" y="68"/>
                      <a:pt x="168" y="88"/>
                      <a:pt x="208" y="106"/>
                    </a:cubicBezTo>
                    <a:cubicBezTo>
                      <a:pt x="248" y="124"/>
                      <a:pt x="295" y="146"/>
                      <a:pt x="328" y="158"/>
                    </a:cubicBezTo>
                    <a:cubicBezTo>
                      <a:pt x="361" y="170"/>
                      <a:pt x="393" y="176"/>
                      <a:pt x="406" y="18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 flipV="1">
              <a:off x="4854600" y="1695600"/>
              <a:ext cx="272880" cy="171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flipV="1">
              <a:off x="5330520" y="2095560"/>
              <a:ext cx="253800" cy="10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5983200" y="2391840"/>
              <a:ext cx="209520" cy="101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62240" y="1844640"/>
              <a:ext cx="209880" cy="1015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7740720" y="1317600"/>
              <a:ext cx="241200" cy="69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70640" y="2016000"/>
              <a:ext cx="0" cy="2415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396200" y="1474920"/>
              <a:ext cx="0" cy="241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424720" y="1093680"/>
              <a:ext cx="0" cy="2415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67160" y="1689120"/>
              <a:ext cx="0" cy="167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 flipV="1">
              <a:off x="5011560" y="2677680"/>
              <a:ext cx="457200" cy="1969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61120" y="754200"/>
              <a:ext cx="1386000" cy="355320"/>
            </a:xfrm>
            <a:custGeom>
              <a:avLst/>
              <a:gdLst/>
              <a:ahLst/>
              <a:rect l="l" t="t" r="r" b="b"/>
              <a:pathLst>
                <a:path w="873" h="224">
                  <a:moveTo>
                    <a:pt x="0" y="23"/>
                  </a:moveTo>
                  <a:cubicBezTo>
                    <a:pt x="33" y="13"/>
                    <a:pt x="66" y="4"/>
                    <a:pt x="102" y="2"/>
                  </a:cubicBezTo>
                  <a:cubicBezTo>
                    <a:pt x="138" y="0"/>
                    <a:pt x="171" y="5"/>
                    <a:pt x="216" y="11"/>
                  </a:cubicBezTo>
                  <a:cubicBezTo>
                    <a:pt x="261" y="17"/>
                    <a:pt x="318" y="25"/>
                    <a:pt x="375" y="41"/>
                  </a:cubicBezTo>
                  <a:cubicBezTo>
                    <a:pt x="432" y="57"/>
                    <a:pt x="515" y="91"/>
                    <a:pt x="558" y="107"/>
                  </a:cubicBezTo>
                  <a:cubicBezTo>
                    <a:pt x="601" y="123"/>
                    <a:pt x="607" y="128"/>
                    <a:pt x="636" y="140"/>
                  </a:cubicBezTo>
                  <a:cubicBezTo>
                    <a:pt x="665" y="152"/>
                    <a:pt x="693" y="165"/>
                    <a:pt x="732" y="179"/>
                  </a:cubicBezTo>
                  <a:cubicBezTo>
                    <a:pt x="771" y="193"/>
                    <a:pt x="850" y="217"/>
                    <a:pt x="873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970680" y="838080"/>
              <a:ext cx="1585800" cy="409680"/>
            </a:xfrm>
            <a:custGeom>
              <a:avLst/>
              <a:gdLst/>
              <a:ahLst/>
              <a:rect l="l" t="t" r="r" b="b"/>
              <a:pathLst>
                <a:path w="999" h="258">
                  <a:moveTo>
                    <a:pt x="0" y="21"/>
                  </a:moveTo>
                  <a:cubicBezTo>
                    <a:pt x="24" y="13"/>
                    <a:pt x="48" y="6"/>
                    <a:pt x="81" y="3"/>
                  </a:cubicBezTo>
                  <a:cubicBezTo>
                    <a:pt x="114" y="0"/>
                    <a:pt x="159" y="0"/>
                    <a:pt x="198" y="3"/>
                  </a:cubicBezTo>
                  <a:cubicBezTo>
                    <a:pt x="237" y="6"/>
                    <a:pt x="278" y="16"/>
                    <a:pt x="315" y="24"/>
                  </a:cubicBezTo>
                  <a:cubicBezTo>
                    <a:pt x="352" y="32"/>
                    <a:pt x="382" y="39"/>
                    <a:pt x="420" y="51"/>
                  </a:cubicBezTo>
                  <a:cubicBezTo>
                    <a:pt x="458" y="63"/>
                    <a:pt x="502" y="80"/>
                    <a:pt x="543" y="96"/>
                  </a:cubicBezTo>
                  <a:cubicBezTo>
                    <a:pt x="584" y="112"/>
                    <a:pt x="626" y="130"/>
                    <a:pt x="669" y="147"/>
                  </a:cubicBezTo>
                  <a:cubicBezTo>
                    <a:pt x="712" y="164"/>
                    <a:pt x="749" y="183"/>
                    <a:pt x="804" y="201"/>
                  </a:cubicBezTo>
                  <a:cubicBezTo>
                    <a:pt x="859" y="219"/>
                    <a:pt x="964" y="248"/>
                    <a:pt x="999" y="2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5262480" y="669600"/>
              <a:ext cx="2455920" cy="1017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262080" y="3767040"/>
            <a:ext cx="877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se current paths encounter resistance in the vertical parts so that the currents decay with a time const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128680" y="4168800"/>
                <a:ext cx="13543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4" name=""/>
          <p:cNvSpPr/>
          <p:nvPr/>
        </p:nvSpPr>
        <p:spPr>
          <a:xfrm>
            <a:off x="4032720" y="4430880"/>
            <a:ext cx="4852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the transverse resistivity across the wire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934920" y="5522760"/>
                <a:ext cx="1368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240120" y="5091120"/>
            <a:ext cx="60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magnetization is increased by a rate dependent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676960" y="5627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`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the rate of change of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10960" y="152280"/>
            <a:ext cx="8583840" cy="60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Rate dependent magnetization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049" name=""/>
          <p:cNvSpPr/>
          <p:nvPr/>
        </p:nvSpPr>
        <p:spPr>
          <a:xfrm>
            <a:off x="352440" y="9158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gnetization of the wire has two component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1057320" y="1881360"/>
                <a:ext cx="1224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309600" y="2692440"/>
            <a:ext cx="30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) coupling between fila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1"/>
          <a:stretch/>
        </p:blipFill>
        <p:spPr>
          <a:xfrm>
            <a:off x="3618000" y="844560"/>
            <a:ext cx="5317920" cy="374508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/>
          <p:nvPr/>
        </p:nvSpPr>
        <p:spPr>
          <a:xfrm>
            <a:off x="4966560" y="10987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utiger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4925880" y="106200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925400" y="35989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utiger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8228160" y="3766680"/>
            <a:ext cx="32544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09600" y="155880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) persistent current in fila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1019160" y="3024360"/>
                <a:ext cx="1284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1141560" y="505944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 loss per cycle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3905280" y="4991040"/>
                <a:ext cx="1136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d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61" name=""/>
          <p:cNvSpPr/>
          <p:nvPr/>
        </p:nvSpPr>
        <p:spPr>
          <a:xfrm>
            <a:off x="1153080" y="55958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ss power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279600" y="5594400"/>
                <a:ext cx="9255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63" name=""/>
          <p:cNvSpPr/>
          <p:nvPr/>
        </p:nvSpPr>
        <p:spPr>
          <a:xfrm>
            <a:off x="5231160" y="5046840"/>
            <a:ext cx="14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ules per m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378680" y="560556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tts per m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7680" y="3890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) total magnetiz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1042920" y="4302000"/>
                <a:ext cx="14907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Magnetization and field errors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1"/>
          <a:srcRect l="1943" t="1667" r="2045" b="1800"/>
          <a:stretch/>
        </p:blipFill>
        <p:spPr>
          <a:xfrm>
            <a:off x="533520" y="1752480"/>
            <a:ext cx="7315200" cy="441972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365040" y="824040"/>
            <a:ext cx="79408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gnetization produces field errors in the mag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ror has two components – persistent current and coupl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848720" y="3581280"/>
            <a:ext cx="11430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Times New Roman"/>
              </a:rPr>
              <a:t>skew quadrupole error in Nb</a:t>
            </a:r>
            <a:r>
              <a:rPr b="0" i="1" lang="en-GB" sz="1600" spc="-1" strike="noStrike" baseline="-25000">
                <a:solidFill>
                  <a:srgbClr val="ff00ff"/>
                </a:solidFill>
                <a:latin typeface="Times New Roman"/>
              </a:rPr>
              <a:t>3</a:t>
            </a:r>
            <a:r>
              <a:rPr b="0" i="1" lang="en-GB" sz="1600" spc="-1" strike="noStrike">
                <a:solidFill>
                  <a:srgbClr val="ff00ff"/>
                </a:solidFill>
                <a:latin typeface="Times New Roman"/>
              </a:rPr>
              <a:t>Sn dipole (Universityof Tw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4330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Losses in cables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48927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ke the filaments in composite wires, the wires in cables must be twisted to reduce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724280" y="5181480"/>
            <a:ext cx="419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6058080" y="304920"/>
            <a:ext cx="2885760" cy="295596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2"/>
          <a:stretch/>
        </p:blipFill>
        <p:spPr>
          <a:xfrm>
            <a:off x="546120" y="1457280"/>
            <a:ext cx="5502240" cy="238932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446040" y="4332240"/>
            <a:ext cx="55674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ensure good current sharing during ramp up to field, the wires should be in electrical contact with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electrical contact means that wires can be coupled together during changing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upling means further increase in magnetization and extra lo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3"/>
          <a:srcRect l="0" t="0" r="29623" b="0"/>
          <a:stretch/>
        </p:blipFill>
        <p:spPr>
          <a:xfrm>
            <a:off x="6137280" y="3936960"/>
            <a:ext cx="2776680" cy="219564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955800" y="384012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349"/>
              </a:spcAft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Rutherford cable  </a:t>
            </a:r>
            <a:r>
              <a:rPr b="0" i="1" lang="en-GB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ff"/>
                </a:solidFill>
                <a:latin typeface="Symbol"/>
                <a:ea typeface="Symbol"/>
              </a:rPr>
              <a:t></a:t>
            </a:r>
            <a:r>
              <a:rPr b="1" lang="en-GB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used in accel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232680" y="3117960"/>
            <a:ext cx="271620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349"/>
              </a:spcAft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twisted rope  </a:t>
            </a:r>
            <a:r>
              <a:rPr b="1" lang="en-GB" sz="1800" spc="-1" strike="noStrike">
                <a:solidFill>
                  <a:srgbClr val="ff00ff"/>
                </a:solidFill>
                <a:latin typeface="Symbol"/>
                <a:ea typeface="Symbol"/>
              </a:rPr>
              <a:t>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349"/>
              </a:spcAft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used in CICCs   </a:t>
            </a:r>
            <a:r>
              <a:rPr b="1" lang="en-GB" sz="1800" spc="-1" strike="noStrike">
                <a:solidFill>
                  <a:srgbClr val="ff00ff"/>
                </a:solidFill>
                <a:latin typeface="Symbol"/>
                <a:ea typeface="Symbol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Rutherford cable:</a:t>
            </a:r>
            <a:r>
              <a:rPr b="0" i="1" lang="en-GB" sz="2800" spc="-1" strike="noStrike">
                <a:solidFill>
                  <a:srgbClr val="333399"/>
                </a:solidFill>
                <a:latin typeface="Lucida Bright"/>
              </a:rPr>
              <a:t> </a:t>
            </a:r>
            <a:r>
              <a:rPr b="0" i="1" lang="en-GB" sz="2400" spc="-1" strike="noStrike">
                <a:solidFill>
                  <a:srgbClr val="333399"/>
                </a:solidFill>
                <a:latin typeface="Lucida Bright"/>
              </a:rPr>
              <a:t>field perpendicular to broad face</a:t>
            </a:r>
            <a:endParaRPr b="0" i="1" lang="en-US" sz="24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94920" y="2781360"/>
            <a:ext cx="85201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ing fields perpendicular to the broad face induce diamond shaped current loo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rrent flows along the </a:t>
            </a:r>
            <a:r>
              <a:rPr b="1" lang="en-GB" sz="1600" spc="-1" strike="noStrike">
                <a:solidFill>
                  <a:srgbClr val="00e5e0"/>
                </a:solidFill>
                <a:latin typeface="Arial"/>
              </a:rPr>
              <a:t>top surfa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n downwards through a </a:t>
            </a:r>
            <a:r>
              <a:rPr b="1" lang="en-GB" sz="1600" spc="-1" strike="noStrike">
                <a:solidFill>
                  <a:srgbClr val="777777"/>
                </a:solidFill>
                <a:latin typeface="Arial"/>
              </a:rPr>
              <a:t>crossov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long the </a:t>
            </a: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bottom surfac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 then over the edge and up to th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e5e0"/>
                </a:solidFill>
                <a:latin typeface="Arial"/>
              </a:rPr>
              <a:t>top 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305920" cy="157320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>
            <a:off x="395280" y="3840120"/>
            <a:ext cx="60688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whole range of different loops are possible and are all  induced simultaneously by a changing fiel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y must be summed together to calculate the magne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exact calculations, a network model should be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re we use an approximate continuum model, which gives similar answ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732720" y="4221000"/>
            <a:ext cx="2015640" cy="1077840"/>
            <a:chOff x="6732720" y="4221000"/>
            <a:chExt cx="2015640" cy="1077840"/>
          </a:xfrm>
        </p:grpSpPr>
        <p:grpSp>
          <p:nvGrpSpPr>
            <p:cNvPr id="1085" name=""/>
            <p:cNvGrpSpPr/>
            <p:nvPr/>
          </p:nvGrpSpPr>
          <p:grpSpPr>
            <a:xfrm>
              <a:off x="6732720" y="4941720"/>
              <a:ext cx="2015640" cy="179280"/>
              <a:chOff x="6732720" y="4941720"/>
              <a:chExt cx="2015640" cy="17928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6732720" y="4941720"/>
                <a:ext cx="671040" cy="179280"/>
                <a:chOff x="6732720" y="4941720"/>
                <a:chExt cx="671040" cy="17928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732720" y="4941720"/>
                  <a:ext cx="168120" cy="179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900840" y="4941720"/>
                  <a:ext cx="168120" cy="179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067520" y="4941720"/>
                  <a:ext cx="168120" cy="179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235640" y="4941720"/>
                  <a:ext cx="168120" cy="179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7404120" y="4941720"/>
                <a:ext cx="672840" cy="179280"/>
                <a:chOff x="7404120" y="4941720"/>
                <a:chExt cx="672840" cy="17928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7404120" y="4941720"/>
                  <a:ext cx="168480" cy="179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572600" y="4941720"/>
                  <a:ext cx="168480" cy="179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7739640" y="4941720"/>
                  <a:ext cx="168480" cy="179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908480" y="4941720"/>
                  <a:ext cx="168480" cy="179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8077320" y="4941720"/>
                <a:ext cx="671040" cy="179280"/>
                <a:chOff x="8077320" y="4941720"/>
                <a:chExt cx="671040" cy="17928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8077320" y="4941720"/>
                  <a:ext cx="168120" cy="179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8245440" y="4941720"/>
                  <a:ext cx="168120" cy="179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8412120" y="4941720"/>
                  <a:ext cx="168120" cy="179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8580240" y="4941720"/>
                  <a:ext cx="168120" cy="179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"/>
            <p:cNvGrpSpPr/>
            <p:nvPr/>
          </p:nvGrpSpPr>
          <p:grpSpPr>
            <a:xfrm>
              <a:off x="6732720" y="5121360"/>
              <a:ext cx="2015640" cy="177480"/>
              <a:chOff x="6732720" y="5121360"/>
              <a:chExt cx="2015640" cy="177480"/>
            </a:xfrm>
          </p:grpSpPr>
          <p:grpSp>
            <p:nvGrpSpPr>
              <p:cNvPr id="1102" name=""/>
              <p:cNvGrpSpPr/>
              <p:nvPr/>
            </p:nvGrpSpPr>
            <p:grpSpPr>
              <a:xfrm>
                <a:off x="6732720" y="5121360"/>
                <a:ext cx="671040" cy="177480"/>
                <a:chOff x="6732720" y="5121360"/>
                <a:chExt cx="671040" cy="17748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6732720" y="5121360"/>
                  <a:ext cx="168120" cy="177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6900840" y="5121360"/>
                  <a:ext cx="168120" cy="177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7067520" y="5121360"/>
                  <a:ext cx="168120" cy="177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7235640" y="5121360"/>
                  <a:ext cx="168120" cy="177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404120" y="5121360"/>
                <a:ext cx="672840" cy="177480"/>
                <a:chOff x="7404120" y="5121360"/>
                <a:chExt cx="672840" cy="1774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4120" y="5121360"/>
                  <a:ext cx="168480" cy="177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572600" y="5121360"/>
                  <a:ext cx="168480" cy="177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7739640" y="5121360"/>
                  <a:ext cx="168480" cy="177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7908480" y="5121360"/>
                  <a:ext cx="168480" cy="177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8077320" y="5121360"/>
                <a:ext cx="671040" cy="177480"/>
                <a:chOff x="8077320" y="5121360"/>
                <a:chExt cx="671040" cy="1774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8077320" y="5121360"/>
                  <a:ext cx="168120" cy="177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8245440" y="5121360"/>
                  <a:ext cx="168120" cy="177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8412120" y="5121360"/>
                  <a:ext cx="168120" cy="177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8580240" y="5121360"/>
                  <a:ext cx="168120" cy="177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7" name=""/>
            <p:cNvSpPr/>
            <p:nvPr/>
          </p:nvSpPr>
          <p:spPr>
            <a:xfrm flipV="1">
              <a:off x="7738920" y="4221000"/>
              <a:ext cx="0" cy="4492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824960" y="4221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164360" y="501336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8317080" y="5013360"/>
              <a:ext cx="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The critical state model 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56" name=""/>
          <p:cNvSpPr/>
          <p:nvPr/>
        </p:nvSpPr>
        <p:spPr>
          <a:xfrm>
            <a:off x="4687920" y="3556080"/>
            <a:ext cx="396864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n the field sweep stops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erconductor goes back t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Aft>
                <a:spcPts val="1199"/>
              </a:spcAft>
              <a:tabLst>
                <a:tab algn="l" pos="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nd then stays t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critical state mode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within a superconductor, the 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current density is 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+ Jc - Jc or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there's nothing in betwe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ff00ff"/>
              </a:buClr>
              <a:buFont typeface="Arial"/>
              <a:buChar char="•"/>
              <a:tabLst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0960" y="4170240"/>
            <a:ext cx="3627360" cy="18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erconducting slab placed in a changing magnetic fiel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ume it's infinitely long in th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rections  -  simplifies the algebra to a 1dim problem in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the external field from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09720" y="866520"/>
            <a:ext cx="2020680" cy="3080880"/>
            <a:chOff x="909720" y="866520"/>
            <a:chExt cx="2020680" cy="3080880"/>
          </a:xfrm>
        </p:grpSpPr>
        <p:sp>
          <p:nvSpPr>
            <p:cNvPr id="59" name=""/>
            <p:cNvSpPr/>
            <p:nvPr/>
          </p:nvSpPr>
          <p:spPr>
            <a:xfrm>
              <a:off x="1387440" y="866880"/>
              <a:ext cx="1540080" cy="873000"/>
            </a:xfrm>
            <a:custGeom>
              <a:avLst/>
              <a:gdLst/>
              <a:ahLst/>
              <a:rect l="l" t="t" r="r" b="b"/>
              <a:pathLst>
                <a:path w="970" h="550">
                  <a:moveTo>
                    <a:pt x="0" y="548"/>
                  </a:moveTo>
                  <a:lnTo>
                    <a:pt x="646" y="0"/>
                  </a:lnTo>
                  <a:lnTo>
                    <a:pt x="970" y="4"/>
                  </a:lnTo>
                  <a:lnTo>
                    <a:pt x="322" y="550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a3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98640" y="879480"/>
              <a:ext cx="1028880" cy="2984400"/>
            </a:xfrm>
            <a:custGeom>
              <a:avLst/>
              <a:gdLst/>
              <a:ahLst/>
              <a:rect l="l" t="t" r="r" b="b"/>
              <a:pathLst>
                <a:path w="648" h="1880">
                  <a:moveTo>
                    <a:pt x="0" y="548"/>
                  </a:moveTo>
                  <a:lnTo>
                    <a:pt x="648" y="0"/>
                  </a:lnTo>
                  <a:lnTo>
                    <a:pt x="644" y="1332"/>
                  </a:lnTo>
                  <a:lnTo>
                    <a:pt x="0" y="1880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a3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80960" y="1743120"/>
              <a:ext cx="519120" cy="2120760"/>
            </a:xfrm>
            <a:prstGeom prst="rect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903320" y="2998800"/>
              <a:ext cx="1025640" cy="8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88800" y="2776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141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23960" y="1724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51080" y="2521080"/>
              <a:ext cx="177840" cy="288720"/>
            </a:xfrm>
            <a:prstGeom prst="upArrow">
              <a:avLst>
                <a:gd name="adj1" fmla="val 36361"/>
                <a:gd name="adj2" fmla="val 62910"/>
              </a:avLst>
            </a:prstGeom>
            <a:solidFill>
              <a:srgbClr val="414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1905120" y="876240"/>
              <a:ext cx="1025280" cy="8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380960" y="866520"/>
              <a:ext cx="102564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09720" y="2076480"/>
              <a:ext cx="371520" cy="352440"/>
            </a:xfrm>
            <a:custGeom>
              <a:avLst/>
              <a:gdLst/>
              <a:ahLst/>
              <a:rect l="l" t="t" r="r" b="b"/>
              <a:pathLst>
                <a:path w="234" h="222">
                  <a:moveTo>
                    <a:pt x="0" y="168"/>
                  </a:moveTo>
                  <a:lnTo>
                    <a:pt x="150" y="44"/>
                  </a:lnTo>
                  <a:lnTo>
                    <a:pt x="150" y="4"/>
                  </a:lnTo>
                  <a:lnTo>
                    <a:pt x="234" y="0"/>
                  </a:lnTo>
                  <a:lnTo>
                    <a:pt x="148" y="152"/>
                  </a:lnTo>
                  <a:lnTo>
                    <a:pt x="148" y="96"/>
                  </a:lnTo>
                  <a:lnTo>
                    <a:pt x="0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0800000">
              <a:off x="2071800" y="1956960"/>
              <a:ext cx="371520" cy="352440"/>
            </a:xfrm>
            <a:custGeom>
              <a:avLst/>
              <a:gdLst/>
              <a:ahLst/>
              <a:rect l="l" t="t" r="r" b="b"/>
              <a:pathLst>
                <a:path w="234" h="222">
                  <a:moveTo>
                    <a:pt x="0" y="168"/>
                  </a:moveTo>
                  <a:lnTo>
                    <a:pt x="150" y="44"/>
                  </a:lnTo>
                  <a:lnTo>
                    <a:pt x="150" y="4"/>
                  </a:lnTo>
                  <a:lnTo>
                    <a:pt x="234" y="0"/>
                  </a:lnTo>
                  <a:lnTo>
                    <a:pt x="148" y="152"/>
                  </a:lnTo>
                  <a:lnTo>
                    <a:pt x="148" y="96"/>
                  </a:lnTo>
                  <a:lnTo>
                    <a:pt x="0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74520" y="2522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49280" y="3610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11360" y="380376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670280" y="760320"/>
            <a:ext cx="4473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ff"/>
                </a:solidFill>
                <a:latin typeface="Times New Roman"/>
              </a:rPr>
              <a:t>dB/d</a:t>
            </a:r>
            <a:r>
              <a:rPr b="1" i="1" lang="en-GB" sz="16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es an electric field </a:t>
            </a:r>
            <a:r>
              <a:rPr b="1" i="1" lang="en-GB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GB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superconductor which drives it into the resistiv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537520" y="1665360"/>
            <a:ext cx="2583720" cy="2004840"/>
            <a:chOff x="5537520" y="1665360"/>
            <a:chExt cx="2583720" cy="2004840"/>
          </a:xfrm>
        </p:grpSpPr>
        <p:sp>
          <p:nvSpPr>
            <p:cNvPr id="75" name=""/>
            <p:cNvSpPr/>
            <p:nvPr/>
          </p:nvSpPr>
          <p:spPr>
            <a:xfrm>
              <a:off x="5950800" y="1681560"/>
              <a:ext cx="0" cy="160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50800" y="3291120"/>
              <a:ext cx="217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37520" y="22309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18120" y="333288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85880" y="2451960"/>
              <a:ext cx="415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imes New Roman"/>
                </a:rPr>
                <a:t>J</a:t>
              </a:r>
              <a:r>
                <a:rPr b="1" lang="en-GB" sz="1600" spc="-1" strike="noStrike" baseline="-25000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410240" y="2889000"/>
              <a:ext cx="0" cy="401760"/>
            </a:xfrm>
            <a:prstGeom prst="line">
              <a:avLst/>
            </a:prstGeom>
            <a:ln w="284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57640" y="1665360"/>
              <a:ext cx="1685160" cy="1517040"/>
            </a:xfrm>
            <a:custGeom>
              <a:avLst/>
              <a:gdLst/>
              <a:ahLst/>
              <a:rect l="l" t="t" r="r" b="b"/>
              <a:pathLst>
                <a:path w="956" h="837">
                  <a:moveTo>
                    <a:pt x="0" y="832"/>
                  </a:moveTo>
                  <a:cubicBezTo>
                    <a:pt x="300" y="832"/>
                    <a:pt x="600" y="833"/>
                    <a:pt x="730" y="834"/>
                  </a:cubicBezTo>
                  <a:cubicBezTo>
                    <a:pt x="860" y="835"/>
                    <a:pt x="765" y="836"/>
                    <a:pt x="780" y="836"/>
                  </a:cubicBezTo>
                  <a:cubicBezTo>
                    <a:pt x="795" y="836"/>
                    <a:pt x="806" y="837"/>
                    <a:pt x="818" y="834"/>
                  </a:cubicBezTo>
                  <a:cubicBezTo>
                    <a:pt x="830" y="831"/>
                    <a:pt x="841" y="826"/>
                    <a:pt x="850" y="820"/>
                  </a:cubicBezTo>
                  <a:cubicBezTo>
                    <a:pt x="859" y="814"/>
                    <a:pt x="866" y="808"/>
                    <a:pt x="872" y="798"/>
                  </a:cubicBezTo>
                  <a:cubicBezTo>
                    <a:pt x="878" y="788"/>
                    <a:pt x="882" y="779"/>
                    <a:pt x="886" y="760"/>
                  </a:cubicBezTo>
                  <a:cubicBezTo>
                    <a:pt x="890" y="741"/>
                    <a:pt x="894" y="724"/>
                    <a:pt x="898" y="686"/>
                  </a:cubicBezTo>
                  <a:cubicBezTo>
                    <a:pt x="902" y="648"/>
                    <a:pt x="907" y="596"/>
                    <a:pt x="912" y="534"/>
                  </a:cubicBezTo>
                  <a:cubicBezTo>
                    <a:pt x="917" y="472"/>
                    <a:pt x="921" y="401"/>
                    <a:pt x="928" y="312"/>
                  </a:cubicBezTo>
                  <a:cubicBezTo>
                    <a:pt x="935" y="223"/>
                    <a:pt x="945" y="111"/>
                    <a:pt x="95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751000" y="1684440"/>
              <a:ext cx="0" cy="3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2600" y="3523320"/>
              <a:ext cx="3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Coupling magnetization in Rutherford cable 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82320" y="918720"/>
            <a:ext cx="54594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eld perpendicular to broad face, coupling through crossover resistance </a:t>
            </a:r>
            <a:r>
              <a:rPr b="1" lang="en-GB" sz="1600" spc="-1" strike="noStrike">
                <a:solidFill>
                  <a:srgbClr val="0064ff"/>
                </a:solidFill>
                <a:latin typeface="Arial"/>
              </a:rPr>
              <a:t>R</a:t>
            </a:r>
            <a:r>
              <a:rPr b="1" lang="en-GB" sz="1600" spc="-1" strike="noStrike" baseline="-25000">
                <a:solidFill>
                  <a:srgbClr val="0064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760320" y="1560600"/>
                <a:ext cx="2022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5859360" y="923760"/>
            <a:ext cx="2698920" cy="142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741840" y="1612800"/>
                <a:ext cx="14810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B</m:t>
                        </m:r>
                      </m:e>
                    </m:acc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841320" y="3676680"/>
                <a:ext cx="23036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790800" y="3719520"/>
                <a:ext cx="2009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B</m:t>
                        </m:r>
                      </m:e>
                    </m:acc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138560" y="5411880"/>
                <a:ext cx="23036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B</m:t>
                        </m:r>
                      </m:e>
                    </m:acc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824040" y="5369040"/>
                <a:ext cx="25336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30" name=""/>
          <p:cNvGrpSpPr/>
          <p:nvPr/>
        </p:nvGrpSpPr>
        <p:grpSpPr>
          <a:xfrm>
            <a:off x="6620400" y="2445840"/>
            <a:ext cx="1773720" cy="1537920"/>
            <a:chOff x="6620400" y="2445840"/>
            <a:chExt cx="1773720" cy="1537920"/>
          </a:xfrm>
        </p:grpSpPr>
        <p:grpSp>
          <p:nvGrpSpPr>
            <p:cNvPr id="1131" name=""/>
            <p:cNvGrpSpPr/>
            <p:nvPr/>
          </p:nvGrpSpPr>
          <p:grpSpPr>
            <a:xfrm>
              <a:off x="6620400" y="2445840"/>
              <a:ext cx="1773720" cy="1537920"/>
              <a:chOff x="6620400" y="2445840"/>
              <a:chExt cx="1773720" cy="1537920"/>
            </a:xfrm>
          </p:grpSpPr>
          <p:sp>
            <p:nvSpPr>
              <p:cNvPr id="1132" name=""/>
              <p:cNvSpPr/>
              <p:nvPr/>
            </p:nvSpPr>
            <p:spPr>
              <a:xfrm>
                <a:off x="7691400" y="3205080"/>
                <a:ext cx="471600" cy="561960"/>
              </a:xfrm>
              <a:custGeom>
                <a:avLst/>
                <a:gdLst/>
                <a:ahLst/>
                <a:rect l="l" t="t" r="r" b="b"/>
                <a:pathLst>
                  <a:path w="297" h="354">
                    <a:moveTo>
                      <a:pt x="0" y="162"/>
                    </a:moveTo>
                    <a:lnTo>
                      <a:pt x="42" y="354"/>
                    </a:lnTo>
                    <a:lnTo>
                      <a:pt x="51" y="315"/>
                    </a:lnTo>
                    <a:lnTo>
                      <a:pt x="78" y="267"/>
                    </a:lnTo>
                    <a:lnTo>
                      <a:pt x="138" y="225"/>
                    </a:lnTo>
                    <a:lnTo>
                      <a:pt x="198" y="210"/>
                    </a:lnTo>
                    <a:lnTo>
                      <a:pt x="267" y="225"/>
                    </a:lnTo>
                    <a:lnTo>
                      <a:pt x="297" y="255"/>
                    </a:lnTo>
                    <a:lnTo>
                      <a:pt x="183" y="0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ab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"/>
              <p:cNvGrpSpPr/>
              <p:nvPr/>
            </p:nvGrpSpPr>
            <p:grpSpPr>
              <a:xfrm>
                <a:off x="6620400" y="2445840"/>
                <a:ext cx="1405440" cy="1231560"/>
                <a:chOff x="6620400" y="2445840"/>
                <a:chExt cx="1405440" cy="123156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6796080" y="2509920"/>
                  <a:ext cx="1152720" cy="1014480"/>
                </a:xfrm>
                <a:custGeom>
                  <a:avLst/>
                  <a:gdLst/>
                  <a:ahLst/>
                  <a:rect l="l" t="t" r="r" b="b"/>
                  <a:pathLst>
                    <a:path w="726" h="639">
                      <a:moveTo>
                        <a:pt x="0" y="429"/>
                      </a:moveTo>
                      <a:lnTo>
                        <a:pt x="582" y="9"/>
                      </a:lnTo>
                      <a:lnTo>
                        <a:pt x="606" y="0"/>
                      </a:lnTo>
                      <a:lnTo>
                        <a:pt x="639" y="3"/>
                      </a:lnTo>
                      <a:lnTo>
                        <a:pt x="678" y="21"/>
                      </a:lnTo>
                      <a:lnTo>
                        <a:pt x="714" y="60"/>
                      </a:lnTo>
                      <a:lnTo>
                        <a:pt x="726" y="108"/>
                      </a:lnTo>
                      <a:lnTo>
                        <a:pt x="726" y="153"/>
                      </a:lnTo>
                      <a:lnTo>
                        <a:pt x="714" y="171"/>
                      </a:lnTo>
                      <a:lnTo>
                        <a:pt x="162" y="639"/>
                      </a:lnTo>
                      <a:lnTo>
                        <a:pt x="171" y="609"/>
                      </a:lnTo>
                      <a:lnTo>
                        <a:pt x="159" y="531"/>
                      </a:lnTo>
                      <a:lnTo>
                        <a:pt x="123" y="480"/>
                      </a:lnTo>
                      <a:lnTo>
                        <a:pt x="81" y="444"/>
                      </a:lnTo>
                      <a:lnTo>
                        <a:pt x="45" y="42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rot="19716000">
                  <a:off x="6710400" y="3186000"/>
                  <a:ext cx="326880" cy="438120"/>
                </a:xfrm>
                <a:prstGeom prst="ellipse">
                  <a:avLst/>
                </a:prstGeom>
                <a:solidFill>
                  <a:srgbClr val="ff535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V="1">
                  <a:off x="6753240" y="2519280"/>
                  <a:ext cx="966960" cy="704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V="1">
                  <a:off x="7005600" y="2781000"/>
                  <a:ext cx="938160" cy="79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rot="3289200">
                  <a:off x="7642440" y="2531160"/>
                  <a:ext cx="347760" cy="266760"/>
                </a:xfrm>
                <a:prstGeom prst="blockArc">
                  <a:avLst>
                    <a:gd name="adj1" fmla="val 10721549"/>
                    <a:gd name="adj2" fmla="val 78451"/>
                    <a:gd name="adj3" fmla="val 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6988680" y="2590200"/>
                <a:ext cx="1405440" cy="1231560"/>
                <a:chOff x="6988680" y="2590200"/>
                <a:chExt cx="1405440" cy="123156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7164360" y="2654280"/>
                  <a:ext cx="1152720" cy="1014480"/>
                </a:xfrm>
                <a:custGeom>
                  <a:avLst/>
                  <a:gdLst/>
                  <a:ahLst/>
                  <a:rect l="l" t="t" r="r" b="b"/>
                  <a:pathLst>
                    <a:path w="726" h="639">
                      <a:moveTo>
                        <a:pt x="0" y="429"/>
                      </a:moveTo>
                      <a:lnTo>
                        <a:pt x="582" y="9"/>
                      </a:lnTo>
                      <a:lnTo>
                        <a:pt x="606" y="0"/>
                      </a:lnTo>
                      <a:lnTo>
                        <a:pt x="639" y="3"/>
                      </a:lnTo>
                      <a:lnTo>
                        <a:pt x="678" y="21"/>
                      </a:lnTo>
                      <a:lnTo>
                        <a:pt x="714" y="60"/>
                      </a:lnTo>
                      <a:lnTo>
                        <a:pt x="726" y="108"/>
                      </a:lnTo>
                      <a:lnTo>
                        <a:pt x="726" y="153"/>
                      </a:lnTo>
                      <a:lnTo>
                        <a:pt x="714" y="171"/>
                      </a:lnTo>
                      <a:lnTo>
                        <a:pt x="162" y="639"/>
                      </a:lnTo>
                      <a:lnTo>
                        <a:pt x="171" y="609"/>
                      </a:lnTo>
                      <a:lnTo>
                        <a:pt x="159" y="531"/>
                      </a:lnTo>
                      <a:lnTo>
                        <a:pt x="123" y="480"/>
                      </a:lnTo>
                      <a:lnTo>
                        <a:pt x="81" y="444"/>
                      </a:lnTo>
                      <a:lnTo>
                        <a:pt x="45" y="42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rot="19716000">
                  <a:off x="7078680" y="3330360"/>
                  <a:ext cx="326880" cy="438120"/>
                </a:xfrm>
                <a:prstGeom prst="ellipse">
                  <a:avLst/>
                </a:prstGeom>
                <a:solidFill>
                  <a:srgbClr val="ff535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V="1">
                  <a:off x="7121520" y="2663640"/>
                  <a:ext cx="966960" cy="704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V="1">
                  <a:off x="7373880" y="2925360"/>
                  <a:ext cx="938160" cy="79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3289200">
                  <a:off x="8010720" y="2675520"/>
                  <a:ext cx="347760" cy="266760"/>
                </a:xfrm>
                <a:prstGeom prst="blockArc">
                  <a:avLst>
                    <a:gd name="adj1" fmla="val 10721549"/>
                    <a:gd name="adj2" fmla="val 78451"/>
                    <a:gd name="adj3" fmla="val 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5" name=""/>
              <p:cNvSpPr/>
              <p:nvPr/>
            </p:nvSpPr>
            <p:spPr>
              <a:xfrm rot="19957200">
                <a:off x="7763040" y="3563640"/>
                <a:ext cx="433080" cy="339480"/>
              </a:xfrm>
              <a:prstGeom prst="ellipse">
                <a:avLst/>
              </a:prstGeom>
              <a:solidFill>
                <a:srgbClr val="53a1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 flipV="1">
                <a:off x="7981920" y="3200400"/>
                <a:ext cx="200160" cy="4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 flipV="1">
                <a:off x="7686720" y="3466800"/>
                <a:ext cx="8568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 flipH="1" flipV="1">
              <a:off x="7281720" y="2990880"/>
              <a:ext cx="424080" cy="185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891560" y="3076560"/>
              <a:ext cx="0" cy="357120"/>
            </a:xfrm>
            <a:prstGeom prst="line">
              <a:avLst/>
            </a:prstGeom>
            <a:ln w="19080">
              <a:solidFill>
                <a:srgbClr val="0064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286400" y="269856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791480" y="2803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4ff"/>
                  </a:solidFill>
                  <a:latin typeface="Arial"/>
                </a:rPr>
                <a:t>R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760320" y="2230560"/>
            <a:ext cx="439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GB" sz="1600" spc="-1" strike="noStrike">
                <a:solidFill>
                  <a:srgbClr val="0064ff"/>
                </a:solidFill>
                <a:latin typeface="Arial"/>
              </a:rPr>
              <a:t>R</a:t>
            </a:r>
            <a:r>
              <a:rPr b="1" lang="en-GB" sz="1600" spc="-1" strike="noStrike" baseline="-25000">
                <a:solidFill>
                  <a:srgbClr val="0064ff"/>
                </a:solidFill>
                <a:latin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crossover resistance per contact and </a:t>
            </a:r>
            <a:r>
              <a:rPr b="1" lang="en-GB" sz="1600" spc="-1" strike="noStrike">
                <a:solidFill>
                  <a:srgbClr val="0064ff"/>
                </a:solidFill>
                <a:latin typeface="Arial"/>
              </a:rPr>
              <a:t>r</a:t>
            </a:r>
            <a:r>
              <a:rPr b="1" lang="en-GB" sz="1600" spc="-1" strike="noStrike" baseline="-25000">
                <a:solidFill>
                  <a:srgbClr val="0064ff"/>
                </a:solidFill>
                <a:latin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crossover resistance per unit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11120" y="3003480"/>
            <a:ext cx="56037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eld perpendicular to broad face, coupling through adjacent resistance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128040" y="167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766080" y="4359240"/>
            <a:ext cx="7875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djacent resistance per contact and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adjacent resistance per unit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44720" y="4967280"/>
            <a:ext cx="700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eld parallel to broad face, coupling through adjacent resistance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AC loss in cables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69116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general, for any cable, we may 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303200" y="1384200"/>
                <a:ext cx="19576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6264360" y="2031840"/>
                <a:ext cx="13827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61" name=""/>
          <p:cNvSpPr/>
          <p:nvPr/>
        </p:nvSpPr>
        <p:spPr>
          <a:xfrm>
            <a:off x="785880" y="2190600"/>
            <a:ext cx="524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re the time constants of the coupling cur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412640" y="2571840"/>
            <a:ext cx="613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e shape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the fraction of cable volume occupied by the coupling curr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59360" y="3279600"/>
            <a:ext cx="24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 loss per cycle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222720" y="3211560"/>
                <a:ext cx="1136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d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65" name=""/>
          <p:cNvSpPr/>
          <p:nvPr/>
        </p:nvSpPr>
        <p:spPr>
          <a:xfrm>
            <a:off x="446040" y="3925800"/>
            <a:ext cx="187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ss power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571840" y="3924360"/>
                <a:ext cx="9255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548600" y="3267000"/>
            <a:ext cx="14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ules per m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670560" y="393552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tts per m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04480" y="5095800"/>
            <a:ext cx="40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 u="sng">
                <a:solidFill>
                  <a:srgbClr val="ff00ff"/>
                </a:solidFill>
                <a:uFillTx/>
                <a:latin typeface="Arial"/>
              </a:rPr>
              <a:t>Note</a:t>
            </a:r>
            <a:r>
              <a:rPr b="0" i="1" lang="en-GB" sz="1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ff00ff"/>
                </a:solidFill>
                <a:latin typeface="Arial"/>
              </a:rPr>
              <a:t>the resemblance to eddy curren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7042320" y="5000760"/>
                <a:ext cx="12128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≈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1" name=""/>
          <p:cNvSpPr/>
          <p:nvPr/>
        </p:nvSpPr>
        <p:spPr>
          <a:xfrm>
            <a:off x="2864880" y="5680080"/>
            <a:ext cx="56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 u="sng">
                <a:solidFill>
                  <a:srgbClr val="ff00ff"/>
                </a:solidFill>
                <a:uFillTx/>
                <a:latin typeface="Arial"/>
              </a:rPr>
              <a:t>Beware</a:t>
            </a:r>
            <a:r>
              <a:rPr b="1" i="1" lang="en-GB" sz="1600" spc="-1" strike="noStrike">
                <a:solidFill>
                  <a:srgbClr val="ff00ff"/>
                </a:solidFill>
                <a:latin typeface="Arial"/>
              </a:rPr>
              <a:t> of filling factors – watts per unit volume of wh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884680" y="4597560"/>
            <a:ext cx="55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ff"/>
                </a:solidFill>
                <a:latin typeface="Times New Roman"/>
              </a:rPr>
              <a:t>M</a:t>
            </a:r>
            <a:r>
              <a:rPr b="0" i="1" lang="en-GB" sz="1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ff00ff"/>
                </a:solidFill>
                <a:latin typeface="Arial"/>
              </a:rPr>
              <a:t>can also include coupling between filaments in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Self field (transport current) losses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650880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4960" indent="-174960"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erything far has been about externally applied fields – applies to magnets and magnetic machines, eg transformers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ductors carrying a </a:t>
            </a:r>
            <a:r>
              <a:rPr b="1" i="1" lang="en-GB" sz="1600" spc="-1" strike="noStrike">
                <a:solidFill>
                  <a:srgbClr val="f800a5"/>
                </a:solidFill>
                <a:latin typeface="Arial"/>
              </a:rPr>
              <a:t>transport current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so generate </a:t>
            </a:r>
            <a:r>
              <a:rPr b="1" i="1" lang="en-GB" sz="1600" spc="-1" strike="noStrike">
                <a:solidFill>
                  <a:srgbClr val="0064ff"/>
                </a:solidFill>
                <a:latin typeface="Arial"/>
              </a:rPr>
              <a:t>self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netration of the self field produces an electric field which produces loss, just like the external fiel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a slab, this field is unifor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 on each side of the s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176" name=""/>
          <p:cNvGrpSpPr/>
          <p:nvPr/>
        </p:nvGrpSpPr>
        <p:grpSpPr>
          <a:xfrm>
            <a:off x="6798600" y="865080"/>
            <a:ext cx="1673640" cy="2183400"/>
            <a:chOff x="6798600" y="865080"/>
            <a:chExt cx="1673640" cy="2183400"/>
          </a:xfrm>
        </p:grpSpPr>
        <p:sp>
          <p:nvSpPr>
            <p:cNvPr id="1177" name=""/>
            <p:cNvSpPr/>
            <p:nvPr/>
          </p:nvSpPr>
          <p:spPr>
            <a:xfrm>
              <a:off x="7818120" y="871200"/>
              <a:ext cx="647640" cy="2119320"/>
            </a:xfrm>
            <a:custGeom>
              <a:avLst/>
              <a:gdLst/>
              <a:ahLst/>
              <a:rect l="l" t="t" r="r" b="b"/>
              <a:pathLst>
                <a:path w="408" h="1335">
                  <a:moveTo>
                    <a:pt x="0" y="348"/>
                  </a:moveTo>
                  <a:lnTo>
                    <a:pt x="408" y="0"/>
                  </a:lnTo>
                  <a:lnTo>
                    <a:pt x="408" y="990"/>
                  </a:lnTo>
                  <a:lnTo>
                    <a:pt x="3" y="1335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a3f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287840" y="865080"/>
              <a:ext cx="1177920" cy="568080"/>
            </a:xfrm>
            <a:custGeom>
              <a:avLst/>
              <a:gdLst/>
              <a:ahLst/>
              <a:rect l="l" t="t" r="r" b="b"/>
              <a:pathLst>
                <a:path w="742" h="358">
                  <a:moveTo>
                    <a:pt x="0" y="358"/>
                  </a:moveTo>
                  <a:lnTo>
                    <a:pt x="414" y="6"/>
                  </a:lnTo>
                  <a:lnTo>
                    <a:pt x="742" y="0"/>
                  </a:lnTo>
                  <a:lnTo>
                    <a:pt x="322" y="35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a3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292520" y="1425240"/>
              <a:ext cx="519120" cy="1576440"/>
            </a:xfrm>
            <a:prstGeom prst="rect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302240" y="1623960"/>
              <a:ext cx="108000" cy="215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294320" y="1839600"/>
              <a:ext cx="517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704000" y="1630080"/>
              <a:ext cx="107640" cy="216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7814880" y="2439360"/>
              <a:ext cx="65736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849800" y="1333440"/>
              <a:ext cx="334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GB" sz="16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954480" y="1571400"/>
              <a:ext cx="276120" cy="314280"/>
            </a:xfrm>
            <a:custGeom>
              <a:avLst/>
              <a:gdLst/>
              <a:ahLst/>
              <a:rect l="l" t="t" r="r" b="b"/>
              <a:pathLst>
                <a:path w="234" h="222">
                  <a:moveTo>
                    <a:pt x="0" y="168"/>
                  </a:moveTo>
                  <a:lnTo>
                    <a:pt x="150" y="44"/>
                  </a:lnTo>
                  <a:lnTo>
                    <a:pt x="150" y="4"/>
                  </a:lnTo>
                  <a:lnTo>
                    <a:pt x="234" y="0"/>
                  </a:lnTo>
                  <a:lnTo>
                    <a:pt x="148" y="152"/>
                  </a:lnTo>
                  <a:lnTo>
                    <a:pt x="148" y="96"/>
                  </a:lnTo>
                  <a:lnTo>
                    <a:pt x="0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127720" y="1203120"/>
              <a:ext cx="290520" cy="276120"/>
            </a:xfrm>
            <a:custGeom>
              <a:avLst/>
              <a:gdLst/>
              <a:ahLst/>
              <a:rect l="l" t="t" r="r" b="b"/>
              <a:pathLst>
                <a:path w="234" h="222">
                  <a:moveTo>
                    <a:pt x="0" y="168"/>
                  </a:moveTo>
                  <a:lnTo>
                    <a:pt x="150" y="44"/>
                  </a:lnTo>
                  <a:lnTo>
                    <a:pt x="150" y="4"/>
                  </a:lnTo>
                  <a:lnTo>
                    <a:pt x="234" y="0"/>
                  </a:lnTo>
                  <a:lnTo>
                    <a:pt x="148" y="152"/>
                  </a:lnTo>
                  <a:lnTo>
                    <a:pt x="148" y="96"/>
                  </a:lnTo>
                  <a:lnTo>
                    <a:pt x="0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922800" y="1807920"/>
              <a:ext cx="334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GB" sz="16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7283160" y="872640"/>
              <a:ext cx="65736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7806960" y="869400"/>
              <a:ext cx="65736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"/>
            <p:cNvGrpSpPr/>
            <p:nvPr/>
          </p:nvGrpSpPr>
          <p:grpSpPr>
            <a:xfrm>
              <a:off x="7059240" y="2514240"/>
              <a:ext cx="986040" cy="184320"/>
              <a:chOff x="7059240" y="2514240"/>
              <a:chExt cx="986040" cy="184320"/>
            </a:xfrm>
          </p:grpSpPr>
          <p:sp>
            <p:nvSpPr>
              <p:cNvPr id="1191" name=""/>
              <p:cNvSpPr/>
              <p:nvPr/>
            </p:nvSpPr>
            <p:spPr>
              <a:xfrm>
                <a:off x="7059240" y="2514240"/>
                <a:ext cx="228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16680" y="2698560"/>
                <a:ext cx="228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295760" y="2519280"/>
                <a:ext cx="108000" cy="88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 flipV="1">
                <a:off x="7702200" y="2607840"/>
                <a:ext cx="108000" cy="88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403760" y="2608200"/>
                <a:ext cx="3016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6894360" y="2347560"/>
              <a:ext cx="133200" cy="324000"/>
            </a:xfrm>
            <a:prstGeom prst="upArrow">
              <a:avLst>
                <a:gd name="adj1" fmla="val 50000"/>
                <a:gd name="adj2" fmla="val 60811"/>
              </a:avLst>
            </a:prstGeom>
            <a:solidFill>
              <a:srgbClr val="006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10800000">
              <a:off x="7934040" y="2301480"/>
              <a:ext cx="133200" cy="324000"/>
            </a:xfrm>
            <a:prstGeom prst="upArrow">
              <a:avLst>
                <a:gd name="adj1" fmla="val 50000"/>
                <a:gd name="adj2" fmla="val 60811"/>
              </a:avLst>
            </a:prstGeom>
            <a:solidFill>
              <a:srgbClr val="006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65440" y="20714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798600" y="27111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5198760" y="3174840"/>
            <a:ext cx="2312640" cy="2344680"/>
            <a:chOff x="5198760" y="3174840"/>
            <a:chExt cx="2312640" cy="2344680"/>
          </a:xfrm>
        </p:grpSpPr>
        <p:sp>
          <p:nvSpPr>
            <p:cNvPr id="1201" name=""/>
            <p:cNvSpPr/>
            <p:nvPr/>
          </p:nvSpPr>
          <p:spPr>
            <a:xfrm>
              <a:off x="5697360" y="3281040"/>
              <a:ext cx="1703160" cy="1600200"/>
            </a:xfrm>
            <a:custGeom>
              <a:avLst/>
              <a:gdLst/>
              <a:ahLst/>
              <a:rect l="l" t="t" r="r" b="b"/>
              <a:pathLst>
                <a:path w="1376" h="1352">
                  <a:moveTo>
                    <a:pt x="0" y="680"/>
                  </a:moveTo>
                  <a:lnTo>
                    <a:pt x="972" y="12"/>
                  </a:lnTo>
                  <a:lnTo>
                    <a:pt x="1044" y="0"/>
                  </a:lnTo>
                  <a:lnTo>
                    <a:pt x="1100" y="16"/>
                  </a:lnTo>
                  <a:lnTo>
                    <a:pt x="1168" y="48"/>
                  </a:lnTo>
                  <a:lnTo>
                    <a:pt x="1244" y="108"/>
                  </a:lnTo>
                  <a:lnTo>
                    <a:pt x="1308" y="188"/>
                  </a:lnTo>
                  <a:lnTo>
                    <a:pt x="1360" y="292"/>
                  </a:lnTo>
                  <a:lnTo>
                    <a:pt x="1376" y="376"/>
                  </a:lnTo>
                  <a:lnTo>
                    <a:pt x="1368" y="448"/>
                  </a:lnTo>
                  <a:lnTo>
                    <a:pt x="1348" y="488"/>
                  </a:lnTo>
                  <a:lnTo>
                    <a:pt x="548" y="1352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13955400">
              <a:off x="5424120" y="4112280"/>
              <a:ext cx="1054440" cy="887400"/>
            </a:xfrm>
            <a:prstGeom prst="ellipse">
              <a:avLst/>
            </a:prstGeom>
            <a:solidFill>
              <a:srgbClr val="ff81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18493800">
              <a:off x="5687280" y="4297320"/>
              <a:ext cx="357480" cy="362880"/>
            </a:xfrm>
            <a:prstGeom prst="blockArc">
              <a:avLst>
                <a:gd name="adj1" fmla="val 11799554"/>
                <a:gd name="adj2" fmla="val 20600446"/>
                <a:gd name="adj3" fmla="val 6819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5600880" y="3300840"/>
              <a:ext cx="1292040" cy="84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6328800" y="3843360"/>
              <a:ext cx="1056960" cy="10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946120" y="4556160"/>
              <a:ext cx="0" cy="963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7365600">
              <a:off x="5949360" y="4545720"/>
              <a:ext cx="93240" cy="111240"/>
            </a:xfrm>
            <a:prstGeom prst="blockArc">
              <a:avLst>
                <a:gd name="adj1" fmla="val 12477892"/>
                <a:gd name="adj2" fmla="val 19922108"/>
                <a:gd name="adj3" fmla="val 25931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8585400">
              <a:off x="5714280" y="4566240"/>
              <a:ext cx="69120" cy="694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9818000">
              <a:off x="5972040" y="4518000"/>
              <a:ext cx="68760" cy="69840"/>
            </a:xfrm>
            <a:prstGeom prst="triangle">
              <a:avLst>
                <a:gd name="adj" fmla="val 5152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2724000">
              <a:off x="5706360" y="4207680"/>
              <a:ext cx="708840" cy="408600"/>
            </a:xfrm>
            <a:prstGeom prst="blockArc">
              <a:avLst>
                <a:gd name="adj1" fmla="val 13034743"/>
                <a:gd name="adj2" fmla="val 19365257"/>
                <a:gd name="adj3" fmla="val 49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16200000">
              <a:off x="5891400" y="4109040"/>
              <a:ext cx="66240" cy="727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462280" y="4818960"/>
              <a:ext cx="482760" cy="550440"/>
            </a:xfrm>
            <a:custGeom>
              <a:avLst/>
              <a:gdLst/>
              <a:ahLst/>
              <a:rect l="l" t="t" r="r" b="b"/>
              <a:pathLst>
                <a:path w="390" h="465">
                  <a:moveTo>
                    <a:pt x="0" y="0"/>
                  </a:moveTo>
                  <a:lnTo>
                    <a:pt x="0" y="315"/>
                  </a:lnTo>
                  <a:lnTo>
                    <a:pt x="390" y="4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a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98760" y="47941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3118800">
              <a:off x="6756480" y="3377160"/>
              <a:ext cx="723960" cy="430560"/>
            </a:xfrm>
            <a:prstGeom prst="blockArc">
              <a:avLst>
                <a:gd name="adj1" fmla="val 11147957"/>
                <a:gd name="adj2" fmla="val 21252043"/>
                <a:gd name="adj3" fmla="val 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623280" y="3660120"/>
              <a:ext cx="366120" cy="288720"/>
            </a:xfrm>
            <a:custGeom>
              <a:avLst/>
              <a:gdLst/>
              <a:ahLst/>
              <a:rect l="l" t="t" r="r" b="b"/>
              <a:pathLst>
                <a:path w="296" h="244">
                  <a:moveTo>
                    <a:pt x="0" y="200"/>
                  </a:moveTo>
                  <a:lnTo>
                    <a:pt x="200" y="44"/>
                  </a:lnTo>
                  <a:lnTo>
                    <a:pt x="172" y="16"/>
                  </a:lnTo>
                  <a:lnTo>
                    <a:pt x="296" y="0"/>
                  </a:lnTo>
                  <a:lnTo>
                    <a:pt x="264" y="108"/>
                  </a:lnTo>
                  <a:lnTo>
                    <a:pt x="240" y="84"/>
                  </a:lnTo>
                  <a:lnTo>
                    <a:pt x="36" y="244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429240" y="3867120"/>
              <a:ext cx="31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c0000"/>
                  </a:solidFill>
                  <a:latin typeface="Times New Roman"/>
                </a:rPr>
                <a:t>I</a:t>
              </a:r>
              <a:r>
                <a:rPr b="1" lang="en-GB" sz="1600" spc="-1" strike="noStrike" baseline="-25000">
                  <a:solidFill>
                    <a:srgbClr val="fc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2861640" y="3249720"/>
            <a:ext cx="2295720" cy="2082240"/>
            <a:chOff x="2861640" y="3249720"/>
            <a:chExt cx="2295720" cy="2082240"/>
          </a:xfrm>
        </p:grpSpPr>
        <p:sp>
          <p:nvSpPr>
            <p:cNvPr id="1218" name=""/>
            <p:cNvSpPr/>
            <p:nvPr/>
          </p:nvSpPr>
          <p:spPr>
            <a:xfrm>
              <a:off x="3361680" y="3357000"/>
              <a:ext cx="1694160" cy="1529280"/>
            </a:xfrm>
            <a:custGeom>
              <a:avLst/>
              <a:gdLst/>
              <a:ahLst/>
              <a:rect l="l" t="t" r="r" b="b"/>
              <a:pathLst>
                <a:path w="1376" h="1352">
                  <a:moveTo>
                    <a:pt x="0" y="680"/>
                  </a:moveTo>
                  <a:lnTo>
                    <a:pt x="972" y="12"/>
                  </a:lnTo>
                  <a:lnTo>
                    <a:pt x="1044" y="0"/>
                  </a:lnTo>
                  <a:lnTo>
                    <a:pt x="1100" y="16"/>
                  </a:lnTo>
                  <a:lnTo>
                    <a:pt x="1168" y="48"/>
                  </a:lnTo>
                  <a:lnTo>
                    <a:pt x="1244" y="108"/>
                  </a:lnTo>
                  <a:lnTo>
                    <a:pt x="1308" y="188"/>
                  </a:lnTo>
                  <a:lnTo>
                    <a:pt x="1360" y="292"/>
                  </a:lnTo>
                  <a:lnTo>
                    <a:pt x="1376" y="376"/>
                  </a:lnTo>
                  <a:lnTo>
                    <a:pt x="1368" y="448"/>
                  </a:lnTo>
                  <a:lnTo>
                    <a:pt x="1348" y="488"/>
                  </a:lnTo>
                  <a:lnTo>
                    <a:pt x="548" y="1352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13955400">
              <a:off x="3110400" y="4134240"/>
              <a:ext cx="1008000" cy="883080"/>
            </a:xfrm>
            <a:prstGeom prst="ellipse">
              <a:avLst/>
            </a:prstGeom>
            <a:solidFill>
              <a:srgbClr val="ff81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8441400">
              <a:off x="3503160" y="4499640"/>
              <a:ext cx="478800" cy="400320"/>
            </a:xfrm>
            <a:prstGeom prst="blockArc">
              <a:avLst>
                <a:gd name="adj1" fmla="val 13695438"/>
                <a:gd name="adj2" fmla="val 18704562"/>
                <a:gd name="adj3" fmla="val 8231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3265560" y="3375720"/>
              <a:ext cx="1285200" cy="81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3989520" y="3894480"/>
              <a:ext cx="1051560" cy="10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257400">
              <a:off x="3898080" y="4656600"/>
              <a:ext cx="98280" cy="745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292560" y="4143240"/>
              <a:ext cx="467640" cy="299520"/>
            </a:xfrm>
            <a:prstGeom prst="blockArc">
              <a:avLst>
                <a:gd name="adj1" fmla="val 13013656"/>
                <a:gd name="adj2" fmla="val 19386344"/>
                <a:gd name="adj3" fmla="val 865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13404000">
              <a:off x="3282480" y="4200840"/>
              <a:ext cx="105840" cy="7776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127680" y="4965840"/>
              <a:ext cx="243720" cy="281520"/>
            </a:xfrm>
            <a:custGeom>
              <a:avLst/>
              <a:gdLst/>
              <a:ahLst/>
              <a:rect l="l" t="t" r="r" b="b"/>
              <a:pathLst>
                <a:path w="390" h="465">
                  <a:moveTo>
                    <a:pt x="0" y="0"/>
                  </a:moveTo>
                  <a:lnTo>
                    <a:pt x="0" y="315"/>
                  </a:lnTo>
                  <a:lnTo>
                    <a:pt x="390" y="4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a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861640" y="48639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3118800">
              <a:off x="4429080" y="3439800"/>
              <a:ext cx="692280" cy="428400"/>
            </a:xfrm>
            <a:prstGeom prst="blockArc">
              <a:avLst>
                <a:gd name="adj1" fmla="val 11147957"/>
                <a:gd name="adj2" fmla="val 21252043"/>
                <a:gd name="adj3" fmla="val 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82920" y="3718800"/>
              <a:ext cx="364320" cy="275760"/>
            </a:xfrm>
            <a:custGeom>
              <a:avLst/>
              <a:gdLst/>
              <a:ahLst/>
              <a:rect l="l" t="t" r="r" b="b"/>
              <a:pathLst>
                <a:path w="296" h="244">
                  <a:moveTo>
                    <a:pt x="0" y="200"/>
                  </a:moveTo>
                  <a:lnTo>
                    <a:pt x="200" y="44"/>
                  </a:lnTo>
                  <a:lnTo>
                    <a:pt x="172" y="16"/>
                  </a:lnTo>
                  <a:lnTo>
                    <a:pt x="296" y="0"/>
                  </a:lnTo>
                  <a:lnTo>
                    <a:pt x="264" y="108"/>
                  </a:lnTo>
                  <a:lnTo>
                    <a:pt x="240" y="84"/>
                  </a:lnTo>
                  <a:lnTo>
                    <a:pt x="36" y="244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084920" y="391572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c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9107000">
              <a:off x="3404520" y="4312440"/>
              <a:ext cx="420840" cy="52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09000" y="457524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363840" y="4483800"/>
              <a:ext cx="0" cy="77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123720" y="5155560"/>
              <a:ext cx="48384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5" name=""/>
          <p:cNvSpPr/>
          <p:nvPr/>
        </p:nvSpPr>
        <p:spPr>
          <a:xfrm>
            <a:off x="401760" y="3375000"/>
            <a:ext cx="229392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circular wire, lines of self field are concentric circles, centred on the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100"/>
              </a:spcAft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cc"/>
                </a:solidFill>
                <a:latin typeface="Arial"/>
              </a:rPr>
              <a:t>Note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elf field penetrates from the outside - just like external field – critical stat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857680" y="5489640"/>
            <a:ext cx="19238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c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f field not fully penetr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173560" y="5486400"/>
            <a:ext cx="18162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= 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c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f field fully penetr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828720" y="1700280"/>
            <a:ext cx="3240000" cy="3024000"/>
            <a:chOff x="828720" y="1700280"/>
            <a:chExt cx="3240000" cy="3024000"/>
          </a:xfrm>
        </p:grpSpPr>
        <p:sp>
          <p:nvSpPr>
            <p:cNvPr id="1239" name=""/>
            <p:cNvSpPr/>
            <p:nvPr/>
          </p:nvSpPr>
          <p:spPr>
            <a:xfrm>
              <a:off x="1260360" y="1700280"/>
              <a:ext cx="0" cy="30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636720" y="1700280"/>
              <a:ext cx="0" cy="30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28720" y="3284280"/>
              <a:ext cx="3240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0160" y="14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Penetration of the transport current 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243" name=""/>
          <p:cNvSpPr/>
          <p:nvPr/>
        </p:nvSpPr>
        <p:spPr>
          <a:xfrm>
            <a:off x="14938200" y="334800"/>
            <a:ext cx="1586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4938200" y="695160"/>
            <a:ext cx="1586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971640" y="2060640"/>
            <a:ext cx="2953800" cy="2448000"/>
            <a:chOff x="971640" y="2060640"/>
            <a:chExt cx="2953800" cy="2448000"/>
          </a:xfrm>
        </p:grpSpPr>
        <p:sp>
          <p:nvSpPr>
            <p:cNvPr id="1246" name=""/>
            <p:cNvSpPr/>
            <p:nvPr/>
          </p:nvSpPr>
          <p:spPr>
            <a:xfrm>
              <a:off x="1260360" y="2060640"/>
              <a:ext cx="2376000" cy="2448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36720" y="45086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971640" y="20606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971640" y="2349360"/>
            <a:ext cx="2952360" cy="1873080"/>
            <a:chOff x="971640" y="2349360"/>
            <a:chExt cx="2952360" cy="1873080"/>
          </a:xfrm>
        </p:grpSpPr>
        <p:sp>
          <p:nvSpPr>
            <p:cNvPr id="1250" name=""/>
            <p:cNvSpPr/>
            <p:nvPr/>
          </p:nvSpPr>
          <p:spPr>
            <a:xfrm>
              <a:off x="1260360" y="2349360"/>
              <a:ext cx="934560" cy="93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00360" y="3285720"/>
              <a:ext cx="936000" cy="936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636720" y="422244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971640" y="234936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195280" y="3285720"/>
              <a:ext cx="504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971640" y="2637000"/>
            <a:ext cx="2952360" cy="1296360"/>
            <a:chOff x="971640" y="2637000"/>
            <a:chExt cx="2952360" cy="1296360"/>
          </a:xfrm>
        </p:grpSpPr>
        <p:sp>
          <p:nvSpPr>
            <p:cNvPr id="1256" name=""/>
            <p:cNvSpPr/>
            <p:nvPr/>
          </p:nvSpPr>
          <p:spPr>
            <a:xfrm>
              <a:off x="1260360" y="2637000"/>
              <a:ext cx="647280" cy="647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87640" y="3284280"/>
              <a:ext cx="647280" cy="649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636720" y="393192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971640" y="26370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908000" y="3284280"/>
              <a:ext cx="1079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971640" y="2924280"/>
            <a:ext cx="2952360" cy="720720"/>
            <a:chOff x="971640" y="2924280"/>
            <a:chExt cx="2952360" cy="720720"/>
          </a:xfrm>
        </p:grpSpPr>
        <p:sp>
          <p:nvSpPr>
            <p:cNvPr id="1262" name=""/>
            <p:cNvSpPr/>
            <p:nvPr/>
          </p:nvSpPr>
          <p:spPr>
            <a:xfrm>
              <a:off x="1260360" y="2924280"/>
              <a:ext cx="360000" cy="358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276360" y="3284640"/>
              <a:ext cx="360000" cy="360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636720" y="364500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971640" y="29242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620720" y="3282840"/>
              <a:ext cx="165528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1332000" y="2709720"/>
            <a:ext cx="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971640" y="3139920"/>
            <a:ext cx="2952360" cy="287640"/>
            <a:chOff x="971640" y="3139920"/>
            <a:chExt cx="2952360" cy="287640"/>
          </a:xfrm>
        </p:grpSpPr>
        <p:sp>
          <p:nvSpPr>
            <p:cNvPr id="1269" name=""/>
            <p:cNvSpPr/>
            <p:nvPr/>
          </p:nvSpPr>
          <p:spPr>
            <a:xfrm>
              <a:off x="1260360" y="3139920"/>
              <a:ext cx="142560" cy="142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492360" y="3282840"/>
              <a:ext cx="142560" cy="144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636720" y="342756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971640" y="31399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403280" y="3282840"/>
              <a:ext cx="20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971640" y="3284640"/>
            <a:ext cx="2881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4554720" y="2851200"/>
            <a:ext cx="333000" cy="1037880"/>
            <a:chOff x="4554720" y="2851200"/>
            <a:chExt cx="333000" cy="1037880"/>
          </a:xfrm>
        </p:grpSpPr>
        <p:sp>
          <p:nvSpPr>
            <p:cNvPr id="1276" name=""/>
            <p:cNvSpPr/>
            <p:nvPr/>
          </p:nvSpPr>
          <p:spPr>
            <a:xfrm>
              <a:off x="4554720" y="3520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4716360" y="2851200"/>
              <a:ext cx="0" cy="504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1191600" y="5227560"/>
            <a:ext cx="27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rrent increasing from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657400" y="5083200"/>
            <a:ext cx="30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rrent decreasing through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971640" y="1916280"/>
            <a:ext cx="2952360" cy="2736720"/>
            <a:chOff x="971640" y="1916280"/>
            <a:chExt cx="2952360" cy="2736720"/>
          </a:xfrm>
        </p:grpSpPr>
        <p:sp>
          <p:nvSpPr>
            <p:cNvPr id="1281" name=""/>
            <p:cNvSpPr/>
            <p:nvPr/>
          </p:nvSpPr>
          <p:spPr>
            <a:xfrm>
              <a:off x="971640" y="1916280"/>
              <a:ext cx="28872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36720" y="4653000"/>
              <a:ext cx="28728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260360" y="1916280"/>
              <a:ext cx="2376000" cy="27367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5292720" y="1773360"/>
            <a:ext cx="3456000" cy="3024000"/>
            <a:chOff x="5292720" y="1773360"/>
            <a:chExt cx="3456000" cy="3024000"/>
          </a:xfrm>
        </p:grpSpPr>
        <p:sp>
          <p:nvSpPr>
            <p:cNvPr id="1285" name=""/>
            <p:cNvSpPr/>
            <p:nvPr/>
          </p:nvSpPr>
          <p:spPr>
            <a:xfrm>
              <a:off x="5796000" y="1773360"/>
              <a:ext cx="0" cy="30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316720" y="1773360"/>
              <a:ext cx="0" cy="30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92720" y="3284280"/>
              <a:ext cx="345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5867280" y="2135160"/>
            <a:ext cx="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5508720" y="2133720"/>
            <a:ext cx="3096720" cy="2305080"/>
            <a:chOff x="5508720" y="2133720"/>
            <a:chExt cx="3096720" cy="2305080"/>
          </a:xfrm>
        </p:grpSpPr>
        <p:sp>
          <p:nvSpPr>
            <p:cNvPr id="1290" name=""/>
            <p:cNvSpPr/>
            <p:nvPr/>
          </p:nvSpPr>
          <p:spPr>
            <a:xfrm>
              <a:off x="5940360" y="2133720"/>
              <a:ext cx="2231640" cy="2305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316720" y="42944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5508720" y="22784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5796000" y="2133720"/>
              <a:ext cx="144000" cy="144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8173800" y="4294440"/>
              <a:ext cx="142560" cy="144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5508720" y="2276640"/>
            <a:ext cx="3096720" cy="2016000"/>
            <a:chOff x="5508720" y="2276640"/>
            <a:chExt cx="3096720" cy="2016000"/>
          </a:xfrm>
        </p:grpSpPr>
        <p:sp>
          <p:nvSpPr>
            <p:cNvPr id="1296" name=""/>
            <p:cNvSpPr/>
            <p:nvPr/>
          </p:nvSpPr>
          <p:spPr>
            <a:xfrm>
              <a:off x="6084720" y="2276640"/>
              <a:ext cx="1944360" cy="2016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316720" y="400536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5508720" y="25639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5796000" y="2276640"/>
              <a:ext cx="288360" cy="287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8029080" y="4005360"/>
              <a:ext cx="286920" cy="287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5508720" y="2421000"/>
            <a:ext cx="3096720" cy="1728720"/>
            <a:chOff x="5508720" y="2421000"/>
            <a:chExt cx="3096720" cy="1728720"/>
          </a:xfrm>
        </p:grpSpPr>
        <p:sp>
          <p:nvSpPr>
            <p:cNvPr id="1302" name=""/>
            <p:cNvSpPr/>
            <p:nvPr/>
          </p:nvSpPr>
          <p:spPr>
            <a:xfrm>
              <a:off x="6229080" y="2421000"/>
              <a:ext cx="1649160" cy="1728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16720" y="37166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5508720" y="28530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5796000" y="2421000"/>
              <a:ext cx="432720" cy="432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7885080" y="3716640"/>
              <a:ext cx="431280" cy="431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5508720" y="2565360"/>
            <a:ext cx="3096720" cy="1441440"/>
            <a:chOff x="5508720" y="2565360"/>
            <a:chExt cx="3096720" cy="1441440"/>
          </a:xfrm>
        </p:grpSpPr>
        <p:sp>
          <p:nvSpPr>
            <p:cNvPr id="1308" name=""/>
            <p:cNvSpPr/>
            <p:nvPr/>
          </p:nvSpPr>
          <p:spPr>
            <a:xfrm>
              <a:off x="6372000" y="2565360"/>
              <a:ext cx="1368360" cy="144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316720" y="34304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5508720" y="314136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5796000" y="2566440"/>
              <a:ext cx="575640" cy="57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7740360" y="3430440"/>
              <a:ext cx="575640" cy="574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508720" y="2636640"/>
            <a:ext cx="3096720" cy="1295640"/>
            <a:chOff x="5508720" y="2636640"/>
            <a:chExt cx="3096720" cy="1295640"/>
          </a:xfrm>
        </p:grpSpPr>
        <p:sp>
          <p:nvSpPr>
            <p:cNvPr id="1314" name=""/>
            <p:cNvSpPr/>
            <p:nvPr/>
          </p:nvSpPr>
          <p:spPr>
            <a:xfrm>
              <a:off x="6445080" y="2637000"/>
              <a:ext cx="1223640" cy="1295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316720" y="32846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5508720" y="32846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5796000" y="2636640"/>
              <a:ext cx="648720" cy="647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7669080" y="3284640"/>
              <a:ext cx="647280" cy="647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5508360" y="1989000"/>
            <a:ext cx="3096000" cy="2592360"/>
            <a:chOff x="5508360" y="1989000"/>
            <a:chExt cx="3096000" cy="2592360"/>
          </a:xfrm>
        </p:grpSpPr>
        <p:sp>
          <p:nvSpPr>
            <p:cNvPr id="1320" name=""/>
            <p:cNvSpPr/>
            <p:nvPr/>
          </p:nvSpPr>
          <p:spPr>
            <a:xfrm>
              <a:off x="5796360" y="1989000"/>
              <a:ext cx="2520720" cy="259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5508360" y="1989000"/>
              <a:ext cx="2876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317080" y="458136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5508720" y="2707920"/>
            <a:ext cx="3096720" cy="1152720"/>
            <a:chOff x="5508720" y="2707920"/>
            <a:chExt cx="3096720" cy="1152720"/>
          </a:xfrm>
        </p:grpSpPr>
        <p:sp>
          <p:nvSpPr>
            <p:cNvPr id="1324" name=""/>
            <p:cNvSpPr/>
            <p:nvPr/>
          </p:nvSpPr>
          <p:spPr>
            <a:xfrm>
              <a:off x="6516720" y="2708280"/>
              <a:ext cx="1078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316720" y="31399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5508720" y="34286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5796000" y="2707920"/>
              <a:ext cx="720360" cy="720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7595640" y="3139920"/>
              <a:ext cx="720360" cy="720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5508720" y="2852640"/>
            <a:ext cx="3096720" cy="865440"/>
            <a:chOff x="5508720" y="2852640"/>
            <a:chExt cx="3096720" cy="865440"/>
          </a:xfrm>
        </p:grpSpPr>
        <p:sp>
          <p:nvSpPr>
            <p:cNvPr id="1330" name=""/>
            <p:cNvSpPr/>
            <p:nvPr/>
          </p:nvSpPr>
          <p:spPr>
            <a:xfrm>
              <a:off x="6661080" y="2852640"/>
              <a:ext cx="791640" cy="863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316720" y="28526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5508720" y="37180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5796000" y="2852640"/>
              <a:ext cx="864720" cy="865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7453080" y="2852640"/>
              <a:ext cx="863280" cy="863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5508720" y="2565360"/>
            <a:ext cx="3096720" cy="1441440"/>
            <a:chOff x="5508720" y="2565360"/>
            <a:chExt cx="3096720" cy="1441440"/>
          </a:xfrm>
        </p:grpSpPr>
        <p:sp>
          <p:nvSpPr>
            <p:cNvPr id="1336" name=""/>
            <p:cNvSpPr/>
            <p:nvPr/>
          </p:nvSpPr>
          <p:spPr>
            <a:xfrm>
              <a:off x="6804000" y="2997000"/>
              <a:ext cx="504360" cy="57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316720" y="256536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5508720" y="40068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5796000" y="2996640"/>
              <a:ext cx="1007640" cy="1009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7308360" y="2565360"/>
              <a:ext cx="1007640" cy="1008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5508720" y="2276640"/>
            <a:ext cx="3096720" cy="2017440"/>
            <a:chOff x="5508720" y="2276640"/>
            <a:chExt cx="3096720" cy="2017440"/>
          </a:xfrm>
        </p:grpSpPr>
        <p:sp>
          <p:nvSpPr>
            <p:cNvPr id="1342" name=""/>
            <p:cNvSpPr/>
            <p:nvPr/>
          </p:nvSpPr>
          <p:spPr>
            <a:xfrm>
              <a:off x="6948360" y="3139920"/>
              <a:ext cx="215640" cy="288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16720" y="22766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5508720" y="42940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796000" y="3139560"/>
              <a:ext cx="1152000" cy="1153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7164360" y="2276640"/>
              <a:ext cx="115200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5508720" y="2060640"/>
            <a:ext cx="3096720" cy="2522520"/>
            <a:chOff x="5508720" y="2060640"/>
            <a:chExt cx="3096720" cy="2522520"/>
          </a:xfrm>
        </p:grpSpPr>
        <p:sp>
          <p:nvSpPr>
            <p:cNvPr id="1348" name=""/>
            <p:cNvSpPr/>
            <p:nvPr/>
          </p:nvSpPr>
          <p:spPr>
            <a:xfrm>
              <a:off x="8316720" y="20606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5508720" y="458316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5795640" y="2060640"/>
              <a:ext cx="2520360" cy="2521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2846160" y="835200"/>
            <a:ext cx="43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lab according to the Bean critical stat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AC loss from transport current </a:t>
            </a:r>
            <a:r>
              <a:rPr b="0" i="1" lang="en-GB" sz="2800" spc="-1" strike="noStrike">
                <a:solidFill>
                  <a:srgbClr val="333399"/>
                </a:solidFill>
                <a:latin typeface="Lucida Bright"/>
              </a:rPr>
              <a:t>(self field ) </a:t>
            </a:r>
            <a:endParaRPr b="0" i="1" lang="en-US" sz="28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357120" y="1037880"/>
            <a:ext cx="383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lab self field loss is the same as external field loss below pene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615960" y="1673280"/>
                <a:ext cx="1128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3044880" y="1600200"/>
                <a:ext cx="12207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6" name=""/>
          <p:cNvSpPr/>
          <p:nvPr/>
        </p:nvSpPr>
        <p:spPr>
          <a:xfrm>
            <a:off x="1924560" y="17622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83760" y="2690640"/>
            <a:ext cx="40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ilar calculation for a round wire sh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681120" y="3114720"/>
                <a:ext cx="1414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w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9" name=""/>
          <p:cNvGrpSpPr/>
          <p:nvPr/>
        </p:nvGrpSpPr>
        <p:grpSpPr>
          <a:xfrm>
            <a:off x="4765680" y="1224000"/>
            <a:ext cx="1015920" cy="958320"/>
            <a:chOff x="4765680" y="1224000"/>
            <a:chExt cx="1015920" cy="958320"/>
          </a:xfrm>
        </p:grpSpPr>
        <p:sp>
          <p:nvSpPr>
            <p:cNvPr id="1360" name=""/>
            <p:cNvSpPr/>
            <p:nvPr/>
          </p:nvSpPr>
          <p:spPr>
            <a:xfrm>
              <a:off x="4915080" y="1224000"/>
              <a:ext cx="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627880" y="1231560"/>
              <a:ext cx="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765680" y="1520640"/>
              <a:ext cx="1015920" cy="217080"/>
              <a:chOff x="4765680" y="1520640"/>
              <a:chExt cx="1015920" cy="217080"/>
            </a:xfrm>
          </p:grpSpPr>
          <p:sp>
            <p:nvSpPr>
              <p:cNvPr id="1363" name=""/>
              <p:cNvSpPr/>
              <p:nvPr/>
            </p:nvSpPr>
            <p:spPr>
              <a:xfrm>
                <a:off x="4913280" y="1523520"/>
                <a:ext cx="190800" cy="213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5433840" y="1520640"/>
                <a:ext cx="190440" cy="213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108760" y="1737720"/>
                <a:ext cx="3236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4765680" y="1528200"/>
                <a:ext cx="147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5634000" y="1520640"/>
                <a:ext cx="147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8" name=""/>
          <p:cNvGrpSpPr/>
          <p:nvPr/>
        </p:nvGrpSpPr>
        <p:grpSpPr>
          <a:xfrm>
            <a:off x="6056280" y="1219320"/>
            <a:ext cx="1015920" cy="958320"/>
            <a:chOff x="6056280" y="1219320"/>
            <a:chExt cx="1015920" cy="958320"/>
          </a:xfrm>
        </p:grpSpPr>
        <p:sp>
          <p:nvSpPr>
            <p:cNvPr id="1369" name=""/>
            <p:cNvSpPr/>
            <p:nvPr/>
          </p:nvSpPr>
          <p:spPr>
            <a:xfrm>
              <a:off x="6205320" y="1219320"/>
              <a:ext cx="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918120" y="1226880"/>
              <a:ext cx="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1" name=""/>
            <p:cNvGrpSpPr/>
            <p:nvPr/>
          </p:nvGrpSpPr>
          <p:grpSpPr>
            <a:xfrm>
              <a:off x="6056280" y="1515960"/>
              <a:ext cx="1015920" cy="426240"/>
              <a:chOff x="6056280" y="1515960"/>
              <a:chExt cx="1015920" cy="426240"/>
            </a:xfrm>
          </p:grpSpPr>
          <p:sp>
            <p:nvSpPr>
              <p:cNvPr id="1372" name=""/>
              <p:cNvSpPr/>
              <p:nvPr/>
            </p:nvSpPr>
            <p:spPr>
              <a:xfrm flipV="1">
                <a:off x="6210360" y="1728360"/>
                <a:ext cx="190440" cy="213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6724080" y="1515960"/>
                <a:ext cx="190440" cy="213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399000" y="1733040"/>
                <a:ext cx="324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>
                <a:off x="6056280" y="1940760"/>
                <a:ext cx="147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6924600" y="1515960"/>
                <a:ext cx="147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7343640" y="1222200"/>
            <a:ext cx="1017360" cy="959040"/>
            <a:chOff x="7343640" y="1222200"/>
            <a:chExt cx="1017360" cy="959040"/>
          </a:xfrm>
        </p:grpSpPr>
        <p:sp>
          <p:nvSpPr>
            <p:cNvPr id="1378" name=""/>
            <p:cNvSpPr/>
            <p:nvPr/>
          </p:nvSpPr>
          <p:spPr>
            <a:xfrm>
              <a:off x="7494480" y="1533600"/>
              <a:ext cx="176040" cy="403200"/>
            </a:xfrm>
            <a:custGeom>
              <a:avLst/>
              <a:gdLst/>
              <a:ahLst/>
              <a:rect l="l" t="t" r="r" b="b"/>
              <a:pathLst>
                <a:path w="111" h="254">
                  <a:moveTo>
                    <a:pt x="2" y="11"/>
                  </a:moveTo>
                  <a:lnTo>
                    <a:pt x="2" y="254"/>
                  </a:lnTo>
                  <a:lnTo>
                    <a:pt x="111" y="128"/>
                  </a:lnTo>
                  <a:lnTo>
                    <a:pt x="0" y="0"/>
                  </a:lnTo>
                </a:path>
              </a:pathLst>
            </a:custGeom>
            <a:solidFill>
              <a:srgbClr val="ab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94480" y="1222200"/>
              <a:ext cx="0" cy="9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207280" y="1230120"/>
              <a:ext cx="0" cy="9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492680" y="1522440"/>
              <a:ext cx="190440" cy="214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8013240" y="1519200"/>
              <a:ext cx="190440" cy="214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88160" y="1736640"/>
              <a:ext cx="323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7345080" y="1527120"/>
              <a:ext cx="147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8213400" y="1519200"/>
              <a:ext cx="147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013600" y="1738440"/>
              <a:ext cx="190440" cy="214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7490880" y="1739880"/>
              <a:ext cx="190440" cy="214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7343640" y="1949400"/>
              <a:ext cx="147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8205480" y="1946160"/>
              <a:ext cx="147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8025480" y="1530360"/>
              <a:ext cx="176040" cy="403200"/>
            </a:xfrm>
            <a:custGeom>
              <a:avLst/>
              <a:gdLst/>
              <a:ahLst/>
              <a:rect l="l" t="t" r="r" b="b"/>
              <a:pathLst>
                <a:path w="111" h="254">
                  <a:moveTo>
                    <a:pt x="2" y="11"/>
                  </a:moveTo>
                  <a:lnTo>
                    <a:pt x="2" y="254"/>
                  </a:lnTo>
                  <a:lnTo>
                    <a:pt x="111" y="128"/>
                  </a:lnTo>
                  <a:lnTo>
                    <a:pt x="0" y="0"/>
                  </a:lnTo>
                </a:path>
              </a:pathLst>
            </a:custGeom>
            <a:solidFill>
              <a:srgbClr val="ab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8437680" y="1500120"/>
            <a:ext cx="468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8524440" y="156384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040200" y="2257560"/>
                <a:ext cx="13111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λ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2449440" y="3166920"/>
                <a:ext cx="2998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5762520" y="3146400"/>
                <a:ext cx="128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7386480" y="3228840"/>
                <a:ext cx="1270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λ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412920" y="4013280"/>
            <a:ext cx="68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rris theory </a:t>
            </a:r>
            <a:r>
              <a:rPr b="0" lang="en-GB" sz="1600" spc="-1" strike="noStrike">
                <a:solidFill>
                  <a:srgbClr val="f800a5"/>
                </a:solidFill>
                <a:latin typeface="Arial"/>
              </a:rPr>
              <a:t>*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formulated in terms of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 loss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 unit length of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3479760" y="4449600"/>
                <a:ext cx="1714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887400" y="4568760"/>
                <a:ext cx="1452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λ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0" name=""/>
          <p:cNvSpPr/>
          <p:nvPr/>
        </p:nvSpPr>
        <p:spPr>
          <a:xfrm>
            <a:off x="5270760" y="243540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800a5"/>
                </a:solidFill>
                <a:latin typeface="Arial"/>
              </a:rPr>
              <a:t>(recap: loss per cycle per unit volu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517680" y="5229360"/>
            <a:ext cx="803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rris also showed that loss per unit length of an elliptical conductor is the same as a round wire, regardless of ellipt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590360" y="5965920"/>
            <a:ext cx="42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800a5"/>
                </a:solidFill>
                <a:latin typeface="Arial"/>
              </a:rPr>
              <a:t>* ref:  W.T. Norris  J. Phys. D3 pp489 (197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Transport current loss function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404" name=""/>
          <p:cNvSpPr/>
          <p:nvPr/>
        </p:nvSpPr>
        <p:spPr>
          <a:xfrm>
            <a:off x="326880" y="1305000"/>
            <a:ext cx="218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cap: loss per unit length of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444600" y="1986120"/>
                <a:ext cx="1639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6" name=""/>
          <p:cNvSpPr/>
          <p:nvPr/>
        </p:nvSpPr>
        <p:spPr>
          <a:xfrm>
            <a:off x="428760" y="2701800"/>
            <a:ext cx="1739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ies to round and elliptical wires regardless of ellipt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93480" y="469584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rris nomencla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635040" y="5156280"/>
                <a:ext cx="6476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592200" y="5518080"/>
                <a:ext cx="1380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10" name="" descr=""/>
          <p:cNvPicPr/>
          <p:nvPr/>
        </p:nvPicPr>
        <p:blipFill>
          <a:blip r:embed="rId1"/>
          <a:stretch/>
        </p:blipFill>
        <p:spPr>
          <a:xfrm>
            <a:off x="2803680" y="868320"/>
            <a:ext cx="58356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HTS materials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64976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ritical state model only works if there is a steep rise in electric field immediately above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allows us to say that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everywhere either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S materials have a much 'softer' transition and develop resistance slowly above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us, when an electric field is present, the current density in HTS can be much higher than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articularly at high ramp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 losses then become a non-linear problem, requiring numerical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n utilize commercial eddy current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ftness of the HTS transition gets worse as you approach the irreversibility lin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5583240" y="3657600"/>
            <a:ext cx="2984400" cy="2541600"/>
            <a:chOff x="5583240" y="3657600"/>
            <a:chExt cx="2984400" cy="2541600"/>
          </a:xfrm>
        </p:grpSpPr>
        <p:graphicFrame>
          <p:nvGraphicFramePr>
            <p:cNvPr id="1414" name=""/>
            <p:cNvGraphicFramePr/>
            <p:nvPr/>
          </p:nvGraphicFramePr>
          <p:xfrm>
            <a:off x="5583240" y="3657600"/>
            <a:ext cx="2984400" cy="2541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4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3240" y="3657600"/>
                      <a:ext cx="2984400" cy="254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6" name=""/>
            <p:cNvSpPr/>
            <p:nvPr/>
          </p:nvSpPr>
          <p:spPr>
            <a:xfrm>
              <a:off x="5801400" y="3890880"/>
              <a:ext cx="2404800" cy="2044440"/>
            </a:xfrm>
            <a:custGeom>
              <a:avLst/>
              <a:gdLst/>
              <a:ahLst/>
              <a:rect l="l" t="t" r="r" b="b"/>
              <a:pathLst>
                <a:path w="1818" h="1629">
                  <a:moveTo>
                    <a:pt x="0" y="0"/>
                  </a:moveTo>
                  <a:cubicBezTo>
                    <a:pt x="21" y="8"/>
                    <a:pt x="43" y="16"/>
                    <a:pt x="66" y="45"/>
                  </a:cubicBezTo>
                  <a:cubicBezTo>
                    <a:pt x="89" y="74"/>
                    <a:pt x="112" y="112"/>
                    <a:pt x="135" y="174"/>
                  </a:cubicBezTo>
                  <a:cubicBezTo>
                    <a:pt x="158" y="236"/>
                    <a:pt x="182" y="327"/>
                    <a:pt x="204" y="417"/>
                  </a:cubicBezTo>
                  <a:cubicBezTo>
                    <a:pt x="226" y="507"/>
                    <a:pt x="245" y="636"/>
                    <a:pt x="267" y="717"/>
                  </a:cubicBezTo>
                  <a:cubicBezTo>
                    <a:pt x="289" y="798"/>
                    <a:pt x="309" y="848"/>
                    <a:pt x="336" y="903"/>
                  </a:cubicBezTo>
                  <a:cubicBezTo>
                    <a:pt x="363" y="958"/>
                    <a:pt x="381" y="990"/>
                    <a:pt x="429" y="1044"/>
                  </a:cubicBezTo>
                  <a:cubicBezTo>
                    <a:pt x="477" y="1098"/>
                    <a:pt x="555" y="1181"/>
                    <a:pt x="624" y="1227"/>
                  </a:cubicBezTo>
                  <a:cubicBezTo>
                    <a:pt x="693" y="1273"/>
                    <a:pt x="749" y="1298"/>
                    <a:pt x="846" y="1320"/>
                  </a:cubicBezTo>
                  <a:cubicBezTo>
                    <a:pt x="943" y="1342"/>
                    <a:pt x="1096" y="1336"/>
                    <a:pt x="1206" y="1356"/>
                  </a:cubicBezTo>
                  <a:cubicBezTo>
                    <a:pt x="1316" y="1376"/>
                    <a:pt x="1404" y="1392"/>
                    <a:pt x="1506" y="1437"/>
                  </a:cubicBezTo>
                  <a:cubicBezTo>
                    <a:pt x="1608" y="1482"/>
                    <a:pt x="1713" y="1555"/>
                    <a:pt x="1818" y="162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5312520" y="1171440"/>
            <a:ext cx="3165840" cy="2145240"/>
            <a:chOff x="5312520" y="1171440"/>
            <a:chExt cx="3165840" cy="2145240"/>
          </a:xfrm>
        </p:grpSpPr>
        <p:sp>
          <p:nvSpPr>
            <p:cNvPr id="1418" name=""/>
            <p:cNvSpPr/>
            <p:nvPr/>
          </p:nvSpPr>
          <p:spPr>
            <a:xfrm>
              <a:off x="5736240" y="1200240"/>
              <a:ext cx="0" cy="173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736240" y="2933280"/>
              <a:ext cx="274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312520" y="17917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726240" y="297936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897960" y="2030760"/>
              <a:ext cx="424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imes New Roman"/>
                </a:rPr>
                <a:t>J</a:t>
              </a:r>
              <a:r>
                <a:rPr b="1" lang="en-GB" sz="1600" spc="-1" strike="noStrike" baseline="-25000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7229160" y="2500560"/>
              <a:ext cx="0" cy="432360"/>
            </a:xfrm>
            <a:prstGeom prst="line">
              <a:avLst/>
            </a:prstGeom>
            <a:ln w="284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5531400" y="120564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211520" y="3184200"/>
              <a:ext cx="35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737680" y="1171440"/>
              <a:ext cx="1657080" cy="1640520"/>
            </a:xfrm>
            <a:custGeom>
              <a:avLst/>
              <a:gdLst/>
              <a:ahLst/>
              <a:rect l="l" t="t" r="r" b="b"/>
              <a:pathLst>
                <a:path w="1020" h="960">
                  <a:moveTo>
                    <a:pt x="0" y="957"/>
                  </a:moveTo>
                  <a:cubicBezTo>
                    <a:pt x="316" y="958"/>
                    <a:pt x="633" y="960"/>
                    <a:pt x="783" y="960"/>
                  </a:cubicBezTo>
                  <a:cubicBezTo>
                    <a:pt x="933" y="960"/>
                    <a:pt x="879" y="959"/>
                    <a:pt x="903" y="957"/>
                  </a:cubicBezTo>
                  <a:cubicBezTo>
                    <a:pt x="927" y="955"/>
                    <a:pt x="923" y="952"/>
                    <a:pt x="930" y="948"/>
                  </a:cubicBezTo>
                  <a:cubicBezTo>
                    <a:pt x="937" y="944"/>
                    <a:pt x="941" y="941"/>
                    <a:pt x="945" y="933"/>
                  </a:cubicBezTo>
                  <a:cubicBezTo>
                    <a:pt x="949" y="925"/>
                    <a:pt x="949" y="930"/>
                    <a:pt x="954" y="897"/>
                  </a:cubicBezTo>
                  <a:cubicBezTo>
                    <a:pt x="959" y="864"/>
                    <a:pt x="965" y="818"/>
                    <a:pt x="972" y="735"/>
                  </a:cubicBezTo>
                  <a:cubicBezTo>
                    <a:pt x="979" y="652"/>
                    <a:pt x="988" y="521"/>
                    <a:pt x="996" y="399"/>
                  </a:cubicBezTo>
                  <a:cubicBezTo>
                    <a:pt x="1004" y="277"/>
                    <a:pt x="1016" y="66"/>
                    <a:pt x="1020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737680" y="1181880"/>
              <a:ext cx="2627280" cy="1633680"/>
            </a:xfrm>
            <a:custGeom>
              <a:avLst/>
              <a:gdLst/>
              <a:ahLst/>
              <a:rect l="l" t="t" r="r" b="b"/>
              <a:pathLst>
                <a:path w="1611" h="1034">
                  <a:moveTo>
                    <a:pt x="0" y="1032"/>
                  </a:moveTo>
                  <a:cubicBezTo>
                    <a:pt x="311" y="1030"/>
                    <a:pt x="623" y="1029"/>
                    <a:pt x="762" y="1029"/>
                  </a:cubicBezTo>
                  <a:cubicBezTo>
                    <a:pt x="901" y="1029"/>
                    <a:pt x="818" y="1032"/>
                    <a:pt x="837" y="1032"/>
                  </a:cubicBezTo>
                  <a:cubicBezTo>
                    <a:pt x="856" y="1032"/>
                    <a:pt x="868" y="1032"/>
                    <a:pt x="879" y="1032"/>
                  </a:cubicBezTo>
                  <a:cubicBezTo>
                    <a:pt x="890" y="1032"/>
                    <a:pt x="892" y="1034"/>
                    <a:pt x="903" y="1032"/>
                  </a:cubicBezTo>
                  <a:cubicBezTo>
                    <a:pt x="914" y="1030"/>
                    <a:pt x="935" y="1026"/>
                    <a:pt x="948" y="1020"/>
                  </a:cubicBezTo>
                  <a:cubicBezTo>
                    <a:pt x="961" y="1014"/>
                    <a:pt x="970" y="1004"/>
                    <a:pt x="984" y="993"/>
                  </a:cubicBezTo>
                  <a:cubicBezTo>
                    <a:pt x="998" y="982"/>
                    <a:pt x="1003" y="982"/>
                    <a:pt x="1029" y="951"/>
                  </a:cubicBezTo>
                  <a:cubicBezTo>
                    <a:pt x="1055" y="920"/>
                    <a:pt x="1089" y="885"/>
                    <a:pt x="1140" y="810"/>
                  </a:cubicBezTo>
                  <a:cubicBezTo>
                    <a:pt x="1191" y="735"/>
                    <a:pt x="1254" y="639"/>
                    <a:pt x="1332" y="504"/>
                  </a:cubicBezTo>
                  <a:cubicBezTo>
                    <a:pt x="1410" y="369"/>
                    <a:pt x="1565" y="84"/>
                    <a:pt x="1611" y="0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789680" y="202752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800a5"/>
                  </a:solidFill>
                  <a:latin typeface="Times New Roman"/>
                </a:rPr>
                <a:t>H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341480" y="133020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Times New Roman"/>
                </a:rPr>
                <a:t>L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Twisting and self field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394920" y="953640"/>
            <a:ext cx="509436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filamentary composite wires, self field flux lines link between the inner and outer annuli of fila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wisting makes no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4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the self field loss is the same as a solid wire, apart from dilution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5715360" y="632160"/>
            <a:ext cx="3114360" cy="2309400"/>
            <a:chOff x="5715360" y="632160"/>
            <a:chExt cx="3114360" cy="2309400"/>
          </a:xfrm>
        </p:grpSpPr>
        <p:grpSp>
          <p:nvGrpSpPr>
            <p:cNvPr id="1433" name=""/>
            <p:cNvGrpSpPr/>
            <p:nvPr/>
          </p:nvGrpSpPr>
          <p:grpSpPr>
            <a:xfrm>
              <a:off x="5715360" y="812880"/>
              <a:ext cx="2670840" cy="2128680"/>
              <a:chOff x="5715360" y="812880"/>
              <a:chExt cx="2670840" cy="2128680"/>
            </a:xfrm>
          </p:grpSpPr>
          <p:sp>
            <p:nvSpPr>
              <p:cNvPr id="1434" name=""/>
              <p:cNvSpPr/>
              <p:nvPr/>
            </p:nvSpPr>
            <p:spPr>
              <a:xfrm>
                <a:off x="6100560" y="923760"/>
                <a:ext cx="2071800" cy="1790640"/>
              </a:xfrm>
              <a:custGeom>
                <a:avLst/>
                <a:gdLst/>
                <a:ahLst/>
                <a:rect l="l" t="t" r="r" b="b"/>
                <a:pathLst>
                  <a:path w="1305" h="1128">
                    <a:moveTo>
                      <a:pt x="0" y="585"/>
                    </a:moveTo>
                    <a:lnTo>
                      <a:pt x="87" y="567"/>
                    </a:lnTo>
                    <a:lnTo>
                      <a:pt x="189" y="573"/>
                    </a:lnTo>
                    <a:lnTo>
                      <a:pt x="294" y="618"/>
                    </a:lnTo>
                    <a:lnTo>
                      <a:pt x="345" y="657"/>
                    </a:lnTo>
                    <a:lnTo>
                      <a:pt x="387" y="702"/>
                    </a:lnTo>
                    <a:lnTo>
                      <a:pt x="426" y="762"/>
                    </a:lnTo>
                    <a:lnTo>
                      <a:pt x="450" y="831"/>
                    </a:lnTo>
                    <a:lnTo>
                      <a:pt x="459" y="897"/>
                    </a:lnTo>
                    <a:lnTo>
                      <a:pt x="459" y="975"/>
                    </a:lnTo>
                    <a:lnTo>
                      <a:pt x="441" y="1044"/>
                    </a:lnTo>
                    <a:lnTo>
                      <a:pt x="396" y="1128"/>
                    </a:lnTo>
                    <a:lnTo>
                      <a:pt x="1281" y="276"/>
                    </a:lnTo>
                    <a:lnTo>
                      <a:pt x="1305" y="219"/>
                    </a:lnTo>
                    <a:lnTo>
                      <a:pt x="1305" y="147"/>
                    </a:lnTo>
                    <a:lnTo>
                      <a:pt x="1290" y="99"/>
                    </a:lnTo>
                    <a:lnTo>
                      <a:pt x="1254" y="51"/>
                    </a:lnTo>
                    <a:lnTo>
                      <a:pt x="1212" y="18"/>
                    </a:lnTo>
                    <a:lnTo>
                      <a:pt x="1149" y="0"/>
                    </a:lnTo>
                    <a:lnTo>
                      <a:pt x="1092" y="3"/>
                    </a:lnTo>
                    <a:lnTo>
                      <a:pt x="1053" y="18"/>
                    </a:lnTo>
                    <a:lnTo>
                      <a:pt x="1032" y="36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d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20262000">
                <a:off x="6035400" y="1616040"/>
                <a:ext cx="1647720" cy="514440"/>
              </a:xfrm>
              <a:custGeom>
                <a:avLst/>
                <a:gdLst/>
                <a:ahLst/>
                <a:rect l="l" t="t" r="r" b="b"/>
                <a:pathLst>
                  <a:path w="1356" h="469">
                    <a:moveTo>
                      <a:pt x="0" y="20"/>
                    </a:moveTo>
                    <a:cubicBezTo>
                      <a:pt x="24" y="10"/>
                      <a:pt x="49" y="0"/>
                      <a:pt x="92" y="0"/>
                    </a:cubicBezTo>
                    <a:cubicBezTo>
                      <a:pt x="135" y="0"/>
                      <a:pt x="199" y="5"/>
                      <a:pt x="256" y="20"/>
                    </a:cubicBezTo>
                    <a:cubicBezTo>
                      <a:pt x="313" y="35"/>
                      <a:pt x="359" y="52"/>
                      <a:pt x="436" y="92"/>
                    </a:cubicBezTo>
                    <a:cubicBezTo>
                      <a:pt x="513" y="132"/>
                      <a:pt x="649" y="219"/>
                      <a:pt x="720" y="260"/>
                    </a:cubicBezTo>
                    <a:cubicBezTo>
                      <a:pt x="791" y="301"/>
                      <a:pt x="808" y="309"/>
                      <a:pt x="864" y="336"/>
                    </a:cubicBezTo>
                    <a:cubicBezTo>
                      <a:pt x="920" y="363"/>
                      <a:pt x="995" y="399"/>
                      <a:pt x="1056" y="420"/>
                    </a:cubicBezTo>
                    <a:cubicBezTo>
                      <a:pt x="1117" y="441"/>
                      <a:pt x="1182" y="459"/>
                      <a:pt x="1228" y="464"/>
                    </a:cubicBezTo>
                    <a:cubicBezTo>
                      <a:pt x="1274" y="469"/>
                      <a:pt x="1311" y="455"/>
                      <a:pt x="1332" y="452"/>
                    </a:cubicBezTo>
                    <a:cubicBezTo>
                      <a:pt x="1353" y="449"/>
                      <a:pt x="1352" y="445"/>
                      <a:pt x="1356" y="4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20262000">
                <a:off x="5898600" y="1760040"/>
                <a:ext cx="1648080" cy="514440"/>
              </a:xfrm>
              <a:custGeom>
                <a:avLst/>
                <a:gdLst/>
                <a:ahLst/>
                <a:rect l="l" t="t" r="r" b="b"/>
                <a:pathLst>
                  <a:path w="1356" h="469">
                    <a:moveTo>
                      <a:pt x="0" y="20"/>
                    </a:moveTo>
                    <a:cubicBezTo>
                      <a:pt x="24" y="10"/>
                      <a:pt x="49" y="0"/>
                      <a:pt x="92" y="0"/>
                    </a:cubicBezTo>
                    <a:cubicBezTo>
                      <a:pt x="135" y="0"/>
                      <a:pt x="199" y="5"/>
                      <a:pt x="256" y="20"/>
                    </a:cubicBezTo>
                    <a:cubicBezTo>
                      <a:pt x="313" y="35"/>
                      <a:pt x="359" y="52"/>
                      <a:pt x="436" y="92"/>
                    </a:cubicBezTo>
                    <a:cubicBezTo>
                      <a:pt x="513" y="132"/>
                      <a:pt x="649" y="219"/>
                      <a:pt x="720" y="260"/>
                    </a:cubicBezTo>
                    <a:cubicBezTo>
                      <a:pt x="791" y="301"/>
                      <a:pt x="808" y="309"/>
                      <a:pt x="864" y="336"/>
                    </a:cubicBezTo>
                    <a:cubicBezTo>
                      <a:pt x="920" y="363"/>
                      <a:pt x="995" y="399"/>
                      <a:pt x="1056" y="420"/>
                    </a:cubicBezTo>
                    <a:cubicBezTo>
                      <a:pt x="1117" y="441"/>
                      <a:pt x="1182" y="459"/>
                      <a:pt x="1228" y="464"/>
                    </a:cubicBezTo>
                    <a:cubicBezTo>
                      <a:pt x="1274" y="469"/>
                      <a:pt x="1311" y="455"/>
                      <a:pt x="1332" y="452"/>
                    </a:cubicBezTo>
                    <a:cubicBezTo>
                      <a:pt x="1353" y="449"/>
                      <a:pt x="1352" y="445"/>
                      <a:pt x="1356" y="4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rot="20262000">
                <a:off x="5751000" y="1904400"/>
                <a:ext cx="1648080" cy="514440"/>
              </a:xfrm>
              <a:custGeom>
                <a:avLst/>
                <a:gdLst/>
                <a:ahLst/>
                <a:rect l="l" t="t" r="r" b="b"/>
                <a:pathLst>
                  <a:path w="1356" h="469">
                    <a:moveTo>
                      <a:pt x="0" y="20"/>
                    </a:moveTo>
                    <a:cubicBezTo>
                      <a:pt x="24" y="10"/>
                      <a:pt x="49" y="0"/>
                      <a:pt x="92" y="0"/>
                    </a:cubicBezTo>
                    <a:cubicBezTo>
                      <a:pt x="135" y="0"/>
                      <a:pt x="199" y="5"/>
                      <a:pt x="256" y="20"/>
                    </a:cubicBezTo>
                    <a:cubicBezTo>
                      <a:pt x="313" y="35"/>
                      <a:pt x="359" y="52"/>
                      <a:pt x="436" y="92"/>
                    </a:cubicBezTo>
                    <a:cubicBezTo>
                      <a:pt x="513" y="132"/>
                      <a:pt x="649" y="219"/>
                      <a:pt x="720" y="260"/>
                    </a:cubicBezTo>
                    <a:cubicBezTo>
                      <a:pt x="791" y="301"/>
                      <a:pt x="808" y="309"/>
                      <a:pt x="864" y="336"/>
                    </a:cubicBezTo>
                    <a:cubicBezTo>
                      <a:pt x="920" y="363"/>
                      <a:pt x="995" y="399"/>
                      <a:pt x="1056" y="420"/>
                    </a:cubicBezTo>
                    <a:cubicBezTo>
                      <a:pt x="1117" y="441"/>
                      <a:pt x="1182" y="459"/>
                      <a:pt x="1228" y="464"/>
                    </a:cubicBezTo>
                    <a:cubicBezTo>
                      <a:pt x="1274" y="469"/>
                      <a:pt x="1311" y="455"/>
                      <a:pt x="1332" y="452"/>
                    </a:cubicBezTo>
                    <a:cubicBezTo>
                      <a:pt x="1353" y="449"/>
                      <a:pt x="1352" y="445"/>
                      <a:pt x="1356" y="4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441840" y="2200320"/>
                <a:ext cx="835200" cy="118800"/>
              </a:xfrm>
              <a:custGeom>
                <a:avLst/>
                <a:gdLst/>
                <a:ahLst/>
                <a:rect l="l" t="t" r="r" b="b"/>
                <a:pathLst>
                  <a:path w="526" h="75">
                    <a:moveTo>
                      <a:pt x="0" y="62"/>
                    </a:moveTo>
                    <a:cubicBezTo>
                      <a:pt x="41" y="66"/>
                      <a:pt x="82" y="70"/>
                      <a:pt x="128" y="72"/>
                    </a:cubicBezTo>
                    <a:cubicBezTo>
                      <a:pt x="174" y="74"/>
                      <a:pt x="229" y="75"/>
                      <a:pt x="278" y="72"/>
                    </a:cubicBezTo>
                    <a:cubicBezTo>
                      <a:pt x="327" y="69"/>
                      <a:pt x="386" y="63"/>
                      <a:pt x="422" y="54"/>
                    </a:cubicBezTo>
                    <a:cubicBezTo>
                      <a:pt x="458" y="45"/>
                      <a:pt x="479" y="29"/>
                      <a:pt x="496" y="20"/>
                    </a:cubicBezTo>
                    <a:cubicBezTo>
                      <a:pt x="513" y="11"/>
                      <a:pt x="521" y="3"/>
                      <a:pt x="52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319800" y="2313000"/>
                <a:ext cx="834840" cy="118800"/>
              </a:xfrm>
              <a:custGeom>
                <a:avLst/>
                <a:gdLst/>
                <a:ahLst/>
                <a:rect l="l" t="t" r="r" b="b"/>
                <a:pathLst>
                  <a:path w="526" h="75">
                    <a:moveTo>
                      <a:pt x="0" y="62"/>
                    </a:moveTo>
                    <a:cubicBezTo>
                      <a:pt x="41" y="66"/>
                      <a:pt x="82" y="70"/>
                      <a:pt x="128" y="72"/>
                    </a:cubicBezTo>
                    <a:cubicBezTo>
                      <a:pt x="174" y="74"/>
                      <a:pt x="229" y="75"/>
                      <a:pt x="278" y="72"/>
                    </a:cubicBezTo>
                    <a:cubicBezTo>
                      <a:pt x="327" y="69"/>
                      <a:pt x="386" y="63"/>
                      <a:pt x="422" y="54"/>
                    </a:cubicBezTo>
                    <a:cubicBezTo>
                      <a:pt x="458" y="45"/>
                      <a:pt x="479" y="29"/>
                      <a:pt x="496" y="20"/>
                    </a:cubicBezTo>
                    <a:cubicBezTo>
                      <a:pt x="513" y="11"/>
                      <a:pt x="521" y="3"/>
                      <a:pt x="52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192720" y="2436840"/>
                <a:ext cx="835200" cy="118800"/>
              </a:xfrm>
              <a:custGeom>
                <a:avLst/>
                <a:gdLst/>
                <a:ahLst/>
                <a:rect l="l" t="t" r="r" b="b"/>
                <a:pathLst>
                  <a:path w="526" h="75">
                    <a:moveTo>
                      <a:pt x="0" y="62"/>
                    </a:moveTo>
                    <a:cubicBezTo>
                      <a:pt x="41" y="66"/>
                      <a:pt x="82" y="70"/>
                      <a:pt x="128" y="72"/>
                    </a:cubicBezTo>
                    <a:cubicBezTo>
                      <a:pt x="174" y="74"/>
                      <a:pt x="229" y="75"/>
                      <a:pt x="278" y="72"/>
                    </a:cubicBezTo>
                    <a:cubicBezTo>
                      <a:pt x="327" y="69"/>
                      <a:pt x="386" y="63"/>
                      <a:pt x="422" y="54"/>
                    </a:cubicBezTo>
                    <a:cubicBezTo>
                      <a:pt x="458" y="45"/>
                      <a:pt x="479" y="29"/>
                      <a:pt x="496" y="20"/>
                    </a:cubicBezTo>
                    <a:cubicBezTo>
                      <a:pt x="513" y="11"/>
                      <a:pt x="521" y="3"/>
                      <a:pt x="52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1" name=""/>
              <p:cNvGrpSpPr/>
              <p:nvPr/>
            </p:nvGrpSpPr>
            <p:grpSpPr>
              <a:xfrm>
                <a:off x="5716440" y="812880"/>
                <a:ext cx="2576520" cy="2128680"/>
                <a:chOff x="5716440" y="812880"/>
                <a:chExt cx="2576520" cy="212868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5716440" y="1831680"/>
                  <a:ext cx="1109880" cy="1109880"/>
                </a:xfrm>
                <a:prstGeom prst="ellipse">
                  <a:avLst/>
                </a:prstGeom>
                <a:solidFill>
                  <a:srgbClr val="ff9f9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V="1">
                  <a:off x="5973840" y="952560"/>
                  <a:ext cx="1804680" cy="96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V="1">
                  <a:off x="6662520" y="1418760"/>
                  <a:ext cx="1424160" cy="136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rot="3232800">
                  <a:off x="7613640" y="925200"/>
                  <a:ext cx="566640" cy="566640"/>
                </a:xfrm>
                <a:prstGeom prst="blockArc">
                  <a:avLst>
                    <a:gd name="adj1" fmla="val 11164875"/>
                    <a:gd name="adj2" fmla="val 21235125"/>
                    <a:gd name="adj3" fmla="val 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832360" y="210636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925960" y="199692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6022800" y="192240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143400" y="190008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288120" y="188748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6418080" y="192708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524640" y="200016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616800" y="210636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6676920" y="221904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697440" y="236052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5878440" y="263196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5773680" y="224604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5776920" y="238896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5815080" y="251604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983200" y="272880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661080" y="250020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595920" y="261288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502320" y="271620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6380280" y="2781360"/>
                  <a:ext cx="88560" cy="88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6002280" y="2165400"/>
                  <a:ext cx="88920" cy="88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6108480" y="209052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253200" y="206352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5949720" y="2297160"/>
                  <a:ext cx="88920" cy="88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6119640" y="278748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6243480" y="280332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1" name=""/>
                <p:cNvGrpSpPr/>
                <p:nvPr/>
              </p:nvGrpSpPr>
              <p:grpSpPr>
                <a:xfrm>
                  <a:off x="5870520" y="2006640"/>
                  <a:ext cx="771480" cy="749160"/>
                  <a:chOff x="5870520" y="2006640"/>
                  <a:chExt cx="771480" cy="749160"/>
                </a:xfrm>
              </p:grpSpPr>
              <p:sp>
                <p:nvSpPr>
                  <p:cNvPr id="1472" name=""/>
                  <p:cNvSpPr/>
                  <p:nvPr/>
                </p:nvSpPr>
                <p:spPr>
                  <a:xfrm>
                    <a:off x="5892840" y="2006640"/>
                    <a:ext cx="749160" cy="74916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5870520" y="2114280"/>
                    <a:ext cx="13320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226">
                        <a:moveTo>
                          <a:pt x="60" y="0"/>
                        </a:moveTo>
                        <a:lnTo>
                          <a:pt x="32" y="48"/>
                        </a:lnTo>
                        <a:lnTo>
                          <a:pt x="10" y="98"/>
                        </a:lnTo>
                        <a:lnTo>
                          <a:pt x="0" y="162"/>
                        </a:lnTo>
                        <a:lnTo>
                          <a:pt x="8" y="226"/>
                        </a:lnTo>
                        <a:lnTo>
                          <a:pt x="32" y="220"/>
                        </a:lnTo>
                        <a:lnTo>
                          <a:pt x="24" y="176"/>
                        </a:lnTo>
                        <a:lnTo>
                          <a:pt x="32" y="112"/>
                        </a:lnTo>
                        <a:lnTo>
                          <a:pt x="56" y="58"/>
                        </a:lnTo>
                        <a:lnTo>
                          <a:pt x="84" y="16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ff9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 flipH="1">
                    <a:off x="5940360" y="2117520"/>
                    <a:ext cx="60480" cy="8280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5" name=""/>
                <p:cNvSpPr/>
                <p:nvPr/>
              </p:nvSpPr>
              <p:spPr>
                <a:xfrm>
                  <a:off x="6386400" y="210168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5959440" y="243036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037200" y="253656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6149880" y="260820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6272280" y="260640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383160" y="255564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6477120" y="2217600"/>
                  <a:ext cx="8856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6465960" y="245736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6492960" y="232884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"/>
                <p:cNvGrpSpPr/>
                <p:nvPr/>
              </p:nvGrpSpPr>
              <p:grpSpPr>
                <a:xfrm>
                  <a:off x="6081120" y="2179440"/>
                  <a:ext cx="374760" cy="387360"/>
                  <a:chOff x="6081120" y="2179440"/>
                  <a:chExt cx="374760" cy="38736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 rot="5400000">
                    <a:off x="6080400" y="2191320"/>
                    <a:ext cx="376200" cy="37476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 rot="5400000">
                    <a:off x="6279120" y="2122920"/>
                    <a:ext cx="6660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226">
                        <a:moveTo>
                          <a:pt x="60" y="0"/>
                        </a:moveTo>
                        <a:lnTo>
                          <a:pt x="32" y="48"/>
                        </a:lnTo>
                        <a:lnTo>
                          <a:pt x="10" y="98"/>
                        </a:lnTo>
                        <a:lnTo>
                          <a:pt x="0" y="162"/>
                        </a:lnTo>
                        <a:lnTo>
                          <a:pt x="8" y="226"/>
                        </a:lnTo>
                        <a:lnTo>
                          <a:pt x="32" y="220"/>
                        </a:lnTo>
                        <a:lnTo>
                          <a:pt x="24" y="176"/>
                        </a:lnTo>
                        <a:lnTo>
                          <a:pt x="32" y="112"/>
                        </a:lnTo>
                        <a:lnTo>
                          <a:pt x="56" y="58"/>
                        </a:lnTo>
                        <a:lnTo>
                          <a:pt x="84" y="16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ff9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flipH="1" flipV="1">
                    <a:off x="6359040" y="2214360"/>
                    <a:ext cx="41400" cy="3024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88" name=""/>
                <p:cNvSpPr/>
                <p:nvPr/>
              </p:nvSpPr>
              <p:spPr>
                <a:xfrm>
                  <a:off x="6168960" y="225252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6278400" y="225396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6334200" y="234792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6240240" y="243828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6129360" y="2365200"/>
                  <a:ext cx="88920" cy="889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3" name=""/>
              <p:cNvSpPr/>
              <p:nvPr/>
            </p:nvSpPr>
            <p:spPr>
              <a:xfrm rot="20262000">
                <a:off x="6299280" y="1411200"/>
                <a:ext cx="1650960" cy="479520"/>
              </a:xfrm>
              <a:custGeom>
                <a:avLst/>
                <a:gdLst/>
                <a:ahLst/>
                <a:rect l="l" t="t" r="r" b="b"/>
                <a:pathLst>
                  <a:path w="1356" h="469">
                    <a:moveTo>
                      <a:pt x="0" y="20"/>
                    </a:moveTo>
                    <a:cubicBezTo>
                      <a:pt x="24" y="10"/>
                      <a:pt x="49" y="0"/>
                      <a:pt x="92" y="0"/>
                    </a:cubicBezTo>
                    <a:cubicBezTo>
                      <a:pt x="135" y="0"/>
                      <a:pt x="199" y="5"/>
                      <a:pt x="256" y="20"/>
                    </a:cubicBezTo>
                    <a:cubicBezTo>
                      <a:pt x="313" y="35"/>
                      <a:pt x="359" y="52"/>
                      <a:pt x="436" y="92"/>
                    </a:cubicBezTo>
                    <a:cubicBezTo>
                      <a:pt x="513" y="132"/>
                      <a:pt x="649" y="219"/>
                      <a:pt x="720" y="260"/>
                    </a:cubicBezTo>
                    <a:cubicBezTo>
                      <a:pt x="791" y="301"/>
                      <a:pt x="808" y="309"/>
                      <a:pt x="864" y="336"/>
                    </a:cubicBezTo>
                    <a:cubicBezTo>
                      <a:pt x="920" y="363"/>
                      <a:pt x="995" y="399"/>
                      <a:pt x="1056" y="420"/>
                    </a:cubicBezTo>
                    <a:cubicBezTo>
                      <a:pt x="1117" y="441"/>
                      <a:pt x="1182" y="459"/>
                      <a:pt x="1228" y="464"/>
                    </a:cubicBezTo>
                    <a:cubicBezTo>
                      <a:pt x="1274" y="469"/>
                      <a:pt x="1311" y="455"/>
                      <a:pt x="1332" y="452"/>
                    </a:cubicBezTo>
                    <a:cubicBezTo>
                      <a:pt x="1353" y="449"/>
                      <a:pt x="1352" y="445"/>
                      <a:pt x="1356" y="4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0262000">
                <a:off x="6135480" y="1501560"/>
                <a:ext cx="1675080" cy="520920"/>
              </a:xfrm>
              <a:custGeom>
                <a:avLst/>
                <a:gdLst/>
                <a:ahLst/>
                <a:rect l="l" t="t" r="r" b="b"/>
                <a:pathLst>
                  <a:path w="1356" h="469">
                    <a:moveTo>
                      <a:pt x="0" y="20"/>
                    </a:moveTo>
                    <a:cubicBezTo>
                      <a:pt x="24" y="10"/>
                      <a:pt x="49" y="0"/>
                      <a:pt x="92" y="0"/>
                    </a:cubicBezTo>
                    <a:cubicBezTo>
                      <a:pt x="135" y="0"/>
                      <a:pt x="199" y="5"/>
                      <a:pt x="256" y="20"/>
                    </a:cubicBezTo>
                    <a:cubicBezTo>
                      <a:pt x="313" y="35"/>
                      <a:pt x="359" y="52"/>
                      <a:pt x="436" y="92"/>
                    </a:cubicBezTo>
                    <a:cubicBezTo>
                      <a:pt x="513" y="132"/>
                      <a:pt x="649" y="219"/>
                      <a:pt x="720" y="260"/>
                    </a:cubicBezTo>
                    <a:cubicBezTo>
                      <a:pt x="791" y="301"/>
                      <a:pt x="808" y="309"/>
                      <a:pt x="864" y="336"/>
                    </a:cubicBezTo>
                    <a:cubicBezTo>
                      <a:pt x="920" y="363"/>
                      <a:pt x="995" y="399"/>
                      <a:pt x="1056" y="420"/>
                    </a:cubicBezTo>
                    <a:cubicBezTo>
                      <a:pt x="1117" y="441"/>
                      <a:pt x="1182" y="459"/>
                      <a:pt x="1228" y="464"/>
                    </a:cubicBezTo>
                    <a:cubicBezTo>
                      <a:pt x="1274" y="469"/>
                      <a:pt x="1311" y="455"/>
                      <a:pt x="1332" y="452"/>
                    </a:cubicBezTo>
                    <a:cubicBezTo>
                      <a:pt x="1353" y="449"/>
                      <a:pt x="1352" y="445"/>
                      <a:pt x="1356" y="4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20262000">
                <a:off x="6513480" y="1307520"/>
                <a:ext cx="1571760" cy="432000"/>
              </a:xfrm>
              <a:custGeom>
                <a:avLst/>
                <a:gdLst/>
                <a:ahLst/>
                <a:rect l="l" t="t" r="r" b="b"/>
                <a:pathLst>
                  <a:path w="1356" h="469">
                    <a:moveTo>
                      <a:pt x="0" y="20"/>
                    </a:moveTo>
                    <a:cubicBezTo>
                      <a:pt x="24" y="10"/>
                      <a:pt x="49" y="0"/>
                      <a:pt x="92" y="0"/>
                    </a:cubicBezTo>
                    <a:cubicBezTo>
                      <a:pt x="135" y="0"/>
                      <a:pt x="199" y="5"/>
                      <a:pt x="256" y="20"/>
                    </a:cubicBezTo>
                    <a:cubicBezTo>
                      <a:pt x="313" y="35"/>
                      <a:pt x="359" y="52"/>
                      <a:pt x="436" y="92"/>
                    </a:cubicBezTo>
                    <a:cubicBezTo>
                      <a:pt x="513" y="132"/>
                      <a:pt x="649" y="219"/>
                      <a:pt x="720" y="260"/>
                    </a:cubicBezTo>
                    <a:cubicBezTo>
                      <a:pt x="791" y="301"/>
                      <a:pt x="808" y="309"/>
                      <a:pt x="864" y="336"/>
                    </a:cubicBezTo>
                    <a:cubicBezTo>
                      <a:pt x="920" y="363"/>
                      <a:pt x="995" y="399"/>
                      <a:pt x="1056" y="420"/>
                    </a:cubicBezTo>
                    <a:cubicBezTo>
                      <a:pt x="1117" y="441"/>
                      <a:pt x="1182" y="459"/>
                      <a:pt x="1228" y="464"/>
                    </a:cubicBezTo>
                    <a:cubicBezTo>
                      <a:pt x="1274" y="469"/>
                      <a:pt x="1311" y="455"/>
                      <a:pt x="1332" y="452"/>
                    </a:cubicBezTo>
                    <a:cubicBezTo>
                      <a:pt x="1353" y="449"/>
                      <a:pt x="1352" y="445"/>
                      <a:pt x="1356" y="4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20262000">
                <a:off x="6762600" y="1182240"/>
                <a:ext cx="1571760" cy="431640"/>
              </a:xfrm>
              <a:custGeom>
                <a:avLst/>
                <a:gdLst/>
                <a:ahLst/>
                <a:rect l="l" t="t" r="r" b="b"/>
                <a:pathLst>
                  <a:path w="1356" h="469">
                    <a:moveTo>
                      <a:pt x="0" y="20"/>
                    </a:moveTo>
                    <a:cubicBezTo>
                      <a:pt x="24" y="10"/>
                      <a:pt x="49" y="0"/>
                      <a:pt x="92" y="0"/>
                    </a:cubicBezTo>
                    <a:cubicBezTo>
                      <a:pt x="135" y="0"/>
                      <a:pt x="199" y="5"/>
                      <a:pt x="256" y="20"/>
                    </a:cubicBezTo>
                    <a:cubicBezTo>
                      <a:pt x="313" y="35"/>
                      <a:pt x="359" y="52"/>
                      <a:pt x="436" y="92"/>
                    </a:cubicBezTo>
                    <a:cubicBezTo>
                      <a:pt x="513" y="132"/>
                      <a:pt x="649" y="219"/>
                      <a:pt x="720" y="260"/>
                    </a:cubicBezTo>
                    <a:cubicBezTo>
                      <a:pt x="791" y="301"/>
                      <a:pt x="808" y="309"/>
                      <a:pt x="864" y="336"/>
                    </a:cubicBezTo>
                    <a:cubicBezTo>
                      <a:pt x="920" y="363"/>
                      <a:pt x="995" y="399"/>
                      <a:pt x="1056" y="420"/>
                    </a:cubicBezTo>
                    <a:cubicBezTo>
                      <a:pt x="1117" y="441"/>
                      <a:pt x="1182" y="459"/>
                      <a:pt x="1228" y="464"/>
                    </a:cubicBezTo>
                    <a:cubicBezTo>
                      <a:pt x="1274" y="469"/>
                      <a:pt x="1311" y="455"/>
                      <a:pt x="1332" y="452"/>
                    </a:cubicBezTo>
                    <a:cubicBezTo>
                      <a:pt x="1353" y="449"/>
                      <a:pt x="1352" y="445"/>
                      <a:pt x="1356" y="4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rot="20262000">
                <a:off x="6994440" y="1096920"/>
                <a:ext cx="1362240" cy="372960"/>
              </a:xfrm>
              <a:custGeom>
                <a:avLst/>
                <a:gdLst/>
                <a:ahLst/>
                <a:rect l="l" t="t" r="r" b="b"/>
                <a:pathLst>
                  <a:path w="1356" h="469">
                    <a:moveTo>
                      <a:pt x="0" y="20"/>
                    </a:moveTo>
                    <a:cubicBezTo>
                      <a:pt x="24" y="10"/>
                      <a:pt x="49" y="0"/>
                      <a:pt x="92" y="0"/>
                    </a:cubicBezTo>
                    <a:cubicBezTo>
                      <a:pt x="135" y="0"/>
                      <a:pt x="199" y="5"/>
                      <a:pt x="256" y="20"/>
                    </a:cubicBezTo>
                    <a:cubicBezTo>
                      <a:pt x="313" y="35"/>
                      <a:pt x="359" y="52"/>
                      <a:pt x="436" y="92"/>
                    </a:cubicBezTo>
                    <a:cubicBezTo>
                      <a:pt x="513" y="132"/>
                      <a:pt x="649" y="219"/>
                      <a:pt x="720" y="260"/>
                    </a:cubicBezTo>
                    <a:cubicBezTo>
                      <a:pt x="791" y="301"/>
                      <a:pt x="808" y="309"/>
                      <a:pt x="864" y="336"/>
                    </a:cubicBezTo>
                    <a:cubicBezTo>
                      <a:pt x="920" y="363"/>
                      <a:pt x="995" y="399"/>
                      <a:pt x="1056" y="420"/>
                    </a:cubicBezTo>
                    <a:cubicBezTo>
                      <a:pt x="1117" y="441"/>
                      <a:pt x="1182" y="459"/>
                      <a:pt x="1228" y="464"/>
                    </a:cubicBezTo>
                    <a:cubicBezTo>
                      <a:pt x="1274" y="469"/>
                      <a:pt x="1311" y="455"/>
                      <a:pt x="1332" y="452"/>
                    </a:cubicBezTo>
                    <a:cubicBezTo>
                      <a:pt x="1353" y="449"/>
                      <a:pt x="1352" y="445"/>
                      <a:pt x="1356" y="4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rot="20262000">
                <a:off x="7221600" y="1022400"/>
                <a:ext cx="1147680" cy="315720"/>
              </a:xfrm>
              <a:custGeom>
                <a:avLst/>
                <a:gdLst/>
                <a:ahLst/>
                <a:rect l="l" t="t" r="r" b="b"/>
                <a:pathLst>
                  <a:path w="1356" h="469">
                    <a:moveTo>
                      <a:pt x="0" y="20"/>
                    </a:moveTo>
                    <a:cubicBezTo>
                      <a:pt x="24" y="10"/>
                      <a:pt x="49" y="0"/>
                      <a:pt x="92" y="0"/>
                    </a:cubicBezTo>
                    <a:cubicBezTo>
                      <a:pt x="135" y="0"/>
                      <a:pt x="199" y="5"/>
                      <a:pt x="256" y="20"/>
                    </a:cubicBezTo>
                    <a:cubicBezTo>
                      <a:pt x="313" y="35"/>
                      <a:pt x="359" y="52"/>
                      <a:pt x="436" y="92"/>
                    </a:cubicBezTo>
                    <a:cubicBezTo>
                      <a:pt x="513" y="132"/>
                      <a:pt x="649" y="219"/>
                      <a:pt x="720" y="260"/>
                    </a:cubicBezTo>
                    <a:cubicBezTo>
                      <a:pt x="791" y="301"/>
                      <a:pt x="808" y="309"/>
                      <a:pt x="864" y="336"/>
                    </a:cubicBezTo>
                    <a:cubicBezTo>
                      <a:pt x="920" y="363"/>
                      <a:pt x="995" y="399"/>
                      <a:pt x="1056" y="420"/>
                    </a:cubicBezTo>
                    <a:cubicBezTo>
                      <a:pt x="1117" y="441"/>
                      <a:pt x="1182" y="459"/>
                      <a:pt x="1228" y="464"/>
                    </a:cubicBezTo>
                    <a:cubicBezTo>
                      <a:pt x="1274" y="469"/>
                      <a:pt x="1311" y="455"/>
                      <a:pt x="1332" y="452"/>
                    </a:cubicBezTo>
                    <a:cubicBezTo>
                      <a:pt x="1353" y="449"/>
                      <a:pt x="1352" y="445"/>
                      <a:pt x="1356" y="4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9" name=""/>
            <p:cNvSpPr/>
            <p:nvPr/>
          </p:nvSpPr>
          <p:spPr>
            <a:xfrm rot="20262000">
              <a:off x="7394400" y="925560"/>
              <a:ext cx="1148040" cy="315720"/>
            </a:xfrm>
            <a:custGeom>
              <a:avLst/>
              <a:gdLst/>
              <a:ahLst/>
              <a:rect l="l" t="t" r="r" b="b"/>
              <a:pathLst>
                <a:path w="1356" h="469">
                  <a:moveTo>
                    <a:pt x="0" y="20"/>
                  </a:moveTo>
                  <a:cubicBezTo>
                    <a:pt x="24" y="10"/>
                    <a:pt x="49" y="0"/>
                    <a:pt x="92" y="0"/>
                  </a:cubicBezTo>
                  <a:cubicBezTo>
                    <a:pt x="135" y="0"/>
                    <a:pt x="199" y="5"/>
                    <a:pt x="256" y="20"/>
                  </a:cubicBezTo>
                  <a:cubicBezTo>
                    <a:pt x="313" y="35"/>
                    <a:pt x="359" y="52"/>
                    <a:pt x="436" y="92"/>
                  </a:cubicBezTo>
                  <a:cubicBezTo>
                    <a:pt x="513" y="132"/>
                    <a:pt x="649" y="219"/>
                    <a:pt x="720" y="260"/>
                  </a:cubicBezTo>
                  <a:cubicBezTo>
                    <a:pt x="791" y="301"/>
                    <a:pt x="808" y="309"/>
                    <a:pt x="864" y="336"/>
                  </a:cubicBezTo>
                  <a:cubicBezTo>
                    <a:pt x="920" y="363"/>
                    <a:pt x="995" y="399"/>
                    <a:pt x="1056" y="420"/>
                  </a:cubicBezTo>
                  <a:cubicBezTo>
                    <a:pt x="1117" y="441"/>
                    <a:pt x="1182" y="459"/>
                    <a:pt x="1228" y="464"/>
                  </a:cubicBezTo>
                  <a:cubicBezTo>
                    <a:pt x="1274" y="469"/>
                    <a:pt x="1311" y="455"/>
                    <a:pt x="1332" y="452"/>
                  </a:cubicBezTo>
                  <a:cubicBezTo>
                    <a:pt x="1353" y="449"/>
                    <a:pt x="1352" y="445"/>
                    <a:pt x="1356" y="4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rot="20262000">
              <a:off x="7567560" y="838080"/>
              <a:ext cx="1147680" cy="316080"/>
            </a:xfrm>
            <a:custGeom>
              <a:avLst/>
              <a:gdLst/>
              <a:ahLst/>
              <a:rect l="l" t="t" r="r" b="b"/>
              <a:pathLst>
                <a:path w="1356" h="469">
                  <a:moveTo>
                    <a:pt x="0" y="20"/>
                  </a:moveTo>
                  <a:cubicBezTo>
                    <a:pt x="24" y="10"/>
                    <a:pt x="49" y="0"/>
                    <a:pt x="92" y="0"/>
                  </a:cubicBezTo>
                  <a:cubicBezTo>
                    <a:pt x="135" y="0"/>
                    <a:pt x="199" y="5"/>
                    <a:pt x="256" y="20"/>
                  </a:cubicBezTo>
                  <a:cubicBezTo>
                    <a:pt x="313" y="35"/>
                    <a:pt x="359" y="52"/>
                    <a:pt x="436" y="92"/>
                  </a:cubicBezTo>
                  <a:cubicBezTo>
                    <a:pt x="513" y="132"/>
                    <a:pt x="649" y="219"/>
                    <a:pt x="720" y="260"/>
                  </a:cubicBezTo>
                  <a:cubicBezTo>
                    <a:pt x="791" y="301"/>
                    <a:pt x="808" y="309"/>
                    <a:pt x="864" y="336"/>
                  </a:cubicBezTo>
                  <a:cubicBezTo>
                    <a:pt x="920" y="363"/>
                    <a:pt x="995" y="399"/>
                    <a:pt x="1056" y="420"/>
                  </a:cubicBezTo>
                  <a:cubicBezTo>
                    <a:pt x="1117" y="441"/>
                    <a:pt x="1182" y="459"/>
                    <a:pt x="1228" y="464"/>
                  </a:cubicBezTo>
                  <a:cubicBezTo>
                    <a:pt x="1274" y="469"/>
                    <a:pt x="1311" y="455"/>
                    <a:pt x="1332" y="452"/>
                  </a:cubicBezTo>
                  <a:cubicBezTo>
                    <a:pt x="1353" y="449"/>
                    <a:pt x="1352" y="445"/>
                    <a:pt x="1356" y="4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083440" y="758880"/>
              <a:ext cx="746280" cy="663480"/>
            </a:xfrm>
            <a:custGeom>
              <a:avLst/>
              <a:gdLst/>
              <a:ahLst/>
              <a:rect l="l" t="t" r="r" b="b"/>
              <a:pathLst>
                <a:path w="470" h="418">
                  <a:moveTo>
                    <a:pt x="0" y="140"/>
                  </a:moveTo>
                  <a:lnTo>
                    <a:pt x="40" y="184"/>
                  </a:lnTo>
                  <a:lnTo>
                    <a:pt x="56" y="222"/>
                  </a:lnTo>
                  <a:lnTo>
                    <a:pt x="68" y="276"/>
                  </a:lnTo>
                  <a:lnTo>
                    <a:pt x="62" y="334"/>
                  </a:lnTo>
                  <a:lnTo>
                    <a:pt x="24" y="404"/>
                  </a:lnTo>
                  <a:lnTo>
                    <a:pt x="38" y="418"/>
                  </a:lnTo>
                  <a:lnTo>
                    <a:pt x="470" y="132"/>
                  </a:lnTo>
                  <a:lnTo>
                    <a:pt x="374" y="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919080" y="2762280"/>
            <a:ext cx="3124440" cy="1754280"/>
            <a:chOff x="919080" y="2762280"/>
            <a:chExt cx="3124440" cy="1754280"/>
          </a:xfrm>
        </p:grpSpPr>
        <p:sp>
          <p:nvSpPr>
            <p:cNvPr id="1503" name=""/>
            <p:cNvSpPr/>
            <p:nvPr/>
          </p:nvSpPr>
          <p:spPr>
            <a:xfrm>
              <a:off x="1608120" y="3526200"/>
              <a:ext cx="1828800" cy="6094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1604880" y="3830760"/>
              <a:ext cx="914400" cy="152280"/>
              <a:chOff x="1604880" y="3830760"/>
              <a:chExt cx="914400" cy="152280"/>
            </a:xfrm>
          </p:grpSpPr>
          <p:sp>
            <p:nvSpPr>
              <p:cNvPr id="1505" name=""/>
              <p:cNvSpPr/>
              <p:nvPr/>
            </p:nvSpPr>
            <p:spPr>
              <a:xfrm>
                <a:off x="1604880" y="383076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757520" y="383076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909800" y="383076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062080" y="383076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214720" y="383076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367000" y="383076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2519280" y="3830760"/>
              <a:ext cx="914400" cy="152280"/>
              <a:chOff x="2519280" y="3830760"/>
              <a:chExt cx="914400" cy="152280"/>
            </a:xfrm>
          </p:grpSpPr>
          <p:sp>
            <p:nvSpPr>
              <p:cNvPr id="1512" name=""/>
              <p:cNvSpPr/>
              <p:nvPr/>
            </p:nvSpPr>
            <p:spPr>
              <a:xfrm>
                <a:off x="2519280" y="383076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671920" y="383076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24200" y="383076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976480" y="383076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129120" y="383076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281400" y="383076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1604880" y="3983400"/>
              <a:ext cx="914400" cy="152280"/>
              <a:chOff x="1604880" y="3983400"/>
              <a:chExt cx="914400" cy="152280"/>
            </a:xfrm>
          </p:grpSpPr>
          <p:sp>
            <p:nvSpPr>
              <p:cNvPr id="1519" name=""/>
              <p:cNvSpPr/>
              <p:nvPr/>
            </p:nvSpPr>
            <p:spPr>
              <a:xfrm>
                <a:off x="1604880" y="398340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757520" y="39834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909800" y="39834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062080" y="398340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214720" y="39834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367000" y="39834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2519280" y="3983400"/>
              <a:ext cx="914400" cy="152280"/>
              <a:chOff x="2519280" y="3983400"/>
              <a:chExt cx="914400" cy="152280"/>
            </a:xfrm>
          </p:grpSpPr>
          <p:sp>
            <p:nvSpPr>
              <p:cNvPr id="1526" name=""/>
              <p:cNvSpPr/>
              <p:nvPr/>
            </p:nvSpPr>
            <p:spPr>
              <a:xfrm>
                <a:off x="2519280" y="398340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71920" y="39834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824200" y="39834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976480" y="398340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129120" y="39834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281400" y="39834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1604880" y="3678480"/>
              <a:ext cx="914400" cy="152280"/>
              <a:chOff x="1604880" y="3678480"/>
              <a:chExt cx="914400" cy="152280"/>
            </a:xfrm>
          </p:grpSpPr>
          <p:sp>
            <p:nvSpPr>
              <p:cNvPr id="1533" name=""/>
              <p:cNvSpPr/>
              <p:nvPr/>
            </p:nvSpPr>
            <p:spPr>
              <a:xfrm>
                <a:off x="1604880" y="367848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757520" y="3678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909800" y="3678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062080" y="367848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214720" y="3678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367000" y="3678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1604880" y="3526200"/>
              <a:ext cx="914400" cy="152280"/>
              <a:chOff x="1604880" y="3526200"/>
              <a:chExt cx="914400" cy="152280"/>
            </a:xfrm>
          </p:grpSpPr>
          <p:sp>
            <p:nvSpPr>
              <p:cNvPr id="1540" name=""/>
              <p:cNvSpPr/>
              <p:nvPr/>
            </p:nvSpPr>
            <p:spPr>
              <a:xfrm>
                <a:off x="1604880" y="352620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757520" y="35262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909800" y="35262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062080" y="352620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214720" y="35262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367000" y="35262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2519280" y="3678480"/>
              <a:ext cx="914400" cy="152280"/>
              <a:chOff x="2519280" y="3678480"/>
              <a:chExt cx="91440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2519280" y="367848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671920" y="3678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824200" y="3678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976480" y="367848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129120" y="3678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281400" y="3678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2519280" y="3526200"/>
              <a:ext cx="914400" cy="152280"/>
              <a:chOff x="2519280" y="3526200"/>
              <a:chExt cx="914400" cy="152280"/>
            </a:xfrm>
          </p:grpSpPr>
          <p:sp>
            <p:nvSpPr>
              <p:cNvPr id="1554" name=""/>
              <p:cNvSpPr/>
              <p:nvPr/>
            </p:nvSpPr>
            <p:spPr>
              <a:xfrm>
                <a:off x="2519280" y="352620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671920" y="35262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824200" y="35262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976480" y="352620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129120" y="35262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281400" y="35262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"/>
            <p:cNvSpPr/>
            <p:nvPr/>
          </p:nvSpPr>
          <p:spPr>
            <a:xfrm>
              <a:off x="919080" y="3221280"/>
              <a:ext cx="3124440" cy="129528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300320" y="3449880"/>
              <a:ext cx="2438280" cy="76212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757520" y="3602160"/>
              <a:ext cx="160020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367000" y="451656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443320" y="42120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367000" y="405936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330560" y="27622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r>
                <a:rPr b="0" lang="en-GB" sz="1800" spc="-1" strike="noStrike" baseline="-25000">
                  <a:solidFill>
                    <a:srgbClr val="333399"/>
                  </a:solidFill>
                  <a:latin typeface="Times New Roman"/>
                </a:rPr>
                <a:t>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1528560" y="3297600"/>
              <a:ext cx="228600" cy="759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375920" y="3602160"/>
              <a:ext cx="228600" cy="763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5972040" y="3108240"/>
            <a:ext cx="2886120" cy="2955960"/>
          </a:xfrm>
          <a:prstGeom prst="rect">
            <a:avLst/>
          </a:prstGeom>
          <a:ln w="0">
            <a:noFill/>
          </a:ln>
        </p:spPr>
      </p:pic>
      <p:sp>
        <p:nvSpPr>
          <p:cNvPr id="1570" name=""/>
          <p:cNvSpPr/>
          <p:nvPr/>
        </p:nvSpPr>
        <p:spPr>
          <a:xfrm>
            <a:off x="382680" y="4716360"/>
            <a:ext cx="52498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same is true of cables if the inner wires do not change places with 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reduce self field loss, the cable must be </a:t>
            </a:r>
            <a:r>
              <a:rPr b="1" i="1" lang="en-GB" sz="1600" spc="-1" strike="noStrike">
                <a:solidFill>
                  <a:srgbClr val="ff33cc"/>
                </a:solidFill>
                <a:latin typeface="Arial"/>
              </a:rPr>
              <a:t>fully transpose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eg Litz wire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AC loss: concluding remarks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91760" y="895320"/>
            <a:ext cx="82710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 losses can be the dominant heat load (and hence running cost) in pulsed magnets and magnetic machines for electric power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lculating losses is a complicated busines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 are many components of loss but, providing no component is too large, we may calculate them separately and add them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S materials are special because of their 'soft' transition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umerical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two basic components of loss are persistent currents within the superconductor (hysteresis) and coupling currents between superconducting filaments (eddy curr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is useful always to have in mind tha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/ 2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the maximum loss per cycle available from the field energy    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('not too large' above means small compared wi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/ 2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low ac loss in changing external fields 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ine fila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tight twist 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esistiv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low ac loss in self field 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ine wir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ully transposed 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To learn more: some useful references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22280" y="1090080"/>
            <a:ext cx="84866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'Handbook of Applied Superconductivity', ed B Seeber, all of part B, pub Institute of Physics Publishing 1998  ISBN 0 7503 0377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.T. Norris  J. Phys. D3, pp 489 (1970)  and  J. Phys. D4, pp 1358 (197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'ICMC Topical Conference on AC and Stability in Low and High Tc Superconductors', University of Twente, May 1998, pub North Holland, also in Physica C Vol 3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rtin N Wilson, 'Superconducting Magnets', pub Oxford 1983, ISBN 0 19 854810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'Electrodynamics of Superconducting Cables in Accelerator Magnets' thesis A.P. Verweij, University of Twente, 1995,  ISBN 90 9008555-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'A general treatment of ac losses in multifilamentary superconductors', A.M. Campbell, Cryogenics Jan. 1982, pp 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Hysteresis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85" name=""/>
          <p:cNvSpPr/>
          <p:nvPr/>
        </p:nvSpPr>
        <p:spPr>
          <a:xfrm>
            <a:off x="495360" y="765000"/>
            <a:ext cx="35812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eld induces screening cur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st like eddy currents – try to oppose the field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like eddy currents, do not dec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5880" y="5586480"/>
            <a:ext cx="332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ot </a:t>
            </a:r>
            <a:r>
              <a:rPr b="1" i="1" lang="en-GB" sz="1800" spc="-1" strike="noStrike">
                <a:solidFill>
                  <a:srgbClr val="4141ff"/>
                </a:solidFill>
                <a:latin typeface="Times New Roman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ithin slab as external </a:t>
            </a:r>
            <a:r>
              <a:rPr b="1" i="1" lang="en-GB" sz="1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rai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66960" y="4767120"/>
                <a:ext cx="1981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468360" y="4071960"/>
            <a:ext cx="349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1 dim infinite slab geometry, Maxwell's equation s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208200" y="2050920"/>
            <a:ext cx="316440" cy="631080"/>
            <a:chOff x="6208200" y="2050920"/>
            <a:chExt cx="316440" cy="631080"/>
          </a:xfrm>
        </p:grpSpPr>
        <p:sp>
          <p:nvSpPr>
            <p:cNvPr id="90" name=""/>
            <p:cNvSpPr/>
            <p:nvPr/>
          </p:nvSpPr>
          <p:spPr>
            <a:xfrm>
              <a:off x="6208200" y="2344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141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70840" y="2050920"/>
              <a:ext cx="177480" cy="289080"/>
            </a:xfrm>
            <a:prstGeom prst="upArrow">
              <a:avLst>
                <a:gd name="adj1" fmla="val 36361"/>
                <a:gd name="adj2" fmla="val 63116"/>
              </a:avLst>
            </a:prstGeom>
            <a:solidFill>
              <a:srgbClr val="414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497480" y="901800"/>
            <a:ext cx="1557000" cy="1788840"/>
            <a:chOff x="4497480" y="901800"/>
            <a:chExt cx="1557000" cy="1788840"/>
          </a:xfrm>
        </p:grpSpPr>
        <p:sp>
          <p:nvSpPr>
            <p:cNvPr id="93" name=""/>
            <p:cNvSpPr/>
            <p:nvPr/>
          </p:nvSpPr>
          <p:spPr>
            <a:xfrm>
              <a:off x="5381640" y="907920"/>
              <a:ext cx="662040" cy="1776600"/>
            </a:xfrm>
            <a:custGeom>
              <a:avLst/>
              <a:gdLst/>
              <a:ahLst/>
              <a:rect l="l" t="t" r="r" b="b"/>
              <a:pathLst>
                <a:path w="417" h="1119">
                  <a:moveTo>
                    <a:pt x="0" y="357"/>
                  </a:moveTo>
                  <a:lnTo>
                    <a:pt x="0" y="1119"/>
                  </a:lnTo>
                  <a:lnTo>
                    <a:pt x="411" y="762"/>
                  </a:lnTo>
                  <a:lnTo>
                    <a:pt x="417" y="0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a3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62520" y="901800"/>
              <a:ext cx="1177920" cy="568080"/>
            </a:xfrm>
            <a:custGeom>
              <a:avLst/>
              <a:gdLst/>
              <a:ahLst/>
              <a:rect l="l" t="t" r="r" b="b"/>
              <a:pathLst>
                <a:path w="742" h="358">
                  <a:moveTo>
                    <a:pt x="0" y="358"/>
                  </a:moveTo>
                  <a:lnTo>
                    <a:pt x="414" y="6"/>
                  </a:lnTo>
                  <a:lnTo>
                    <a:pt x="742" y="0"/>
                  </a:lnTo>
                  <a:lnTo>
                    <a:pt x="322" y="35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a3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7480" y="1471680"/>
              <a:ext cx="519120" cy="1218960"/>
            </a:xfrm>
            <a:prstGeom prst="rect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62520" y="1660680"/>
              <a:ext cx="108000" cy="215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9280" y="1876320"/>
              <a:ext cx="517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63920" y="1881360"/>
              <a:ext cx="108000" cy="215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79840" y="2123640"/>
              <a:ext cx="65736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9680" y="1184400"/>
              <a:ext cx="334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GB" sz="16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29160" y="1608120"/>
              <a:ext cx="276120" cy="314280"/>
            </a:xfrm>
            <a:custGeom>
              <a:avLst/>
              <a:gdLst/>
              <a:ahLst/>
              <a:rect l="l" t="t" r="r" b="b"/>
              <a:pathLst>
                <a:path w="234" h="222">
                  <a:moveTo>
                    <a:pt x="0" y="168"/>
                  </a:moveTo>
                  <a:lnTo>
                    <a:pt x="150" y="44"/>
                  </a:lnTo>
                  <a:lnTo>
                    <a:pt x="150" y="4"/>
                  </a:lnTo>
                  <a:lnTo>
                    <a:pt x="234" y="0"/>
                  </a:lnTo>
                  <a:lnTo>
                    <a:pt x="148" y="152"/>
                  </a:lnTo>
                  <a:lnTo>
                    <a:pt x="148" y="96"/>
                  </a:lnTo>
                  <a:lnTo>
                    <a:pt x="0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0800000">
              <a:off x="5454720" y="1420560"/>
              <a:ext cx="290160" cy="276120"/>
            </a:xfrm>
            <a:custGeom>
              <a:avLst/>
              <a:gdLst/>
              <a:ahLst/>
              <a:rect l="l" t="t" r="r" b="b"/>
              <a:pathLst>
                <a:path w="234" h="222">
                  <a:moveTo>
                    <a:pt x="0" y="168"/>
                  </a:moveTo>
                  <a:lnTo>
                    <a:pt x="150" y="44"/>
                  </a:lnTo>
                  <a:lnTo>
                    <a:pt x="150" y="4"/>
                  </a:lnTo>
                  <a:lnTo>
                    <a:pt x="234" y="0"/>
                  </a:lnTo>
                  <a:lnTo>
                    <a:pt x="148" y="152"/>
                  </a:lnTo>
                  <a:lnTo>
                    <a:pt x="148" y="96"/>
                  </a:lnTo>
                  <a:lnTo>
                    <a:pt x="0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7480" y="1844640"/>
              <a:ext cx="334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GB" sz="16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857480" y="909360"/>
              <a:ext cx="65736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381640" y="906120"/>
              <a:ext cx="6570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633920" y="2306520"/>
              <a:ext cx="976320" cy="90360"/>
              <a:chOff x="4633920" y="2306520"/>
              <a:chExt cx="976320" cy="90360"/>
            </a:xfrm>
          </p:grpSpPr>
          <p:sp>
            <p:nvSpPr>
              <p:cNvPr id="107" name=""/>
              <p:cNvSpPr/>
              <p:nvPr/>
            </p:nvSpPr>
            <p:spPr>
              <a:xfrm>
                <a:off x="4633920" y="2307960"/>
                <a:ext cx="228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381640" y="2306520"/>
                <a:ext cx="228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856400" y="2307960"/>
                <a:ext cx="108000" cy="88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5267520" y="2306520"/>
                <a:ext cx="108000" cy="88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64400" y="2396880"/>
                <a:ext cx="301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7578720" y="2151000"/>
            <a:ext cx="119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ff"/>
                </a:solidFill>
                <a:latin typeface="Arial"/>
              </a:rPr>
              <a:t>fully penetr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56080" y="2982960"/>
            <a:ext cx="4240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 reducing </a:t>
            </a:r>
            <a:r>
              <a:rPr b="1" i="1" lang="en-GB" sz="1800" spc="-1" strike="noStrike">
                <a:solidFill>
                  <a:srgbClr val="4141ff"/>
                </a:solidFill>
                <a:latin typeface="Times New Roman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the change in </a:t>
            </a:r>
            <a:r>
              <a:rPr b="1" i="1" lang="en-GB" sz="1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GB" sz="18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electric field) comes in from the outer su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08880" y="831960"/>
            <a:ext cx="662040" cy="1776240"/>
          </a:xfrm>
          <a:custGeom>
            <a:avLst/>
            <a:gdLst/>
            <a:ahLst/>
            <a:rect l="l" t="t" r="r" b="b"/>
            <a:pathLst>
              <a:path w="417" h="1119">
                <a:moveTo>
                  <a:pt x="0" y="357"/>
                </a:moveTo>
                <a:lnTo>
                  <a:pt x="0" y="1119"/>
                </a:lnTo>
                <a:lnTo>
                  <a:pt x="411" y="762"/>
                </a:lnTo>
                <a:lnTo>
                  <a:pt x="417" y="0"/>
                </a:lnTo>
                <a:lnTo>
                  <a:pt x="0" y="357"/>
                </a:lnTo>
                <a:close/>
              </a:path>
            </a:pathLst>
          </a:custGeom>
          <a:solidFill>
            <a:srgbClr val="a3f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89760" y="825480"/>
            <a:ext cx="1177920" cy="568440"/>
          </a:xfrm>
          <a:custGeom>
            <a:avLst/>
            <a:gdLst/>
            <a:ahLst/>
            <a:rect l="l" t="t" r="r" b="b"/>
            <a:pathLst>
              <a:path w="742" h="358">
                <a:moveTo>
                  <a:pt x="0" y="358"/>
                </a:moveTo>
                <a:lnTo>
                  <a:pt x="414" y="6"/>
                </a:lnTo>
                <a:lnTo>
                  <a:pt x="742" y="0"/>
                </a:lnTo>
                <a:lnTo>
                  <a:pt x="322" y="354"/>
                </a:lnTo>
                <a:lnTo>
                  <a:pt x="0" y="358"/>
                </a:lnTo>
                <a:close/>
              </a:path>
            </a:pathLst>
          </a:custGeom>
          <a:solidFill>
            <a:srgbClr val="a3f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85080" y="1395360"/>
            <a:ext cx="519120" cy="1219320"/>
          </a:xfrm>
          <a:prstGeom prst="rect">
            <a:avLst/>
          </a:prstGeom>
          <a:solidFill>
            <a:srgbClr val="00d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1805040"/>
            <a:ext cx="260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507440" y="2047680"/>
            <a:ext cx="6570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6920" y="1108080"/>
            <a:ext cx="3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6400" y="1531800"/>
            <a:ext cx="276120" cy="3146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168"/>
                </a:moveTo>
                <a:lnTo>
                  <a:pt x="150" y="44"/>
                </a:lnTo>
                <a:lnTo>
                  <a:pt x="150" y="4"/>
                </a:lnTo>
                <a:lnTo>
                  <a:pt x="234" y="0"/>
                </a:lnTo>
                <a:lnTo>
                  <a:pt x="148" y="152"/>
                </a:lnTo>
                <a:lnTo>
                  <a:pt x="148" y="96"/>
                </a:lnTo>
                <a:lnTo>
                  <a:pt x="0" y="222"/>
                </a:lnTo>
                <a:lnTo>
                  <a:pt x="0" y="16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581600" y="1344240"/>
            <a:ext cx="290520" cy="27612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168"/>
                </a:moveTo>
                <a:lnTo>
                  <a:pt x="150" y="44"/>
                </a:lnTo>
                <a:lnTo>
                  <a:pt x="150" y="4"/>
                </a:lnTo>
                <a:lnTo>
                  <a:pt x="234" y="0"/>
                </a:lnTo>
                <a:lnTo>
                  <a:pt x="148" y="152"/>
                </a:lnTo>
                <a:lnTo>
                  <a:pt x="148" y="96"/>
                </a:lnTo>
                <a:lnTo>
                  <a:pt x="0" y="222"/>
                </a:lnTo>
                <a:lnTo>
                  <a:pt x="0" y="16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24720" y="1768320"/>
            <a:ext cx="3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985080" y="833040"/>
            <a:ext cx="6570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08880" y="829800"/>
            <a:ext cx="657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61160" y="223200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08880" y="223056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83280" y="2232000"/>
            <a:ext cx="265320" cy="217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237440" y="2233440"/>
            <a:ext cx="264960" cy="217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88320" y="1596960"/>
            <a:ext cx="25056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238520" y="2498400"/>
            <a:ext cx="887760" cy="332280"/>
            <a:chOff x="7238520" y="2498400"/>
            <a:chExt cx="887760" cy="332280"/>
          </a:xfrm>
        </p:grpSpPr>
        <p:sp>
          <p:nvSpPr>
            <p:cNvPr id="131" name=""/>
            <p:cNvSpPr/>
            <p:nvPr/>
          </p:nvSpPr>
          <p:spPr>
            <a:xfrm flipH="1" flipV="1">
              <a:off x="7238520" y="2498400"/>
              <a:ext cx="73080" cy="155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1960" y="2652840"/>
              <a:ext cx="814320" cy="177840"/>
            </a:xfrm>
            <a:custGeom>
              <a:avLst/>
              <a:gdLst/>
              <a:ahLst/>
              <a:rect l="l" t="t" r="r" b="b"/>
              <a:pathLst>
                <a:path w="693" h="112">
                  <a:moveTo>
                    <a:pt x="693" y="30"/>
                  </a:moveTo>
                  <a:cubicBezTo>
                    <a:pt x="627" y="50"/>
                    <a:pt x="562" y="71"/>
                    <a:pt x="495" y="84"/>
                  </a:cubicBezTo>
                  <a:cubicBezTo>
                    <a:pt x="428" y="97"/>
                    <a:pt x="354" y="110"/>
                    <a:pt x="288" y="111"/>
                  </a:cubicBezTo>
                  <a:cubicBezTo>
                    <a:pt x="222" y="112"/>
                    <a:pt x="147" y="108"/>
                    <a:pt x="99" y="90"/>
                  </a:cubicBezTo>
                  <a:cubicBezTo>
                    <a:pt x="51" y="72"/>
                    <a:pt x="25" y="36"/>
                    <a:pt x="0" y="0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177960" y="4962600"/>
            <a:ext cx="316440" cy="630720"/>
            <a:chOff x="6177960" y="4962600"/>
            <a:chExt cx="316440" cy="630720"/>
          </a:xfrm>
        </p:grpSpPr>
        <p:sp>
          <p:nvSpPr>
            <p:cNvPr id="134" name=""/>
            <p:cNvSpPr/>
            <p:nvPr/>
          </p:nvSpPr>
          <p:spPr>
            <a:xfrm>
              <a:off x="6177960" y="5256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141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0240" y="4962600"/>
              <a:ext cx="177840" cy="288720"/>
            </a:xfrm>
            <a:prstGeom prst="upArrow">
              <a:avLst>
                <a:gd name="adj1" fmla="val 36361"/>
                <a:gd name="adj2" fmla="val 62910"/>
              </a:avLst>
            </a:prstGeom>
            <a:solidFill>
              <a:srgbClr val="414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502160" y="3767040"/>
            <a:ext cx="1557360" cy="1789200"/>
            <a:chOff x="4502160" y="3767040"/>
            <a:chExt cx="1557360" cy="1789200"/>
          </a:xfrm>
        </p:grpSpPr>
        <p:sp>
          <p:nvSpPr>
            <p:cNvPr id="137" name=""/>
            <p:cNvSpPr/>
            <p:nvPr/>
          </p:nvSpPr>
          <p:spPr>
            <a:xfrm>
              <a:off x="5386320" y="3773520"/>
              <a:ext cx="662040" cy="1776240"/>
            </a:xfrm>
            <a:custGeom>
              <a:avLst/>
              <a:gdLst/>
              <a:ahLst/>
              <a:rect l="l" t="t" r="r" b="b"/>
              <a:pathLst>
                <a:path w="417" h="1119">
                  <a:moveTo>
                    <a:pt x="0" y="357"/>
                  </a:moveTo>
                  <a:lnTo>
                    <a:pt x="0" y="1119"/>
                  </a:lnTo>
                  <a:lnTo>
                    <a:pt x="411" y="762"/>
                  </a:lnTo>
                  <a:lnTo>
                    <a:pt x="417" y="0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a3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67200" y="3767040"/>
              <a:ext cx="1177920" cy="568440"/>
            </a:xfrm>
            <a:custGeom>
              <a:avLst/>
              <a:gdLst/>
              <a:ahLst/>
              <a:rect l="l" t="t" r="r" b="b"/>
              <a:pathLst>
                <a:path w="742" h="358">
                  <a:moveTo>
                    <a:pt x="0" y="358"/>
                  </a:moveTo>
                  <a:lnTo>
                    <a:pt x="414" y="6"/>
                  </a:lnTo>
                  <a:lnTo>
                    <a:pt x="742" y="0"/>
                  </a:lnTo>
                  <a:lnTo>
                    <a:pt x="322" y="35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a3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2520" y="4336920"/>
              <a:ext cx="519120" cy="1219320"/>
            </a:xfrm>
            <a:prstGeom prst="rect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29280" y="4746600"/>
              <a:ext cx="146160" cy="216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384880" y="4989240"/>
              <a:ext cx="6570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4720" y="4049640"/>
              <a:ext cx="334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GB" sz="16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33840" y="4473720"/>
              <a:ext cx="276120" cy="314280"/>
            </a:xfrm>
            <a:custGeom>
              <a:avLst/>
              <a:gdLst/>
              <a:ahLst/>
              <a:rect l="l" t="t" r="r" b="b"/>
              <a:pathLst>
                <a:path w="234" h="222">
                  <a:moveTo>
                    <a:pt x="0" y="168"/>
                  </a:moveTo>
                  <a:lnTo>
                    <a:pt x="150" y="44"/>
                  </a:lnTo>
                  <a:lnTo>
                    <a:pt x="150" y="4"/>
                  </a:lnTo>
                  <a:lnTo>
                    <a:pt x="234" y="0"/>
                  </a:lnTo>
                  <a:lnTo>
                    <a:pt x="148" y="152"/>
                  </a:lnTo>
                  <a:lnTo>
                    <a:pt x="148" y="96"/>
                  </a:lnTo>
                  <a:lnTo>
                    <a:pt x="0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5459040" y="4286160"/>
              <a:ext cx="290520" cy="276480"/>
            </a:xfrm>
            <a:custGeom>
              <a:avLst/>
              <a:gdLst/>
              <a:ahLst/>
              <a:rect l="l" t="t" r="r" b="b"/>
              <a:pathLst>
                <a:path w="234" h="222">
                  <a:moveTo>
                    <a:pt x="0" y="168"/>
                  </a:moveTo>
                  <a:lnTo>
                    <a:pt x="150" y="44"/>
                  </a:lnTo>
                  <a:lnTo>
                    <a:pt x="150" y="4"/>
                  </a:lnTo>
                  <a:lnTo>
                    <a:pt x="234" y="0"/>
                  </a:lnTo>
                  <a:lnTo>
                    <a:pt x="148" y="152"/>
                  </a:lnTo>
                  <a:lnTo>
                    <a:pt x="148" y="96"/>
                  </a:lnTo>
                  <a:lnTo>
                    <a:pt x="0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2160" y="4710240"/>
              <a:ext cx="334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GB" sz="16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862520" y="3774600"/>
              <a:ext cx="65736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386320" y="3771720"/>
              <a:ext cx="65736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0520" y="4538520"/>
              <a:ext cx="156960" cy="216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69000" y="4751280"/>
              <a:ext cx="102960" cy="214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5440" y="4538520"/>
              <a:ext cx="102960" cy="214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643280" y="5238720"/>
              <a:ext cx="969840" cy="146160"/>
              <a:chOff x="4643280" y="5238720"/>
              <a:chExt cx="969840" cy="146160"/>
            </a:xfrm>
          </p:grpSpPr>
          <p:sp>
            <p:nvSpPr>
              <p:cNvPr id="152" name=""/>
              <p:cNvSpPr/>
              <p:nvPr/>
            </p:nvSpPr>
            <p:spPr>
              <a:xfrm>
                <a:off x="4643280" y="5315040"/>
                <a:ext cx="228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84520" y="5319720"/>
                <a:ext cx="228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302080" y="5249880"/>
                <a:ext cx="88920" cy="74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5122080" y="5243400"/>
                <a:ext cx="181080" cy="1396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4858560" y="5246640"/>
                <a:ext cx="88920" cy="74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41720" y="5238720"/>
                <a:ext cx="190440" cy="146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6681960" y="3760920"/>
            <a:ext cx="1557000" cy="1788480"/>
            <a:chOff x="6681960" y="3760920"/>
            <a:chExt cx="1557000" cy="1788480"/>
          </a:xfrm>
        </p:grpSpPr>
        <p:sp>
          <p:nvSpPr>
            <p:cNvPr id="159" name=""/>
            <p:cNvSpPr/>
            <p:nvPr/>
          </p:nvSpPr>
          <p:spPr>
            <a:xfrm>
              <a:off x="7566120" y="3767040"/>
              <a:ext cx="662040" cy="1775880"/>
            </a:xfrm>
            <a:custGeom>
              <a:avLst/>
              <a:gdLst/>
              <a:ahLst/>
              <a:rect l="l" t="t" r="r" b="b"/>
              <a:pathLst>
                <a:path w="417" h="1119">
                  <a:moveTo>
                    <a:pt x="0" y="357"/>
                  </a:moveTo>
                  <a:lnTo>
                    <a:pt x="0" y="1119"/>
                  </a:lnTo>
                  <a:lnTo>
                    <a:pt x="411" y="762"/>
                  </a:lnTo>
                  <a:lnTo>
                    <a:pt x="417" y="0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a3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47000" y="3760920"/>
              <a:ext cx="1177920" cy="568080"/>
            </a:xfrm>
            <a:custGeom>
              <a:avLst/>
              <a:gdLst/>
              <a:ahLst/>
              <a:rect l="l" t="t" r="r" b="b"/>
              <a:pathLst>
                <a:path w="742" h="358">
                  <a:moveTo>
                    <a:pt x="0" y="358"/>
                  </a:moveTo>
                  <a:lnTo>
                    <a:pt x="414" y="6"/>
                  </a:lnTo>
                  <a:lnTo>
                    <a:pt x="742" y="0"/>
                  </a:lnTo>
                  <a:lnTo>
                    <a:pt x="322" y="35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a3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42320" y="4330440"/>
              <a:ext cx="519120" cy="1218960"/>
            </a:xfrm>
            <a:prstGeom prst="rect">
              <a:avLst/>
            </a:prstGeom>
            <a:solidFill>
              <a:srgbClr val="00d8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96120" y="4525920"/>
              <a:ext cx="260280" cy="215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564320" y="4983120"/>
              <a:ext cx="65736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04160" y="4043160"/>
              <a:ext cx="334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GB" sz="16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13640" y="4467240"/>
              <a:ext cx="276120" cy="313920"/>
            </a:xfrm>
            <a:custGeom>
              <a:avLst/>
              <a:gdLst/>
              <a:ahLst/>
              <a:rect l="l" t="t" r="r" b="b"/>
              <a:pathLst>
                <a:path w="234" h="222">
                  <a:moveTo>
                    <a:pt x="0" y="168"/>
                  </a:moveTo>
                  <a:lnTo>
                    <a:pt x="150" y="44"/>
                  </a:lnTo>
                  <a:lnTo>
                    <a:pt x="150" y="4"/>
                  </a:lnTo>
                  <a:lnTo>
                    <a:pt x="234" y="0"/>
                  </a:lnTo>
                  <a:lnTo>
                    <a:pt x="148" y="152"/>
                  </a:lnTo>
                  <a:lnTo>
                    <a:pt x="148" y="96"/>
                  </a:lnTo>
                  <a:lnTo>
                    <a:pt x="0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0800000">
              <a:off x="7638840" y="4279320"/>
              <a:ext cx="290520" cy="276120"/>
            </a:xfrm>
            <a:custGeom>
              <a:avLst/>
              <a:gdLst/>
              <a:ahLst/>
              <a:rect l="l" t="t" r="r" b="b"/>
              <a:pathLst>
                <a:path w="234" h="222">
                  <a:moveTo>
                    <a:pt x="0" y="168"/>
                  </a:moveTo>
                  <a:lnTo>
                    <a:pt x="150" y="44"/>
                  </a:lnTo>
                  <a:lnTo>
                    <a:pt x="150" y="4"/>
                  </a:lnTo>
                  <a:lnTo>
                    <a:pt x="234" y="0"/>
                  </a:lnTo>
                  <a:lnTo>
                    <a:pt x="148" y="152"/>
                  </a:lnTo>
                  <a:lnTo>
                    <a:pt x="148" y="96"/>
                  </a:lnTo>
                  <a:lnTo>
                    <a:pt x="0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81960" y="4703760"/>
              <a:ext cx="334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GB" sz="16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042320" y="3768480"/>
              <a:ext cx="65700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566120" y="3764880"/>
              <a:ext cx="6570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6827760" y="5037480"/>
              <a:ext cx="976320" cy="219960"/>
              <a:chOff x="6827760" y="5037480"/>
              <a:chExt cx="976320" cy="219960"/>
            </a:xfrm>
          </p:grpSpPr>
          <p:sp>
            <p:nvSpPr>
              <p:cNvPr id="171" name=""/>
              <p:cNvSpPr/>
              <p:nvPr/>
            </p:nvSpPr>
            <p:spPr>
              <a:xfrm>
                <a:off x="6827760" y="5256360"/>
                <a:ext cx="228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75480" y="5257440"/>
                <a:ext cx="228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7049880" y="5039280"/>
                <a:ext cx="265320" cy="217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7304040" y="5037480"/>
                <a:ext cx="264960" cy="217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050240" y="4736880"/>
              <a:ext cx="250560" cy="215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085840" y="2073240"/>
            <a:ext cx="662040" cy="1776600"/>
          </a:xfrm>
          <a:custGeom>
            <a:avLst/>
            <a:gdLst/>
            <a:ahLst/>
            <a:rect l="l" t="t" r="r" b="b"/>
            <a:pathLst>
              <a:path w="417" h="1119">
                <a:moveTo>
                  <a:pt x="0" y="357"/>
                </a:moveTo>
                <a:lnTo>
                  <a:pt x="0" y="1119"/>
                </a:lnTo>
                <a:lnTo>
                  <a:pt x="411" y="762"/>
                </a:lnTo>
                <a:lnTo>
                  <a:pt x="417" y="0"/>
                </a:lnTo>
                <a:lnTo>
                  <a:pt x="0" y="357"/>
                </a:lnTo>
                <a:close/>
              </a:path>
            </a:pathLst>
          </a:custGeom>
          <a:solidFill>
            <a:srgbClr val="a3f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66720" y="2066760"/>
            <a:ext cx="1177920" cy="568440"/>
          </a:xfrm>
          <a:custGeom>
            <a:avLst/>
            <a:gdLst/>
            <a:ahLst/>
            <a:rect l="l" t="t" r="r" b="b"/>
            <a:pathLst>
              <a:path w="742" h="358">
                <a:moveTo>
                  <a:pt x="0" y="358"/>
                </a:moveTo>
                <a:lnTo>
                  <a:pt x="414" y="6"/>
                </a:lnTo>
                <a:lnTo>
                  <a:pt x="742" y="0"/>
                </a:lnTo>
                <a:lnTo>
                  <a:pt x="322" y="354"/>
                </a:lnTo>
                <a:lnTo>
                  <a:pt x="0" y="358"/>
                </a:lnTo>
                <a:close/>
              </a:path>
            </a:pathLst>
          </a:custGeom>
          <a:solidFill>
            <a:srgbClr val="a3f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62040" y="2637000"/>
            <a:ext cx="519120" cy="1218960"/>
          </a:xfrm>
          <a:prstGeom prst="rect">
            <a:avLst/>
          </a:prstGeom>
          <a:solidFill>
            <a:srgbClr val="00d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84400" y="3288960"/>
            <a:ext cx="657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24240" y="2349360"/>
            <a:ext cx="3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33360" y="2773440"/>
            <a:ext cx="276480" cy="31428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168"/>
                </a:moveTo>
                <a:lnTo>
                  <a:pt x="150" y="44"/>
                </a:lnTo>
                <a:lnTo>
                  <a:pt x="150" y="4"/>
                </a:lnTo>
                <a:lnTo>
                  <a:pt x="234" y="0"/>
                </a:lnTo>
                <a:lnTo>
                  <a:pt x="148" y="152"/>
                </a:lnTo>
                <a:lnTo>
                  <a:pt x="148" y="96"/>
                </a:lnTo>
                <a:lnTo>
                  <a:pt x="0" y="222"/>
                </a:lnTo>
                <a:lnTo>
                  <a:pt x="0" y="16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2158560" y="2585880"/>
            <a:ext cx="290520" cy="27648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168"/>
                </a:moveTo>
                <a:lnTo>
                  <a:pt x="150" y="44"/>
                </a:lnTo>
                <a:lnTo>
                  <a:pt x="150" y="4"/>
                </a:lnTo>
                <a:lnTo>
                  <a:pt x="234" y="0"/>
                </a:lnTo>
                <a:lnTo>
                  <a:pt x="148" y="152"/>
                </a:lnTo>
                <a:lnTo>
                  <a:pt x="148" y="96"/>
                </a:lnTo>
                <a:lnTo>
                  <a:pt x="0" y="222"/>
                </a:lnTo>
                <a:lnTo>
                  <a:pt x="0" y="16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01680" y="3009960"/>
            <a:ext cx="3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562040" y="2074680"/>
            <a:ext cx="657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085840" y="2071440"/>
            <a:ext cx="657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12640" y="3397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141ff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74920" y="3103560"/>
            <a:ext cx="177840" cy="289080"/>
          </a:xfrm>
          <a:prstGeom prst="upArrow">
            <a:avLst>
              <a:gd name="adj1" fmla="val 36361"/>
              <a:gd name="adj2" fmla="val 62988"/>
            </a:avLst>
          </a:prstGeom>
          <a:solidFill>
            <a:srgbClr val="414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04520" y="5789520"/>
            <a:ext cx="44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Note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 state depends on history - </a:t>
            </a:r>
            <a:r>
              <a:rPr b="1" i="1" lang="en-GB" sz="1600" spc="-1" strike="noStrike">
                <a:solidFill>
                  <a:srgbClr val="ff00ff"/>
                </a:solidFill>
                <a:latin typeface="Arial"/>
              </a:rPr>
              <a:t>hyster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828720" y="1270080"/>
            <a:ext cx="3240000" cy="2808360"/>
            <a:chOff x="828720" y="1270080"/>
            <a:chExt cx="3240000" cy="2808360"/>
          </a:xfrm>
        </p:grpSpPr>
        <p:sp>
          <p:nvSpPr>
            <p:cNvPr id="190" name=""/>
            <p:cNvSpPr/>
            <p:nvPr/>
          </p:nvSpPr>
          <p:spPr>
            <a:xfrm>
              <a:off x="1260360" y="1270080"/>
              <a:ext cx="0" cy="28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64000" y="1270080"/>
              <a:ext cx="0" cy="28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8720" y="3862440"/>
              <a:ext cx="3240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0160" y="14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The flux penetration process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194" name=""/>
          <p:cNvSpPr/>
          <p:nvPr/>
        </p:nvSpPr>
        <p:spPr>
          <a:xfrm>
            <a:off x="14938200" y="334800"/>
            <a:ext cx="1586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938200" y="695160"/>
            <a:ext cx="1586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71640" y="1485720"/>
            <a:ext cx="2879280" cy="1146240"/>
            <a:chOff x="971640" y="1485720"/>
            <a:chExt cx="2879280" cy="1146240"/>
          </a:xfrm>
        </p:grpSpPr>
        <p:sp>
          <p:nvSpPr>
            <p:cNvPr id="197" name=""/>
            <p:cNvSpPr/>
            <p:nvPr/>
          </p:nvSpPr>
          <p:spPr>
            <a:xfrm>
              <a:off x="1260360" y="1486080"/>
              <a:ext cx="1142640" cy="1145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412720" y="1485720"/>
              <a:ext cx="1150920" cy="1145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4000" y="148608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971640" y="14860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971640" y="1774800"/>
            <a:ext cx="2879280" cy="1146240"/>
            <a:chOff x="971640" y="1774800"/>
            <a:chExt cx="2879280" cy="1146240"/>
          </a:xfrm>
        </p:grpSpPr>
        <p:sp>
          <p:nvSpPr>
            <p:cNvPr id="202" name=""/>
            <p:cNvSpPr/>
            <p:nvPr/>
          </p:nvSpPr>
          <p:spPr>
            <a:xfrm>
              <a:off x="1260360" y="1774800"/>
              <a:ext cx="1142640" cy="11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412720" y="1774800"/>
              <a:ext cx="1150920" cy="11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64000" y="177480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971640" y="17748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71640" y="2061720"/>
            <a:ext cx="2879280" cy="1152720"/>
            <a:chOff x="971640" y="2061720"/>
            <a:chExt cx="2879280" cy="1152720"/>
          </a:xfrm>
        </p:grpSpPr>
        <p:sp>
          <p:nvSpPr>
            <p:cNvPr id="207" name=""/>
            <p:cNvSpPr/>
            <p:nvPr/>
          </p:nvSpPr>
          <p:spPr>
            <a:xfrm>
              <a:off x="1260360" y="2062080"/>
              <a:ext cx="114264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412720" y="206172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64000" y="206208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971640" y="20620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971640" y="2351160"/>
            <a:ext cx="2879280" cy="1146240"/>
            <a:chOff x="971640" y="2351160"/>
            <a:chExt cx="2879280" cy="1146240"/>
          </a:xfrm>
        </p:grpSpPr>
        <p:sp>
          <p:nvSpPr>
            <p:cNvPr id="212" name=""/>
            <p:cNvSpPr/>
            <p:nvPr/>
          </p:nvSpPr>
          <p:spPr>
            <a:xfrm>
              <a:off x="1260360" y="2351160"/>
              <a:ext cx="1142640" cy="11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412720" y="2351160"/>
              <a:ext cx="1150920" cy="11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64000" y="235116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971640" y="235116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971640" y="2638440"/>
            <a:ext cx="2879280" cy="1146240"/>
            <a:chOff x="971640" y="2638440"/>
            <a:chExt cx="2879280" cy="1146240"/>
          </a:xfrm>
        </p:grpSpPr>
        <p:sp>
          <p:nvSpPr>
            <p:cNvPr id="217" name=""/>
            <p:cNvSpPr/>
            <p:nvPr/>
          </p:nvSpPr>
          <p:spPr>
            <a:xfrm>
              <a:off x="1260360" y="2638440"/>
              <a:ext cx="1142640" cy="11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412720" y="2638440"/>
              <a:ext cx="1150920" cy="11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64000" y="263844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71640" y="26384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971640" y="2927160"/>
            <a:ext cx="2879280" cy="936720"/>
            <a:chOff x="971640" y="2927160"/>
            <a:chExt cx="2879280" cy="936720"/>
          </a:xfrm>
        </p:grpSpPr>
        <p:sp>
          <p:nvSpPr>
            <p:cNvPr id="222" name=""/>
            <p:cNvSpPr/>
            <p:nvPr/>
          </p:nvSpPr>
          <p:spPr>
            <a:xfrm>
              <a:off x="1260360" y="2927520"/>
              <a:ext cx="934560" cy="93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28720" y="2927160"/>
              <a:ext cx="934920" cy="93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64000" y="292752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971640" y="29275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95280" y="3863880"/>
              <a:ext cx="4330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971640" y="3214440"/>
            <a:ext cx="2879280" cy="648000"/>
            <a:chOff x="971640" y="3214440"/>
            <a:chExt cx="2879280" cy="648000"/>
          </a:xfrm>
        </p:grpSpPr>
        <p:sp>
          <p:nvSpPr>
            <p:cNvPr id="228" name=""/>
            <p:cNvSpPr/>
            <p:nvPr/>
          </p:nvSpPr>
          <p:spPr>
            <a:xfrm>
              <a:off x="1260360" y="3214800"/>
              <a:ext cx="647280" cy="647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916000" y="3214440"/>
              <a:ext cx="647640" cy="647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64000" y="321480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971640" y="32148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8000" y="3862440"/>
              <a:ext cx="10076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971640" y="3503160"/>
            <a:ext cx="2879280" cy="359280"/>
            <a:chOff x="971640" y="3503160"/>
            <a:chExt cx="2879280" cy="359280"/>
          </a:xfrm>
        </p:grpSpPr>
        <p:sp>
          <p:nvSpPr>
            <p:cNvPr id="234" name=""/>
            <p:cNvSpPr/>
            <p:nvPr/>
          </p:nvSpPr>
          <p:spPr>
            <a:xfrm>
              <a:off x="1260360" y="3503520"/>
              <a:ext cx="360000" cy="358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203640" y="3503160"/>
              <a:ext cx="360000" cy="358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64000" y="350352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971640" y="35035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20720" y="3862440"/>
              <a:ext cx="15825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332000" y="3790800"/>
            <a:ext cx="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71640" y="3719160"/>
            <a:ext cx="2879280" cy="143280"/>
            <a:chOff x="971640" y="3719160"/>
            <a:chExt cx="2879280" cy="143280"/>
          </a:xfrm>
        </p:grpSpPr>
        <p:sp>
          <p:nvSpPr>
            <p:cNvPr id="241" name=""/>
            <p:cNvSpPr/>
            <p:nvPr/>
          </p:nvSpPr>
          <p:spPr>
            <a:xfrm>
              <a:off x="1260360" y="3719520"/>
              <a:ext cx="142560" cy="142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421080" y="3719160"/>
              <a:ext cx="142560" cy="142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64000" y="371952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971640" y="37195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03280" y="3862440"/>
              <a:ext cx="20174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71640" y="3862440"/>
            <a:ext cx="2881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51640" y="1485720"/>
            <a:ext cx="2879280" cy="1146240"/>
            <a:chOff x="5651640" y="1485720"/>
            <a:chExt cx="2879280" cy="1146240"/>
          </a:xfrm>
        </p:grpSpPr>
        <p:sp>
          <p:nvSpPr>
            <p:cNvPr id="248" name=""/>
            <p:cNvSpPr/>
            <p:nvPr/>
          </p:nvSpPr>
          <p:spPr>
            <a:xfrm>
              <a:off x="5940360" y="1486080"/>
              <a:ext cx="1142640" cy="1145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7092720" y="1485720"/>
              <a:ext cx="1150920" cy="1145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44000" y="148608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651640" y="14860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012000" y="3790800"/>
            <a:ext cx="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508720" y="1270080"/>
            <a:ext cx="3166920" cy="4752720"/>
            <a:chOff x="5508720" y="1270080"/>
            <a:chExt cx="3166920" cy="4752720"/>
          </a:xfrm>
        </p:grpSpPr>
        <p:sp>
          <p:nvSpPr>
            <p:cNvPr id="254" name=""/>
            <p:cNvSpPr/>
            <p:nvPr/>
          </p:nvSpPr>
          <p:spPr>
            <a:xfrm>
              <a:off x="5508720" y="3862080"/>
              <a:ext cx="316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0360" y="127008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640" y="1270080"/>
              <a:ext cx="144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651640" y="1630440"/>
            <a:ext cx="2879640" cy="1001520"/>
            <a:chOff x="5651640" y="1630440"/>
            <a:chExt cx="2879640" cy="1001520"/>
          </a:xfrm>
        </p:grpSpPr>
        <p:sp>
          <p:nvSpPr>
            <p:cNvPr id="258" name=""/>
            <p:cNvSpPr/>
            <p:nvPr/>
          </p:nvSpPr>
          <p:spPr>
            <a:xfrm>
              <a:off x="6083280" y="1630440"/>
              <a:ext cx="1000080" cy="1001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093080" y="1630440"/>
              <a:ext cx="1008000" cy="1001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44000" y="177444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651640" y="17744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40360" y="1630440"/>
              <a:ext cx="142920" cy="144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01080" y="1630440"/>
              <a:ext cx="142920" cy="144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651640" y="1774440"/>
            <a:ext cx="2879640" cy="865440"/>
            <a:chOff x="5651640" y="1774440"/>
            <a:chExt cx="2879640" cy="865440"/>
          </a:xfrm>
        </p:grpSpPr>
        <p:sp>
          <p:nvSpPr>
            <p:cNvPr id="265" name=""/>
            <p:cNvSpPr/>
            <p:nvPr/>
          </p:nvSpPr>
          <p:spPr>
            <a:xfrm>
              <a:off x="7956720" y="1774800"/>
              <a:ext cx="279360" cy="288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093080" y="1774440"/>
              <a:ext cx="863640" cy="865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000" y="206208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651640" y="20620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940360" y="1774800"/>
              <a:ext cx="287640" cy="287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28000" y="1774800"/>
              <a:ext cx="855360" cy="865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651640" y="1918800"/>
            <a:ext cx="2879640" cy="714600"/>
            <a:chOff x="5651640" y="1918800"/>
            <a:chExt cx="2879640" cy="714600"/>
          </a:xfrm>
        </p:grpSpPr>
        <p:sp>
          <p:nvSpPr>
            <p:cNvPr id="272" name=""/>
            <p:cNvSpPr/>
            <p:nvPr/>
          </p:nvSpPr>
          <p:spPr>
            <a:xfrm>
              <a:off x="6372360" y="1919160"/>
              <a:ext cx="711000" cy="714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093080" y="1919160"/>
              <a:ext cx="719280" cy="714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44000" y="235080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651640" y="23508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940360" y="1918800"/>
              <a:ext cx="432000" cy="431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7812000" y="1918800"/>
              <a:ext cx="431640" cy="431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651640" y="2061720"/>
            <a:ext cx="2879640" cy="576720"/>
            <a:chOff x="5651640" y="2061720"/>
            <a:chExt cx="2879640" cy="576720"/>
          </a:xfrm>
        </p:grpSpPr>
        <p:sp>
          <p:nvSpPr>
            <p:cNvPr id="279" name=""/>
            <p:cNvSpPr/>
            <p:nvPr/>
          </p:nvSpPr>
          <p:spPr>
            <a:xfrm>
              <a:off x="6516720" y="2062080"/>
              <a:ext cx="566640" cy="570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093080" y="2062080"/>
              <a:ext cx="574560" cy="570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44000" y="263844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651640" y="26384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940360" y="2061720"/>
              <a:ext cx="576360" cy="57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667280" y="2061720"/>
              <a:ext cx="576360" cy="57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651640" y="2206440"/>
            <a:ext cx="2879640" cy="719280"/>
            <a:chOff x="5651640" y="2206440"/>
            <a:chExt cx="2879640" cy="719280"/>
          </a:xfrm>
        </p:grpSpPr>
        <p:sp>
          <p:nvSpPr>
            <p:cNvPr id="286" name=""/>
            <p:cNvSpPr/>
            <p:nvPr/>
          </p:nvSpPr>
          <p:spPr>
            <a:xfrm>
              <a:off x="6659640" y="2206800"/>
              <a:ext cx="423720" cy="425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093080" y="2206800"/>
              <a:ext cx="431640" cy="425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44000" y="292572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651640" y="29257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5940360" y="2206440"/>
              <a:ext cx="719280" cy="718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7524720" y="2206440"/>
              <a:ext cx="719280" cy="718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651640" y="2350800"/>
            <a:ext cx="2879640" cy="865440"/>
            <a:chOff x="5651640" y="2350800"/>
            <a:chExt cx="2879640" cy="865440"/>
          </a:xfrm>
        </p:grpSpPr>
        <p:sp>
          <p:nvSpPr>
            <p:cNvPr id="293" name=""/>
            <p:cNvSpPr/>
            <p:nvPr/>
          </p:nvSpPr>
          <p:spPr>
            <a:xfrm>
              <a:off x="6804000" y="2351160"/>
              <a:ext cx="279360" cy="280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7093080" y="2351160"/>
              <a:ext cx="287280" cy="280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44000" y="321624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651640" y="32162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940360" y="2350800"/>
              <a:ext cx="863640" cy="863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7380000" y="2350800"/>
              <a:ext cx="863640" cy="865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651640" y="2493720"/>
            <a:ext cx="2879640" cy="1008360"/>
            <a:chOff x="5651640" y="2493720"/>
            <a:chExt cx="2879640" cy="1008360"/>
          </a:xfrm>
        </p:grpSpPr>
        <p:sp>
          <p:nvSpPr>
            <p:cNvPr id="300" name=""/>
            <p:cNvSpPr/>
            <p:nvPr/>
          </p:nvSpPr>
          <p:spPr>
            <a:xfrm>
              <a:off x="6948720" y="2494080"/>
              <a:ext cx="134640" cy="136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7093080" y="2493720"/>
              <a:ext cx="142920" cy="136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44000" y="350208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651640" y="35020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940360" y="2494080"/>
              <a:ext cx="1008360" cy="1008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236000" y="2494080"/>
              <a:ext cx="1008000" cy="1008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651640" y="2638080"/>
            <a:ext cx="2879640" cy="1154520"/>
            <a:chOff x="5651640" y="2638080"/>
            <a:chExt cx="2879640" cy="1154520"/>
          </a:xfrm>
        </p:grpSpPr>
        <p:sp>
          <p:nvSpPr>
            <p:cNvPr id="307" name=""/>
            <p:cNvSpPr/>
            <p:nvPr/>
          </p:nvSpPr>
          <p:spPr>
            <a:xfrm>
              <a:off x="8244000" y="379080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651640" y="37908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940360" y="263844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7092720" y="263808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651640" y="2567160"/>
            <a:ext cx="2879640" cy="1079280"/>
            <a:chOff x="5651640" y="2567160"/>
            <a:chExt cx="2879640" cy="1079280"/>
          </a:xfrm>
        </p:grpSpPr>
        <p:sp>
          <p:nvSpPr>
            <p:cNvPr id="312" name=""/>
            <p:cNvSpPr/>
            <p:nvPr/>
          </p:nvSpPr>
          <p:spPr>
            <a:xfrm>
              <a:off x="7020000" y="2567160"/>
              <a:ext cx="63360" cy="64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093080" y="2567160"/>
              <a:ext cx="71280" cy="64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44000" y="364644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651640" y="36464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940360" y="2567160"/>
              <a:ext cx="1079640" cy="10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7164000" y="2567160"/>
              <a:ext cx="1079640" cy="10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651640" y="2711160"/>
            <a:ext cx="2879640" cy="1154520"/>
            <a:chOff x="5651640" y="2711160"/>
            <a:chExt cx="2879640" cy="1154520"/>
          </a:xfrm>
        </p:grpSpPr>
        <p:sp>
          <p:nvSpPr>
            <p:cNvPr id="319" name=""/>
            <p:cNvSpPr/>
            <p:nvPr/>
          </p:nvSpPr>
          <p:spPr>
            <a:xfrm>
              <a:off x="8244000" y="386388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651640" y="38638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940360" y="271152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7092720" y="271116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651640" y="2998440"/>
            <a:ext cx="2879640" cy="1154520"/>
            <a:chOff x="5651640" y="2998440"/>
            <a:chExt cx="2879640" cy="1154520"/>
          </a:xfrm>
        </p:grpSpPr>
        <p:sp>
          <p:nvSpPr>
            <p:cNvPr id="324" name=""/>
            <p:cNvSpPr/>
            <p:nvPr/>
          </p:nvSpPr>
          <p:spPr>
            <a:xfrm>
              <a:off x="8244000" y="415116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651640" y="415116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940360" y="299880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7092720" y="299844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651640" y="3285720"/>
            <a:ext cx="2879640" cy="1154520"/>
            <a:chOff x="5651640" y="3285720"/>
            <a:chExt cx="2879640" cy="1154520"/>
          </a:xfrm>
        </p:grpSpPr>
        <p:sp>
          <p:nvSpPr>
            <p:cNvPr id="329" name=""/>
            <p:cNvSpPr/>
            <p:nvPr/>
          </p:nvSpPr>
          <p:spPr>
            <a:xfrm>
              <a:off x="8244000" y="443844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651640" y="44384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940360" y="328608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7092720" y="328572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651640" y="3574800"/>
            <a:ext cx="2879640" cy="1154520"/>
            <a:chOff x="5651640" y="3574800"/>
            <a:chExt cx="2879640" cy="1154520"/>
          </a:xfrm>
        </p:grpSpPr>
        <p:sp>
          <p:nvSpPr>
            <p:cNvPr id="334" name=""/>
            <p:cNvSpPr/>
            <p:nvPr/>
          </p:nvSpPr>
          <p:spPr>
            <a:xfrm>
              <a:off x="8244000" y="472752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651640" y="47275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5940360" y="357516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7092720" y="357480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651640" y="3862080"/>
            <a:ext cx="2879640" cy="1154520"/>
            <a:chOff x="5651640" y="3862080"/>
            <a:chExt cx="2879640" cy="1154520"/>
          </a:xfrm>
        </p:grpSpPr>
        <p:sp>
          <p:nvSpPr>
            <p:cNvPr id="339" name=""/>
            <p:cNvSpPr/>
            <p:nvPr/>
          </p:nvSpPr>
          <p:spPr>
            <a:xfrm>
              <a:off x="8244000" y="501480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651640" y="50148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940360" y="386244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092720" y="386208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651640" y="4150800"/>
            <a:ext cx="2879640" cy="1154520"/>
            <a:chOff x="5651640" y="4150800"/>
            <a:chExt cx="2879640" cy="1154520"/>
          </a:xfrm>
        </p:grpSpPr>
        <p:sp>
          <p:nvSpPr>
            <p:cNvPr id="344" name=""/>
            <p:cNvSpPr/>
            <p:nvPr/>
          </p:nvSpPr>
          <p:spPr>
            <a:xfrm>
              <a:off x="8244000" y="530352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651640" y="53035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940360" y="415116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7092720" y="415080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554720" y="2781360"/>
            <a:ext cx="333000" cy="1037880"/>
            <a:chOff x="4554720" y="2781360"/>
            <a:chExt cx="333000" cy="1037880"/>
          </a:xfrm>
        </p:grpSpPr>
        <p:sp>
          <p:nvSpPr>
            <p:cNvPr id="349" name=""/>
            <p:cNvSpPr/>
            <p:nvPr/>
          </p:nvSpPr>
          <p:spPr>
            <a:xfrm>
              <a:off x="4554720" y="3450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716360" y="2781360"/>
              <a:ext cx="0" cy="504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281240" y="51022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eld increasing from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64200" y="5562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01760" y="609588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eld decreasing through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653080" y="4438440"/>
            <a:ext cx="2879640" cy="1153800"/>
            <a:chOff x="5653080" y="4438440"/>
            <a:chExt cx="2879640" cy="1153800"/>
          </a:xfrm>
        </p:grpSpPr>
        <p:sp>
          <p:nvSpPr>
            <p:cNvPr id="355" name=""/>
            <p:cNvSpPr/>
            <p:nvPr/>
          </p:nvSpPr>
          <p:spPr>
            <a:xfrm>
              <a:off x="8245440" y="559080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653080" y="55908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941800" y="4438440"/>
              <a:ext cx="1152720" cy="1153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7094160" y="4438800"/>
              <a:ext cx="1150920" cy="1152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653080" y="4727160"/>
            <a:ext cx="2879640" cy="1154520"/>
            <a:chOff x="5653080" y="4727160"/>
            <a:chExt cx="2879640" cy="1154520"/>
          </a:xfrm>
        </p:grpSpPr>
        <p:sp>
          <p:nvSpPr>
            <p:cNvPr id="360" name=""/>
            <p:cNvSpPr/>
            <p:nvPr/>
          </p:nvSpPr>
          <p:spPr>
            <a:xfrm>
              <a:off x="8245440" y="587988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653080" y="58798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941800" y="472752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7094160" y="472716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854800" y="83664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ccording to the Bean critical stat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457360" y="3911760"/>
            <a:ext cx="2363400" cy="600840"/>
            <a:chOff x="2457360" y="3911760"/>
            <a:chExt cx="2363400" cy="600840"/>
          </a:xfrm>
        </p:grpSpPr>
        <p:sp>
          <p:nvSpPr>
            <p:cNvPr id="366" name=""/>
            <p:cNvSpPr/>
            <p:nvPr/>
          </p:nvSpPr>
          <p:spPr>
            <a:xfrm>
              <a:off x="3132720" y="4175280"/>
              <a:ext cx="168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00ff"/>
                  </a:solidFill>
                  <a:latin typeface="Arial"/>
                </a:rPr>
                <a:t>fully penetr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457360" y="3911760"/>
              <a:ext cx="622080" cy="443880"/>
              <a:chOff x="2457360" y="3911760"/>
              <a:chExt cx="622080" cy="443880"/>
            </a:xfrm>
          </p:grpSpPr>
          <p:sp>
            <p:nvSpPr>
              <p:cNvPr id="368" name=""/>
              <p:cNvSpPr/>
              <p:nvPr/>
            </p:nvSpPr>
            <p:spPr>
              <a:xfrm>
                <a:off x="2520720" y="4025520"/>
                <a:ext cx="558720" cy="330120"/>
              </a:xfrm>
              <a:custGeom>
                <a:avLst/>
                <a:gdLst/>
                <a:ahLst/>
                <a:rect l="l" t="t" r="r" b="b"/>
                <a:pathLst>
                  <a:path w="400" h="312">
                    <a:moveTo>
                      <a:pt x="0" y="0"/>
                    </a:moveTo>
                    <a:cubicBezTo>
                      <a:pt x="12" y="39"/>
                      <a:pt x="24" y="79"/>
                      <a:pt x="56" y="120"/>
                    </a:cubicBezTo>
                    <a:cubicBezTo>
                      <a:pt x="88" y="161"/>
                      <a:pt x="135" y="216"/>
                      <a:pt x="192" y="248"/>
                    </a:cubicBezTo>
                    <a:cubicBezTo>
                      <a:pt x="249" y="280"/>
                      <a:pt x="368" y="301"/>
                      <a:pt x="400" y="312"/>
                    </a:cubicBezTo>
                  </a:path>
                </a:pathLst>
              </a:custGeom>
              <a:noFill/>
              <a:ln w="190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2457360" y="3911760"/>
                <a:ext cx="95040" cy="1836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828720" y="1270080"/>
            <a:ext cx="3240000" cy="2808360"/>
            <a:chOff x="828720" y="1270080"/>
            <a:chExt cx="3240000" cy="2808360"/>
          </a:xfrm>
        </p:grpSpPr>
        <p:sp>
          <p:nvSpPr>
            <p:cNvPr id="371" name=""/>
            <p:cNvSpPr/>
            <p:nvPr/>
          </p:nvSpPr>
          <p:spPr>
            <a:xfrm>
              <a:off x="1260360" y="1270080"/>
              <a:ext cx="0" cy="28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64000" y="1270080"/>
              <a:ext cx="0" cy="28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8720" y="3862440"/>
              <a:ext cx="3240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8720" y="14436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The flux penetration process (2)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375" name=""/>
          <p:cNvSpPr/>
          <p:nvPr/>
        </p:nvSpPr>
        <p:spPr>
          <a:xfrm>
            <a:off x="14938200" y="334800"/>
            <a:ext cx="1586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938200" y="695160"/>
            <a:ext cx="1586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971640" y="1485720"/>
            <a:ext cx="2879280" cy="1146240"/>
            <a:chOff x="971640" y="1485720"/>
            <a:chExt cx="2879280" cy="1146240"/>
          </a:xfrm>
        </p:grpSpPr>
        <p:sp>
          <p:nvSpPr>
            <p:cNvPr id="378" name=""/>
            <p:cNvSpPr/>
            <p:nvPr/>
          </p:nvSpPr>
          <p:spPr>
            <a:xfrm>
              <a:off x="1260360" y="1486080"/>
              <a:ext cx="1142640" cy="1145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412720" y="1485720"/>
              <a:ext cx="1150920" cy="1145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64000" y="148608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971640" y="14860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971640" y="1774800"/>
            <a:ext cx="2879280" cy="1146240"/>
            <a:chOff x="971640" y="1774800"/>
            <a:chExt cx="2879280" cy="1146240"/>
          </a:xfrm>
        </p:grpSpPr>
        <p:sp>
          <p:nvSpPr>
            <p:cNvPr id="383" name=""/>
            <p:cNvSpPr/>
            <p:nvPr/>
          </p:nvSpPr>
          <p:spPr>
            <a:xfrm>
              <a:off x="1260360" y="1774800"/>
              <a:ext cx="1142640" cy="11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412720" y="1774800"/>
              <a:ext cx="1150920" cy="11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4000" y="177480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971640" y="17748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971640" y="2061720"/>
            <a:ext cx="2879280" cy="1152720"/>
            <a:chOff x="971640" y="2061720"/>
            <a:chExt cx="2879280" cy="1152720"/>
          </a:xfrm>
        </p:grpSpPr>
        <p:sp>
          <p:nvSpPr>
            <p:cNvPr id="388" name=""/>
            <p:cNvSpPr/>
            <p:nvPr/>
          </p:nvSpPr>
          <p:spPr>
            <a:xfrm>
              <a:off x="1260360" y="2062080"/>
              <a:ext cx="114264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412720" y="206172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64000" y="206208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971640" y="20620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71640" y="2351160"/>
            <a:ext cx="2879280" cy="1146240"/>
            <a:chOff x="971640" y="2351160"/>
            <a:chExt cx="2879280" cy="1146240"/>
          </a:xfrm>
        </p:grpSpPr>
        <p:sp>
          <p:nvSpPr>
            <p:cNvPr id="393" name=""/>
            <p:cNvSpPr/>
            <p:nvPr/>
          </p:nvSpPr>
          <p:spPr>
            <a:xfrm>
              <a:off x="1260360" y="2351160"/>
              <a:ext cx="1142640" cy="11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412720" y="2351160"/>
              <a:ext cx="1150920" cy="11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64000" y="235116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971640" y="235116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971640" y="2638440"/>
            <a:ext cx="2879280" cy="1146240"/>
            <a:chOff x="971640" y="2638440"/>
            <a:chExt cx="2879280" cy="1146240"/>
          </a:xfrm>
        </p:grpSpPr>
        <p:sp>
          <p:nvSpPr>
            <p:cNvPr id="398" name=""/>
            <p:cNvSpPr/>
            <p:nvPr/>
          </p:nvSpPr>
          <p:spPr>
            <a:xfrm>
              <a:off x="1260360" y="2638440"/>
              <a:ext cx="1142640" cy="11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2412720" y="2638440"/>
              <a:ext cx="1150920" cy="11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64000" y="263844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971640" y="26384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71640" y="2927160"/>
            <a:ext cx="2879280" cy="936720"/>
            <a:chOff x="971640" y="2927160"/>
            <a:chExt cx="2879280" cy="936720"/>
          </a:xfrm>
        </p:grpSpPr>
        <p:sp>
          <p:nvSpPr>
            <p:cNvPr id="403" name=""/>
            <p:cNvSpPr/>
            <p:nvPr/>
          </p:nvSpPr>
          <p:spPr>
            <a:xfrm>
              <a:off x="1260360" y="2927520"/>
              <a:ext cx="934560" cy="93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628720" y="2927160"/>
              <a:ext cx="934920" cy="93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64000" y="292752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971640" y="29275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95280" y="3863880"/>
              <a:ext cx="4330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971640" y="3214440"/>
            <a:ext cx="2879280" cy="648000"/>
            <a:chOff x="971640" y="3214440"/>
            <a:chExt cx="2879280" cy="648000"/>
          </a:xfrm>
        </p:grpSpPr>
        <p:sp>
          <p:nvSpPr>
            <p:cNvPr id="409" name=""/>
            <p:cNvSpPr/>
            <p:nvPr/>
          </p:nvSpPr>
          <p:spPr>
            <a:xfrm>
              <a:off x="1260360" y="3214800"/>
              <a:ext cx="647280" cy="647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916000" y="3214440"/>
              <a:ext cx="647640" cy="647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64000" y="321480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971640" y="32148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8000" y="3862440"/>
              <a:ext cx="10076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971640" y="3503160"/>
            <a:ext cx="2879280" cy="359280"/>
            <a:chOff x="971640" y="3503160"/>
            <a:chExt cx="2879280" cy="359280"/>
          </a:xfrm>
        </p:grpSpPr>
        <p:sp>
          <p:nvSpPr>
            <p:cNvPr id="415" name=""/>
            <p:cNvSpPr/>
            <p:nvPr/>
          </p:nvSpPr>
          <p:spPr>
            <a:xfrm>
              <a:off x="1260360" y="3503520"/>
              <a:ext cx="360000" cy="358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3203640" y="3503160"/>
              <a:ext cx="360000" cy="358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64000" y="350352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971640" y="35035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20720" y="3862440"/>
              <a:ext cx="15825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332000" y="3790800"/>
            <a:ext cx="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971640" y="3719160"/>
            <a:ext cx="2879280" cy="143280"/>
            <a:chOff x="971640" y="3719160"/>
            <a:chExt cx="2879280" cy="143280"/>
          </a:xfrm>
        </p:grpSpPr>
        <p:sp>
          <p:nvSpPr>
            <p:cNvPr id="422" name=""/>
            <p:cNvSpPr/>
            <p:nvPr/>
          </p:nvSpPr>
          <p:spPr>
            <a:xfrm>
              <a:off x="1260360" y="3719520"/>
              <a:ext cx="142560" cy="142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421080" y="3719160"/>
              <a:ext cx="142560" cy="142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64000" y="371952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971640" y="37195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3280" y="3862440"/>
              <a:ext cx="20174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971640" y="3862440"/>
            <a:ext cx="2881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651640" y="1485720"/>
            <a:ext cx="2879280" cy="1146240"/>
            <a:chOff x="5651640" y="1485720"/>
            <a:chExt cx="2879280" cy="1146240"/>
          </a:xfrm>
        </p:grpSpPr>
        <p:sp>
          <p:nvSpPr>
            <p:cNvPr id="429" name=""/>
            <p:cNvSpPr/>
            <p:nvPr/>
          </p:nvSpPr>
          <p:spPr>
            <a:xfrm>
              <a:off x="5940360" y="1486080"/>
              <a:ext cx="1142640" cy="1145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092720" y="1485720"/>
              <a:ext cx="1150920" cy="1145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44000" y="1486080"/>
              <a:ext cx="286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651640" y="14860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6012000" y="3790800"/>
            <a:ext cx="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508720" y="1270080"/>
            <a:ext cx="3166920" cy="4752720"/>
            <a:chOff x="5508720" y="1270080"/>
            <a:chExt cx="3166920" cy="4752720"/>
          </a:xfrm>
        </p:grpSpPr>
        <p:sp>
          <p:nvSpPr>
            <p:cNvPr id="435" name=""/>
            <p:cNvSpPr/>
            <p:nvPr/>
          </p:nvSpPr>
          <p:spPr>
            <a:xfrm>
              <a:off x="5508720" y="3862080"/>
              <a:ext cx="316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40360" y="127008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243640" y="1270080"/>
              <a:ext cx="144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651640" y="1630440"/>
            <a:ext cx="2879640" cy="1001520"/>
            <a:chOff x="5651640" y="1630440"/>
            <a:chExt cx="2879640" cy="1001520"/>
          </a:xfrm>
        </p:grpSpPr>
        <p:sp>
          <p:nvSpPr>
            <p:cNvPr id="439" name=""/>
            <p:cNvSpPr/>
            <p:nvPr/>
          </p:nvSpPr>
          <p:spPr>
            <a:xfrm>
              <a:off x="6083280" y="1630440"/>
              <a:ext cx="1000080" cy="1001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093080" y="1630440"/>
              <a:ext cx="1008000" cy="1001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244000" y="177444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651640" y="17744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5940360" y="1630440"/>
              <a:ext cx="142920" cy="144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01080" y="1630440"/>
              <a:ext cx="142920" cy="144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651640" y="1774440"/>
            <a:ext cx="2879640" cy="865440"/>
            <a:chOff x="5651640" y="1774440"/>
            <a:chExt cx="2879640" cy="865440"/>
          </a:xfrm>
        </p:grpSpPr>
        <p:sp>
          <p:nvSpPr>
            <p:cNvPr id="446" name=""/>
            <p:cNvSpPr/>
            <p:nvPr/>
          </p:nvSpPr>
          <p:spPr>
            <a:xfrm>
              <a:off x="7956720" y="1774800"/>
              <a:ext cx="279360" cy="288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093080" y="1774440"/>
              <a:ext cx="863640" cy="865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244000" y="206208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5651640" y="20620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940360" y="1774800"/>
              <a:ext cx="287640" cy="287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28000" y="1774800"/>
              <a:ext cx="855360" cy="865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651640" y="1918800"/>
            <a:ext cx="2879640" cy="714600"/>
            <a:chOff x="5651640" y="1918800"/>
            <a:chExt cx="2879640" cy="714600"/>
          </a:xfrm>
        </p:grpSpPr>
        <p:sp>
          <p:nvSpPr>
            <p:cNvPr id="453" name=""/>
            <p:cNvSpPr/>
            <p:nvPr/>
          </p:nvSpPr>
          <p:spPr>
            <a:xfrm>
              <a:off x="6372360" y="1919160"/>
              <a:ext cx="711000" cy="714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093080" y="1919160"/>
              <a:ext cx="719280" cy="714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244000" y="235080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651640" y="23508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5940360" y="1918800"/>
              <a:ext cx="432000" cy="431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7812000" y="1918800"/>
              <a:ext cx="431640" cy="431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651640" y="2061720"/>
            <a:ext cx="2879640" cy="576720"/>
            <a:chOff x="5651640" y="2061720"/>
            <a:chExt cx="2879640" cy="576720"/>
          </a:xfrm>
        </p:grpSpPr>
        <p:sp>
          <p:nvSpPr>
            <p:cNvPr id="460" name=""/>
            <p:cNvSpPr/>
            <p:nvPr/>
          </p:nvSpPr>
          <p:spPr>
            <a:xfrm>
              <a:off x="6516720" y="2062080"/>
              <a:ext cx="566640" cy="570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7093080" y="2062080"/>
              <a:ext cx="574560" cy="570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244000" y="263844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651640" y="26384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5940360" y="2061720"/>
              <a:ext cx="576360" cy="57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7667280" y="2061720"/>
              <a:ext cx="576360" cy="57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651640" y="2206440"/>
            <a:ext cx="2879640" cy="719280"/>
            <a:chOff x="5651640" y="2206440"/>
            <a:chExt cx="2879640" cy="719280"/>
          </a:xfrm>
        </p:grpSpPr>
        <p:sp>
          <p:nvSpPr>
            <p:cNvPr id="467" name=""/>
            <p:cNvSpPr/>
            <p:nvPr/>
          </p:nvSpPr>
          <p:spPr>
            <a:xfrm>
              <a:off x="6659640" y="2206800"/>
              <a:ext cx="423720" cy="425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093080" y="2206800"/>
              <a:ext cx="431640" cy="425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244000" y="292572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651640" y="29257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940360" y="2206440"/>
              <a:ext cx="719280" cy="718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7524720" y="2206440"/>
              <a:ext cx="719280" cy="718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651640" y="2350800"/>
            <a:ext cx="2879640" cy="865440"/>
            <a:chOff x="5651640" y="2350800"/>
            <a:chExt cx="2879640" cy="865440"/>
          </a:xfrm>
        </p:grpSpPr>
        <p:sp>
          <p:nvSpPr>
            <p:cNvPr id="474" name=""/>
            <p:cNvSpPr/>
            <p:nvPr/>
          </p:nvSpPr>
          <p:spPr>
            <a:xfrm>
              <a:off x="6804000" y="2351160"/>
              <a:ext cx="279360" cy="280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093080" y="2351160"/>
              <a:ext cx="287280" cy="280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44000" y="321624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651640" y="32162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5940360" y="2350800"/>
              <a:ext cx="863640" cy="863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7380000" y="2350800"/>
              <a:ext cx="863640" cy="865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651640" y="2493720"/>
            <a:ext cx="2879640" cy="1008360"/>
            <a:chOff x="5651640" y="2493720"/>
            <a:chExt cx="2879640" cy="1008360"/>
          </a:xfrm>
        </p:grpSpPr>
        <p:sp>
          <p:nvSpPr>
            <p:cNvPr id="481" name=""/>
            <p:cNvSpPr/>
            <p:nvPr/>
          </p:nvSpPr>
          <p:spPr>
            <a:xfrm>
              <a:off x="6948720" y="2494080"/>
              <a:ext cx="134640" cy="136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093080" y="2493720"/>
              <a:ext cx="142920" cy="136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244000" y="350208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651640" y="35020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5940360" y="2494080"/>
              <a:ext cx="1008360" cy="1008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7236000" y="2494080"/>
              <a:ext cx="1008000" cy="1008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651640" y="2638080"/>
            <a:ext cx="2879640" cy="1154520"/>
            <a:chOff x="5651640" y="2638080"/>
            <a:chExt cx="2879640" cy="1154520"/>
          </a:xfrm>
        </p:grpSpPr>
        <p:sp>
          <p:nvSpPr>
            <p:cNvPr id="488" name=""/>
            <p:cNvSpPr/>
            <p:nvPr/>
          </p:nvSpPr>
          <p:spPr>
            <a:xfrm>
              <a:off x="8244000" y="379080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5651640" y="37908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940360" y="263844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7092720" y="263808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651640" y="2567160"/>
            <a:ext cx="2879640" cy="1079280"/>
            <a:chOff x="5651640" y="2567160"/>
            <a:chExt cx="2879640" cy="1079280"/>
          </a:xfrm>
        </p:grpSpPr>
        <p:sp>
          <p:nvSpPr>
            <p:cNvPr id="493" name=""/>
            <p:cNvSpPr/>
            <p:nvPr/>
          </p:nvSpPr>
          <p:spPr>
            <a:xfrm>
              <a:off x="7020000" y="2567160"/>
              <a:ext cx="63360" cy="64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093080" y="2567160"/>
              <a:ext cx="71280" cy="64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44000" y="364644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651640" y="36464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940360" y="2567160"/>
              <a:ext cx="1079640" cy="10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164000" y="2567160"/>
              <a:ext cx="1079640" cy="10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651640" y="2711160"/>
            <a:ext cx="2879640" cy="1154520"/>
            <a:chOff x="5651640" y="2711160"/>
            <a:chExt cx="2879640" cy="1154520"/>
          </a:xfrm>
        </p:grpSpPr>
        <p:sp>
          <p:nvSpPr>
            <p:cNvPr id="500" name=""/>
            <p:cNvSpPr/>
            <p:nvPr/>
          </p:nvSpPr>
          <p:spPr>
            <a:xfrm>
              <a:off x="8244000" y="386388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651640" y="38638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940360" y="271152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7092720" y="271116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651640" y="2998440"/>
            <a:ext cx="2879640" cy="1154520"/>
            <a:chOff x="5651640" y="2998440"/>
            <a:chExt cx="2879640" cy="1154520"/>
          </a:xfrm>
        </p:grpSpPr>
        <p:sp>
          <p:nvSpPr>
            <p:cNvPr id="505" name=""/>
            <p:cNvSpPr/>
            <p:nvPr/>
          </p:nvSpPr>
          <p:spPr>
            <a:xfrm>
              <a:off x="8244000" y="415116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651640" y="415116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5940360" y="299880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7092720" y="299844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651640" y="3285720"/>
            <a:ext cx="2879640" cy="1154520"/>
            <a:chOff x="5651640" y="3285720"/>
            <a:chExt cx="2879640" cy="1154520"/>
          </a:xfrm>
        </p:grpSpPr>
        <p:sp>
          <p:nvSpPr>
            <p:cNvPr id="510" name=""/>
            <p:cNvSpPr/>
            <p:nvPr/>
          </p:nvSpPr>
          <p:spPr>
            <a:xfrm>
              <a:off x="8244000" y="443844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5651640" y="443844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940360" y="328608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7092720" y="328572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651640" y="3574800"/>
            <a:ext cx="2879640" cy="1154520"/>
            <a:chOff x="5651640" y="3574800"/>
            <a:chExt cx="2879640" cy="1154520"/>
          </a:xfrm>
        </p:grpSpPr>
        <p:sp>
          <p:nvSpPr>
            <p:cNvPr id="515" name=""/>
            <p:cNvSpPr/>
            <p:nvPr/>
          </p:nvSpPr>
          <p:spPr>
            <a:xfrm>
              <a:off x="8244000" y="472752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651640" y="47275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5940360" y="357516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7092720" y="357480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51640" y="3862080"/>
            <a:ext cx="2879640" cy="1154520"/>
            <a:chOff x="5651640" y="3862080"/>
            <a:chExt cx="2879640" cy="1154520"/>
          </a:xfrm>
        </p:grpSpPr>
        <p:sp>
          <p:nvSpPr>
            <p:cNvPr id="520" name=""/>
            <p:cNvSpPr/>
            <p:nvPr/>
          </p:nvSpPr>
          <p:spPr>
            <a:xfrm>
              <a:off x="8244000" y="501480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5651640" y="50148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940360" y="386244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7092720" y="386208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651640" y="4150800"/>
            <a:ext cx="2879640" cy="1154520"/>
            <a:chOff x="5651640" y="4150800"/>
            <a:chExt cx="2879640" cy="1154520"/>
          </a:xfrm>
        </p:grpSpPr>
        <p:sp>
          <p:nvSpPr>
            <p:cNvPr id="525" name=""/>
            <p:cNvSpPr/>
            <p:nvPr/>
          </p:nvSpPr>
          <p:spPr>
            <a:xfrm>
              <a:off x="8244000" y="530352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651640" y="530352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940360" y="415116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7092720" y="415080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4554720" y="2781360"/>
            <a:ext cx="333000" cy="1037880"/>
            <a:chOff x="4554720" y="2781360"/>
            <a:chExt cx="333000" cy="1037880"/>
          </a:xfrm>
        </p:grpSpPr>
        <p:sp>
          <p:nvSpPr>
            <p:cNvPr id="530" name=""/>
            <p:cNvSpPr/>
            <p:nvPr/>
          </p:nvSpPr>
          <p:spPr>
            <a:xfrm>
              <a:off x="4554720" y="3450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4716360" y="2781360"/>
              <a:ext cx="0" cy="504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293840" y="42130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eld increasing from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64200" y="5562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01760" y="609588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eld decreasing through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653080" y="4438440"/>
            <a:ext cx="2879640" cy="1153800"/>
            <a:chOff x="5653080" y="4438440"/>
            <a:chExt cx="2879640" cy="1153800"/>
          </a:xfrm>
        </p:grpSpPr>
        <p:sp>
          <p:nvSpPr>
            <p:cNvPr id="536" name=""/>
            <p:cNvSpPr/>
            <p:nvPr/>
          </p:nvSpPr>
          <p:spPr>
            <a:xfrm>
              <a:off x="8245440" y="559080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5653080" y="559080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5941800" y="4438440"/>
              <a:ext cx="1152720" cy="1153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7094160" y="4438800"/>
              <a:ext cx="1150920" cy="1152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653080" y="4727160"/>
            <a:ext cx="2879640" cy="1154520"/>
            <a:chOff x="5653080" y="4727160"/>
            <a:chExt cx="2879640" cy="1154520"/>
          </a:xfrm>
        </p:grpSpPr>
        <p:sp>
          <p:nvSpPr>
            <p:cNvPr id="541" name=""/>
            <p:cNvSpPr/>
            <p:nvPr/>
          </p:nvSpPr>
          <p:spPr>
            <a:xfrm>
              <a:off x="8245440" y="5879880"/>
              <a:ext cx="287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653080" y="5879880"/>
              <a:ext cx="288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5941800" y="4727520"/>
              <a:ext cx="1152720" cy="1154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7094160" y="4727160"/>
              <a:ext cx="1150920" cy="115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2926080" y="76500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ccording to the Bean critical stat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8360" y="4797360"/>
            <a:ext cx="434844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Re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100"/>
              </a:spcAft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current density everywhere is </a:t>
            </a:r>
            <a:r>
              <a:rPr b="1" lang="en-GB" sz="1600" spc="-1" strike="noStrike">
                <a:solidFill>
                  <a:srgbClr val="ff00ff"/>
                </a:solidFill>
                <a:latin typeface="Symbol"/>
                <a:ea typeface="Symbol"/>
              </a:rPr>
              <a:t></a:t>
            </a: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J</a:t>
            </a:r>
            <a:r>
              <a:rPr b="1" lang="en-GB" sz="1600" spc="-1" strike="noStrike" baseline="-25000">
                <a:solidFill>
                  <a:srgbClr val="ff00ff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 or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100"/>
              </a:spcAft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change comes in from the outer surf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500"/>
                            </p:stCondLst>
                            <p:childTnLst>
                              <p:par>
                                <p:cTn id="26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000"/>
                            </p:stCondLst>
                            <p:childTnLst>
                              <p:par>
                                <p:cTn id="35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500"/>
                            </p:stCondLst>
                            <p:childTnLst>
                              <p:par>
                                <p:cTn id="37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9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06440" y="2367000"/>
            <a:ext cx="4032360" cy="388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78000" y="169560"/>
            <a:ext cx="844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Flux penetration from another viewpoint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4006800" y="4240080"/>
            <a:ext cx="4934160" cy="1584360"/>
            <a:chOff x="4006800" y="4240080"/>
            <a:chExt cx="4934160" cy="1584360"/>
          </a:xfrm>
        </p:grpSpPr>
        <p:pic>
          <p:nvPicPr>
            <p:cNvPr id="550" name="" descr=""/>
            <p:cNvPicPr/>
            <p:nvPr/>
          </p:nvPicPr>
          <p:blipFill>
            <a:blip r:embed="rId1"/>
            <a:stretch/>
          </p:blipFill>
          <p:spPr>
            <a:xfrm>
              <a:off x="5807160" y="4240080"/>
              <a:ext cx="3133800" cy="15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1" name=""/>
            <p:cNvGrpSpPr/>
            <p:nvPr/>
          </p:nvGrpSpPr>
          <p:grpSpPr>
            <a:xfrm>
              <a:off x="4006800" y="5391000"/>
              <a:ext cx="1871640" cy="431640"/>
              <a:chOff x="4006800" y="5391000"/>
              <a:chExt cx="1871640" cy="431640"/>
            </a:xfrm>
          </p:grpSpPr>
          <p:sp>
            <p:nvSpPr>
              <p:cNvPr id="552" name=""/>
              <p:cNvSpPr/>
              <p:nvPr/>
            </p:nvSpPr>
            <p:spPr>
              <a:xfrm>
                <a:off x="4438800" y="5391000"/>
                <a:ext cx="1439640" cy="43164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4006800" y="5391000"/>
                <a:ext cx="433440" cy="431640"/>
              </a:xfrm>
              <a:prstGeom prst="rtTriangl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3214800" y="5032440"/>
            <a:ext cx="2089080" cy="863640"/>
            <a:chOff x="3214800" y="5032440"/>
            <a:chExt cx="2089080" cy="863640"/>
          </a:xfrm>
        </p:grpSpPr>
        <p:sp>
          <p:nvSpPr>
            <p:cNvPr id="555" name=""/>
            <p:cNvSpPr/>
            <p:nvPr/>
          </p:nvSpPr>
          <p:spPr>
            <a:xfrm flipH="1">
              <a:off x="3214800" y="5032440"/>
              <a:ext cx="1224000" cy="86364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38800" y="5032440"/>
              <a:ext cx="865080" cy="8622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998440" y="5175360"/>
            <a:ext cx="2305440" cy="718920"/>
            <a:chOff x="2998440" y="5175360"/>
            <a:chExt cx="2305440" cy="718920"/>
          </a:xfrm>
        </p:grpSpPr>
        <p:sp>
          <p:nvSpPr>
            <p:cNvPr id="558" name=""/>
            <p:cNvSpPr/>
            <p:nvPr/>
          </p:nvSpPr>
          <p:spPr>
            <a:xfrm flipH="1">
              <a:off x="2998080" y="5175360"/>
              <a:ext cx="1439640" cy="71892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8440" y="5175360"/>
              <a:ext cx="865440" cy="7174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638440" y="5319720"/>
            <a:ext cx="2663640" cy="576000"/>
            <a:chOff x="2638440" y="5319720"/>
            <a:chExt cx="2663640" cy="576000"/>
          </a:xfrm>
        </p:grpSpPr>
        <p:sp>
          <p:nvSpPr>
            <p:cNvPr id="561" name=""/>
            <p:cNvSpPr/>
            <p:nvPr/>
          </p:nvSpPr>
          <p:spPr>
            <a:xfrm flipH="1">
              <a:off x="2638440" y="5319720"/>
              <a:ext cx="1800000" cy="57600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38440" y="5319720"/>
              <a:ext cx="863640" cy="5745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414440" y="5607000"/>
            <a:ext cx="3887280" cy="288720"/>
            <a:chOff x="1414440" y="5607000"/>
            <a:chExt cx="3887280" cy="288720"/>
          </a:xfrm>
        </p:grpSpPr>
        <p:sp>
          <p:nvSpPr>
            <p:cNvPr id="564" name=""/>
            <p:cNvSpPr/>
            <p:nvPr/>
          </p:nvSpPr>
          <p:spPr>
            <a:xfrm flipH="1">
              <a:off x="1414440" y="5607000"/>
              <a:ext cx="3024000" cy="28872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38440" y="5607000"/>
              <a:ext cx="863280" cy="288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206800" y="5464080"/>
            <a:ext cx="3094920" cy="432000"/>
            <a:chOff x="2206800" y="5464080"/>
            <a:chExt cx="3094920" cy="432000"/>
          </a:xfrm>
        </p:grpSpPr>
        <p:sp>
          <p:nvSpPr>
            <p:cNvPr id="567" name=""/>
            <p:cNvSpPr/>
            <p:nvPr/>
          </p:nvSpPr>
          <p:spPr>
            <a:xfrm flipH="1">
              <a:off x="2206800" y="5464080"/>
              <a:ext cx="2232000" cy="43200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38800" y="5464080"/>
              <a:ext cx="862920" cy="4320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34440" y="5751360"/>
            <a:ext cx="4969080" cy="144720"/>
            <a:chOff x="334440" y="5751360"/>
            <a:chExt cx="4969080" cy="144720"/>
          </a:xfrm>
        </p:grpSpPr>
        <p:sp>
          <p:nvSpPr>
            <p:cNvPr id="570" name=""/>
            <p:cNvSpPr/>
            <p:nvPr/>
          </p:nvSpPr>
          <p:spPr>
            <a:xfrm flipH="1">
              <a:off x="334080" y="5751360"/>
              <a:ext cx="4105080" cy="14292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439880" y="5751360"/>
              <a:ext cx="863640" cy="144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862080" y="4311720"/>
            <a:ext cx="4934160" cy="1584360"/>
            <a:chOff x="3862080" y="4311720"/>
            <a:chExt cx="4934160" cy="1584360"/>
          </a:xfrm>
        </p:grpSpPr>
        <p:grpSp>
          <p:nvGrpSpPr>
            <p:cNvPr id="573" name=""/>
            <p:cNvGrpSpPr/>
            <p:nvPr/>
          </p:nvGrpSpPr>
          <p:grpSpPr>
            <a:xfrm>
              <a:off x="3862080" y="4311720"/>
              <a:ext cx="4934160" cy="1584360"/>
              <a:chOff x="3862080" y="4311720"/>
              <a:chExt cx="4934160" cy="158436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3862080" y="5248080"/>
                <a:ext cx="1872000" cy="574560"/>
                <a:chOff x="3862080" y="5248080"/>
                <a:chExt cx="1872000" cy="57456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438800" y="5248080"/>
                  <a:ext cx="129528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3861720" y="5248080"/>
                  <a:ext cx="576360" cy="574560"/>
                </a:xfrm>
                <a:prstGeom prst="rtTriangl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2800" y="4311720"/>
                <a:ext cx="3133440" cy="1584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8" name=""/>
            <p:cNvSpPr/>
            <p:nvPr/>
          </p:nvSpPr>
          <p:spPr>
            <a:xfrm flipH="1">
              <a:off x="3861720" y="5246640"/>
              <a:ext cx="576360" cy="57456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38800" y="5248080"/>
              <a:ext cx="1296720" cy="573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719160" y="4311720"/>
            <a:ext cx="4934160" cy="1584360"/>
            <a:chOff x="3719160" y="4311720"/>
            <a:chExt cx="4934160" cy="1584360"/>
          </a:xfrm>
        </p:grpSpPr>
        <p:pic>
          <p:nvPicPr>
            <p:cNvPr id="581" name="" descr=""/>
            <p:cNvPicPr/>
            <p:nvPr/>
          </p:nvPicPr>
          <p:blipFill>
            <a:blip r:embed="rId3"/>
            <a:stretch/>
          </p:blipFill>
          <p:spPr>
            <a:xfrm>
              <a:off x="5519520" y="4311720"/>
              <a:ext cx="3133800" cy="15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2" name=""/>
            <p:cNvGrpSpPr/>
            <p:nvPr/>
          </p:nvGrpSpPr>
          <p:grpSpPr>
            <a:xfrm>
              <a:off x="3719160" y="5104080"/>
              <a:ext cx="1873440" cy="718920"/>
              <a:chOff x="3719160" y="5104080"/>
              <a:chExt cx="1873440" cy="718920"/>
            </a:xfrm>
          </p:grpSpPr>
          <p:sp>
            <p:nvSpPr>
              <p:cNvPr id="583" name=""/>
              <p:cNvSpPr/>
              <p:nvPr/>
            </p:nvSpPr>
            <p:spPr>
              <a:xfrm flipH="1">
                <a:off x="3718800" y="5104080"/>
                <a:ext cx="718920" cy="718920"/>
              </a:xfrm>
              <a:prstGeom prst="rtTriangl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40240" y="5104080"/>
                <a:ext cx="1152360" cy="7174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3575160" y="4311720"/>
            <a:ext cx="4933800" cy="1584360"/>
            <a:chOff x="3575160" y="4311720"/>
            <a:chExt cx="4933800" cy="1584360"/>
          </a:xfrm>
        </p:grpSpPr>
        <p:grpSp>
          <p:nvGrpSpPr>
            <p:cNvPr id="586" name=""/>
            <p:cNvGrpSpPr/>
            <p:nvPr/>
          </p:nvGrpSpPr>
          <p:grpSpPr>
            <a:xfrm>
              <a:off x="3575160" y="4959360"/>
              <a:ext cx="1872720" cy="863640"/>
              <a:chOff x="3575160" y="4959360"/>
              <a:chExt cx="1872720" cy="863640"/>
            </a:xfrm>
          </p:grpSpPr>
          <p:sp>
            <p:nvSpPr>
              <p:cNvPr id="587" name=""/>
              <p:cNvSpPr/>
              <p:nvPr/>
            </p:nvSpPr>
            <p:spPr>
              <a:xfrm flipH="1">
                <a:off x="3575160" y="4959360"/>
                <a:ext cx="863280" cy="863640"/>
              </a:xfrm>
              <a:prstGeom prst="rtTriangl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38440" y="4959360"/>
                <a:ext cx="1009440" cy="86184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9" name="" descr=""/>
            <p:cNvPicPr/>
            <p:nvPr/>
          </p:nvPicPr>
          <p:blipFill>
            <a:blip r:embed="rId4"/>
            <a:stretch/>
          </p:blipFill>
          <p:spPr>
            <a:xfrm>
              <a:off x="5375160" y="4311720"/>
              <a:ext cx="3133800" cy="15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0" name=""/>
          <p:cNvGrpSpPr/>
          <p:nvPr/>
        </p:nvGrpSpPr>
        <p:grpSpPr>
          <a:xfrm>
            <a:off x="3430440" y="4861080"/>
            <a:ext cx="1871640" cy="1008000"/>
            <a:chOff x="3430440" y="4861080"/>
            <a:chExt cx="1871640" cy="1008000"/>
          </a:xfrm>
        </p:grpSpPr>
        <p:sp>
          <p:nvSpPr>
            <p:cNvPr id="591" name=""/>
            <p:cNvSpPr/>
            <p:nvPr/>
          </p:nvSpPr>
          <p:spPr>
            <a:xfrm flipH="1">
              <a:off x="3430440" y="4861080"/>
              <a:ext cx="1008000" cy="100800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38440" y="4861080"/>
              <a:ext cx="863640" cy="10065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3" name="" descr=""/>
          <p:cNvPicPr/>
          <p:nvPr/>
        </p:nvPicPr>
        <p:blipFill>
          <a:blip r:embed="rId5"/>
          <a:stretch/>
        </p:blipFill>
        <p:spPr>
          <a:xfrm>
            <a:off x="5230800" y="4311720"/>
            <a:ext cx="31338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594" name=""/>
          <p:cNvGrpSpPr/>
          <p:nvPr/>
        </p:nvGrpSpPr>
        <p:grpSpPr>
          <a:xfrm>
            <a:off x="2497680" y="3878280"/>
            <a:ext cx="3920760" cy="337320"/>
            <a:chOff x="2497680" y="3878280"/>
            <a:chExt cx="3920760" cy="337320"/>
          </a:xfrm>
        </p:grpSpPr>
        <p:sp>
          <p:nvSpPr>
            <p:cNvPr id="595" name=""/>
            <p:cNvSpPr/>
            <p:nvPr/>
          </p:nvSpPr>
          <p:spPr>
            <a:xfrm>
              <a:off x="2497680" y="3878280"/>
              <a:ext cx="143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percondu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94760" y="387828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acu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334800" y="1260360"/>
            <a:ext cx="85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ink of the screening currents, in terms of a gradient in fluxoid density within the superconductor.  Pressure from the increasing external field pushes the fluxoids against the pinning force, and causes them to penetrate, with a characteristic gradient in fluxoid dens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87880" y="2151000"/>
            <a:ext cx="36720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 a certain level of field, the gradient of fluxoid density becomes unstable and collap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i="1" lang="en-GB" sz="2000" spc="-1" strike="noStrike">
                <a:solidFill>
                  <a:srgbClr val="ff0000"/>
                </a:solidFill>
                <a:latin typeface="Times New Roman"/>
              </a:rPr>
              <a:t>a flux j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10960" y="165240"/>
            <a:ext cx="8583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Flux jumping: why it hap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1800" y="1522440"/>
            <a:ext cx="47833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arises because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agnetic field induces screening currents, flowing at critical density J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41280" y="838080"/>
            <a:ext cx="829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table behaviour is shown by all type 2 and HT superconductors when subjected to a magnetic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207040" y="2421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684840" y="158256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527960" y="158256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62560" y="1735200"/>
            <a:ext cx="422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27960" y="1735200"/>
            <a:ext cx="422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684840" y="1735200"/>
            <a:ext cx="422280" cy="609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7107120" y="1734840"/>
            <a:ext cx="420840" cy="609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913720" y="18874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utiger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684840" y="2573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527960" y="2573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62560" y="272556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527960" y="272556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84840" y="2725560"/>
            <a:ext cx="4222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107120" y="2725200"/>
            <a:ext cx="42084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684840" y="2725560"/>
            <a:ext cx="422280" cy="609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7107120" y="2725560"/>
            <a:ext cx="420840" cy="609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684840" y="2725560"/>
            <a:ext cx="843120" cy="609840"/>
          </a:xfrm>
          <a:custGeom>
            <a:avLst/>
            <a:gdLst/>
            <a:ahLst/>
            <a:rect l="l" t="t" r="r" b="b"/>
            <a:pathLst>
              <a:path w="576" h="384">
                <a:moveTo>
                  <a:pt x="0" y="0"/>
                </a:moveTo>
                <a:lnTo>
                  <a:pt x="288" y="240"/>
                </a:lnTo>
                <a:lnTo>
                  <a:pt x="576" y="0"/>
                </a:lnTo>
                <a:lnTo>
                  <a:pt x="288" y="384"/>
                </a:lnTo>
                <a:lnTo>
                  <a:pt x="0" y="0"/>
                </a:lnTo>
                <a:close/>
              </a:path>
            </a:pathLst>
          </a:custGeom>
          <a:solidFill>
            <a:srgbClr val="00baba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13720" y="28782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utiger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019920" y="2572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019920" y="158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31920" y="2568600"/>
            <a:ext cx="419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ab6"/>
                </a:solidFill>
                <a:latin typeface="Arial"/>
              </a:rPr>
              <a:t>* change in screening currents allows flux to move into the supercon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78000" y="329868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flux motion dissipates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58920" y="3730680"/>
            <a:ext cx="470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rmal diffusivity in superconductors is low, so energy dissipation causes local temperature 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5280" y="4622760"/>
            <a:ext cx="43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ritical current density falls with increasing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3640" y="52624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ab6"/>
                </a:solidFill>
                <a:latin typeface="Arial"/>
              </a:rPr>
              <a:t>go to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228160" y="5040360"/>
            <a:ext cx="14040" cy="15840"/>
          </a:xfrm>
          <a:custGeom>
            <a:avLst/>
            <a:gdLst/>
            <a:ahLst/>
            <a:rect l="l" t="t" r="r" b="b"/>
            <a:pathLst>
              <a:path w="18" h="19">
                <a:moveTo>
                  <a:pt x="17" y="0"/>
                </a:moveTo>
                <a:lnTo>
                  <a:pt x="0" y="18"/>
                </a:lnTo>
                <a:lnTo>
                  <a:pt x="1" y="19"/>
                </a:lnTo>
                <a:lnTo>
                  <a:pt x="18" y="1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597720" y="6031080"/>
            <a:ext cx="14040" cy="15840"/>
          </a:xfrm>
          <a:custGeom>
            <a:avLst/>
            <a:gdLst/>
            <a:ahLst/>
            <a:rect l="l" t="t" r="r" b="b"/>
            <a:pathLst>
              <a:path w="18" h="20">
                <a:moveTo>
                  <a:pt x="17" y="0"/>
                </a:moveTo>
                <a:lnTo>
                  <a:pt x="0" y="18"/>
                </a:lnTo>
                <a:lnTo>
                  <a:pt x="1" y="20"/>
                </a:lnTo>
                <a:lnTo>
                  <a:pt x="18" y="2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435640" y="4865760"/>
            <a:ext cx="14400" cy="15840"/>
          </a:xfrm>
          <a:custGeom>
            <a:avLst/>
            <a:gdLst/>
            <a:ahLst/>
            <a:rect l="l" t="t" r="r" b="b"/>
            <a:pathLst>
              <a:path w="18" h="19">
                <a:moveTo>
                  <a:pt x="16" y="0"/>
                </a:moveTo>
                <a:lnTo>
                  <a:pt x="0" y="18"/>
                </a:lnTo>
                <a:lnTo>
                  <a:pt x="1" y="19"/>
                </a:lnTo>
                <a:lnTo>
                  <a:pt x="18" y="1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207280" y="5214960"/>
            <a:ext cx="14400" cy="15840"/>
          </a:xfrm>
          <a:custGeom>
            <a:avLst/>
            <a:gdLst/>
            <a:ahLst/>
            <a:rect l="l" t="t" r="r" b="b"/>
            <a:pathLst>
              <a:path w="18" h="19">
                <a:moveTo>
                  <a:pt x="17" y="0"/>
                </a:moveTo>
                <a:lnTo>
                  <a:pt x="0" y="18"/>
                </a:lnTo>
                <a:lnTo>
                  <a:pt x="1" y="19"/>
                </a:lnTo>
                <a:lnTo>
                  <a:pt x="18" y="1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7197840" y="4073400"/>
            <a:ext cx="963360" cy="639720"/>
            <a:chOff x="7197840" y="4073400"/>
            <a:chExt cx="963360" cy="639720"/>
          </a:xfrm>
        </p:grpSpPr>
        <p:sp>
          <p:nvSpPr>
            <p:cNvPr id="632" name=""/>
            <p:cNvSpPr/>
            <p:nvPr/>
          </p:nvSpPr>
          <p:spPr>
            <a:xfrm>
              <a:off x="7197840" y="4073400"/>
              <a:ext cx="958680" cy="636480"/>
            </a:xfrm>
            <a:custGeom>
              <a:avLst/>
              <a:gdLst/>
              <a:ahLst/>
              <a:rect l="l" t="t" r="r" b="b"/>
              <a:pathLst>
                <a:path w="1208" h="800">
                  <a:moveTo>
                    <a:pt x="1190" y="800"/>
                  </a:moveTo>
                  <a:lnTo>
                    <a:pt x="1208" y="786"/>
                  </a:lnTo>
                  <a:lnTo>
                    <a:pt x="1078" y="586"/>
                  </a:lnTo>
                  <a:lnTo>
                    <a:pt x="1077" y="584"/>
                  </a:lnTo>
                  <a:lnTo>
                    <a:pt x="898" y="405"/>
                  </a:lnTo>
                  <a:lnTo>
                    <a:pt x="897" y="403"/>
                  </a:lnTo>
                  <a:lnTo>
                    <a:pt x="678" y="247"/>
                  </a:lnTo>
                  <a:lnTo>
                    <a:pt x="677" y="246"/>
                  </a:lnTo>
                  <a:lnTo>
                    <a:pt x="425" y="119"/>
                  </a:lnTo>
                  <a:lnTo>
                    <a:pt x="424" y="119"/>
                  </a:lnTo>
                  <a:lnTo>
                    <a:pt x="144" y="26"/>
                  </a:lnTo>
                  <a:lnTo>
                    <a:pt x="142" y="26"/>
                  </a:lnTo>
                  <a:lnTo>
                    <a:pt x="3" y="0"/>
                  </a:lnTo>
                  <a:lnTo>
                    <a:pt x="0" y="23"/>
                  </a:lnTo>
                  <a:lnTo>
                    <a:pt x="138" y="50"/>
                  </a:lnTo>
                  <a:lnTo>
                    <a:pt x="140" y="37"/>
                  </a:lnTo>
                  <a:lnTo>
                    <a:pt x="137" y="50"/>
                  </a:lnTo>
                  <a:lnTo>
                    <a:pt x="417" y="143"/>
                  </a:lnTo>
                  <a:lnTo>
                    <a:pt x="420" y="130"/>
                  </a:lnTo>
                  <a:lnTo>
                    <a:pt x="415" y="142"/>
                  </a:lnTo>
                  <a:lnTo>
                    <a:pt x="667" y="268"/>
                  </a:lnTo>
                  <a:lnTo>
                    <a:pt x="672" y="257"/>
                  </a:lnTo>
                  <a:lnTo>
                    <a:pt x="665" y="268"/>
                  </a:lnTo>
                  <a:lnTo>
                    <a:pt x="884" y="424"/>
                  </a:lnTo>
                  <a:lnTo>
                    <a:pt x="890" y="413"/>
                  </a:lnTo>
                  <a:lnTo>
                    <a:pt x="883" y="423"/>
                  </a:lnTo>
                  <a:lnTo>
                    <a:pt x="1061" y="602"/>
                  </a:lnTo>
                  <a:lnTo>
                    <a:pt x="1069" y="593"/>
                  </a:lnTo>
                  <a:lnTo>
                    <a:pt x="1060" y="600"/>
                  </a:lnTo>
                  <a:lnTo>
                    <a:pt x="1190" y="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880400" y="4379760"/>
              <a:ext cx="280800" cy="333360"/>
            </a:xfrm>
            <a:custGeom>
              <a:avLst/>
              <a:gdLst/>
              <a:ahLst/>
              <a:rect l="l" t="t" r="r" b="b"/>
              <a:pathLst>
                <a:path w="352" h="421">
                  <a:moveTo>
                    <a:pt x="249" y="0"/>
                  </a:moveTo>
                  <a:lnTo>
                    <a:pt x="227" y="7"/>
                  </a:lnTo>
                  <a:lnTo>
                    <a:pt x="330" y="412"/>
                  </a:lnTo>
                  <a:lnTo>
                    <a:pt x="341" y="408"/>
                  </a:lnTo>
                  <a:lnTo>
                    <a:pt x="344" y="397"/>
                  </a:lnTo>
                  <a:lnTo>
                    <a:pt x="341" y="396"/>
                  </a:lnTo>
                  <a:lnTo>
                    <a:pt x="337" y="397"/>
                  </a:lnTo>
                  <a:lnTo>
                    <a:pt x="333" y="400"/>
                  </a:lnTo>
                  <a:lnTo>
                    <a:pt x="330" y="404"/>
                  </a:lnTo>
                  <a:lnTo>
                    <a:pt x="329" y="408"/>
                  </a:lnTo>
                  <a:lnTo>
                    <a:pt x="346" y="397"/>
                  </a:lnTo>
                  <a:lnTo>
                    <a:pt x="10" y="213"/>
                  </a:lnTo>
                  <a:lnTo>
                    <a:pt x="0" y="236"/>
                  </a:lnTo>
                  <a:lnTo>
                    <a:pt x="335" y="419"/>
                  </a:lnTo>
                  <a:lnTo>
                    <a:pt x="337" y="419"/>
                  </a:lnTo>
                  <a:lnTo>
                    <a:pt x="341" y="421"/>
                  </a:lnTo>
                  <a:lnTo>
                    <a:pt x="344" y="419"/>
                  </a:lnTo>
                  <a:lnTo>
                    <a:pt x="348" y="417"/>
                  </a:lnTo>
                  <a:lnTo>
                    <a:pt x="351" y="412"/>
                  </a:lnTo>
                  <a:lnTo>
                    <a:pt x="352" y="408"/>
                  </a:lnTo>
                  <a:lnTo>
                    <a:pt x="352" y="405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5497560" y="3995640"/>
            <a:ext cx="1027080" cy="714600"/>
            <a:chOff x="5497560" y="3995640"/>
            <a:chExt cx="1027080" cy="714600"/>
          </a:xfrm>
        </p:grpSpPr>
        <p:sp>
          <p:nvSpPr>
            <p:cNvPr id="635" name=""/>
            <p:cNvSpPr/>
            <p:nvPr/>
          </p:nvSpPr>
          <p:spPr>
            <a:xfrm>
              <a:off x="5497560" y="4068720"/>
              <a:ext cx="992160" cy="641520"/>
            </a:xfrm>
            <a:custGeom>
              <a:avLst/>
              <a:gdLst/>
              <a:ahLst/>
              <a:rect l="l" t="t" r="r" b="b"/>
              <a:pathLst>
                <a:path w="1250" h="807">
                  <a:moveTo>
                    <a:pt x="1250" y="23"/>
                  </a:moveTo>
                  <a:lnTo>
                    <a:pt x="1246" y="0"/>
                  </a:lnTo>
                  <a:lnTo>
                    <a:pt x="1067" y="34"/>
                  </a:lnTo>
                  <a:lnTo>
                    <a:pt x="1066" y="34"/>
                  </a:lnTo>
                  <a:lnTo>
                    <a:pt x="785" y="126"/>
                  </a:lnTo>
                  <a:lnTo>
                    <a:pt x="783" y="126"/>
                  </a:lnTo>
                  <a:lnTo>
                    <a:pt x="530" y="253"/>
                  </a:lnTo>
                  <a:lnTo>
                    <a:pt x="528" y="254"/>
                  </a:lnTo>
                  <a:lnTo>
                    <a:pt x="310" y="410"/>
                  </a:lnTo>
                  <a:lnTo>
                    <a:pt x="309" y="412"/>
                  </a:lnTo>
                  <a:lnTo>
                    <a:pt x="131" y="593"/>
                  </a:lnTo>
                  <a:lnTo>
                    <a:pt x="130" y="594"/>
                  </a:lnTo>
                  <a:lnTo>
                    <a:pt x="0" y="793"/>
                  </a:lnTo>
                  <a:lnTo>
                    <a:pt x="18" y="807"/>
                  </a:lnTo>
                  <a:lnTo>
                    <a:pt x="148" y="608"/>
                  </a:lnTo>
                  <a:lnTo>
                    <a:pt x="139" y="601"/>
                  </a:lnTo>
                  <a:lnTo>
                    <a:pt x="147" y="611"/>
                  </a:lnTo>
                  <a:lnTo>
                    <a:pt x="324" y="430"/>
                  </a:lnTo>
                  <a:lnTo>
                    <a:pt x="316" y="420"/>
                  </a:lnTo>
                  <a:lnTo>
                    <a:pt x="323" y="431"/>
                  </a:lnTo>
                  <a:lnTo>
                    <a:pt x="541" y="275"/>
                  </a:lnTo>
                  <a:lnTo>
                    <a:pt x="535" y="264"/>
                  </a:lnTo>
                  <a:lnTo>
                    <a:pt x="540" y="275"/>
                  </a:lnTo>
                  <a:lnTo>
                    <a:pt x="793" y="149"/>
                  </a:lnTo>
                  <a:lnTo>
                    <a:pt x="788" y="137"/>
                  </a:lnTo>
                  <a:lnTo>
                    <a:pt x="792" y="150"/>
                  </a:lnTo>
                  <a:lnTo>
                    <a:pt x="1072" y="58"/>
                  </a:lnTo>
                  <a:lnTo>
                    <a:pt x="1068" y="46"/>
                  </a:lnTo>
                  <a:lnTo>
                    <a:pt x="1071" y="58"/>
                  </a:lnTo>
                  <a:lnTo>
                    <a:pt x="12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211800" y="3995640"/>
              <a:ext cx="312840" cy="274680"/>
            </a:xfrm>
            <a:custGeom>
              <a:avLst/>
              <a:gdLst/>
              <a:ahLst/>
              <a:rect l="l" t="t" r="r" b="b"/>
              <a:pathLst>
                <a:path w="393" h="345">
                  <a:moveTo>
                    <a:pt x="5" y="0"/>
                  </a:moveTo>
                  <a:lnTo>
                    <a:pt x="0" y="23"/>
                  </a:lnTo>
                  <a:lnTo>
                    <a:pt x="379" y="107"/>
                  </a:lnTo>
                  <a:lnTo>
                    <a:pt x="382" y="94"/>
                  </a:lnTo>
                  <a:lnTo>
                    <a:pt x="374" y="86"/>
                  </a:lnTo>
                  <a:lnTo>
                    <a:pt x="371" y="90"/>
                  </a:lnTo>
                  <a:lnTo>
                    <a:pt x="370" y="94"/>
                  </a:lnTo>
                  <a:lnTo>
                    <a:pt x="371" y="99"/>
                  </a:lnTo>
                  <a:lnTo>
                    <a:pt x="374" y="103"/>
                  </a:lnTo>
                  <a:lnTo>
                    <a:pt x="378" y="106"/>
                  </a:lnTo>
                  <a:lnTo>
                    <a:pt x="375" y="85"/>
                  </a:lnTo>
                  <a:lnTo>
                    <a:pt x="72" y="326"/>
                  </a:lnTo>
                  <a:lnTo>
                    <a:pt x="85" y="345"/>
                  </a:lnTo>
                  <a:lnTo>
                    <a:pt x="388" y="104"/>
                  </a:lnTo>
                  <a:lnTo>
                    <a:pt x="389" y="103"/>
                  </a:lnTo>
                  <a:lnTo>
                    <a:pt x="392" y="99"/>
                  </a:lnTo>
                  <a:lnTo>
                    <a:pt x="393" y="94"/>
                  </a:lnTo>
                  <a:lnTo>
                    <a:pt x="392" y="90"/>
                  </a:lnTo>
                  <a:lnTo>
                    <a:pt x="389" y="86"/>
                  </a:lnTo>
                  <a:lnTo>
                    <a:pt x="386" y="83"/>
                  </a:lnTo>
                  <a:lnTo>
                    <a:pt x="384" y="8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7172280" y="5386320"/>
            <a:ext cx="984240" cy="690120"/>
            <a:chOff x="7172280" y="5386320"/>
            <a:chExt cx="984240" cy="690120"/>
          </a:xfrm>
        </p:grpSpPr>
        <p:sp>
          <p:nvSpPr>
            <p:cNvPr id="638" name=""/>
            <p:cNvSpPr/>
            <p:nvPr/>
          </p:nvSpPr>
          <p:spPr>
            <a:xfrm>
              <a:off x="7184880" y="5386320"/>
              <a:ext cx="971640" cy="637920"/>
            </a:xfrm>
            <a:custGeom>
              <a:avLst/>
              <a:gdLst/>
              <a:ahLst/>
              <a:rect l="l" t="t" r="r" b="b"/>
              <a:pathLst>
                <a:path w="1224" h="805">
                  <a:moveTo>
                    <a:pt x="0" y="781"/>
                  </a:moveTo>
                  <a:lnTo>
                    <a:pt x="4" y="805"/>
                  </a:lnTo>
                  <a:lnTo>
                    <a:pt x="158" y="776"/>
                  </a:lnTo>
                  <a:lnTo>
                    <a:pt x="160" y="776"/>
                  </a:lnTo>
                  <a:lnTo>
                    <a:pt x="440" y="682"/>
                  </a:lnTo>
                  <a:lnTo>
                    <a:pt x="441" y="681"/>
                  </a:lnTo>
                  <a:lnTo>
                    <a:pt x="693" y="554"/>
                  </a:lnTo>
                  <a:lnTo>
                    <a:pt x="694" y="554"/>
                  </a:lnTo>
                  <a:lnTo>
                    <a:pt x="913" y="398"/>
                  </a:lnTo>
                  <a:lnTo>
                    <a:pt x="914" y="397"/>
                  </a:lnTo>
                  <a:lnTo>
                    <a:pt x="1093" y="217"/>
                  </a:lnTo>
                  <a:lnTo>
                    <a:pt x="1094" y="215"/>
                  </a:lnTo>
                  <a:lnTo>
                    <a:pt x="1224" y="14"/>
                  </a:lnTo>
                  <a:lnTo>
                    <a:pt x="1206" y="0"/>
                  </a:lnTo>
                  <a:lnTo>
                    <a:pt x="1076" y="201"/>
                  </a:lnTo>
                  <a:lnTo>
                    <a:pt x="1085" y="208"/>
                  </a:lnTo>
                  <a:lnTo>
                    <a:pt x="1077" y="199"/>
                  </a:lnTo>
                  <a:lnTo>
                    <a:pt x="899" y="379"/>
                  </a:lnTo>
                  <a:lnTo>
                    <a:pt x="906" y="387"/>
                  </a:lnTo>
                  <a:lnTo>
                    <a:pt x="900" y="378"/>
                  </a:lnTo>
                  <a:lnTo>
                    <a:pt x="681" y="534"/>
                  </a:lnTo>
                  <a:lnTo>
                    <a:pt x="688" y="543"/>
                  </a:lnTo>
                  <a:lnTo>
                    <a:pt x="683" y="532"/>
                  </a:lnTo>
                  <a:lnTo>
                    <a:pt x="431" y="659"/>
                  </a:lnTo>
                  <a:lnTo>
                    <a:pt x="436" y="670"/>
                  </a:lnTo>
                  <a:lnTo>
                    <a:pt x="433" y="659"/>
                  </a:lnTo>
                  <a:lnTo>
                    <a:pt x="153" y="752"/>
                  </a:lnTo>
                  <a:lnTo>
                    <a:pt x="156" y="763"/>
                  </a:lnTo>
                  <a:lnTo>
                    <a:pt x="154" y="752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72280" y="5805360"/>
              <a:ext cx="314280" cy="271080"/>
            </a:xfrm>
            <a:custGeom>
              <a:avLst/>
              <a:gdLst/>
              <a:ahLst/>
              <a:rect l="l" t="t" r="r" b="b"/>
              <a:pathLst>
                <a:path w="396" h="343">
                  <a:moveTo>
                    <a:pt x="393" y="343"/>
                  </a:moveTo>
                  <a:lnTo>
                    <a:pt x="396" y="319"/>
                  </a:lnTo>
                  <a:lnTo>
                    <a:pt x="15" y="257"/>
                  </a:lnTo>
                  <a:lnTo>
                    <a:pt x="12" y="268"/>
                  </a:lnTo>
                  <a:lnTo>
                    <a:pt x="20" y="276"/>
                  </a:lnTo>
                  <a:lnTo>
                    <a:pt x="22" y="272"/>
                  </a:lnTo>
                  <a:lnTo>
                    <a:pt x="24" y="268"/>
                  </a:lnTo>
                  <a:lnTo>
                    <a:pt x="22" y="263"/>
                  </a:lnTo>
                  <a:lnTo>
                    <a:pt x="20" y="259"/>
                  </a:lnTo>
                  <a:lnTo>
                    <a:pt x="16" y="257"/>
                  </a:lnTo>
                  <a:lnTo>
                    <a:pt x="20" y="277"/>
                  </a:lnTo>
                  <a:lnTo>
                    <a:pt x="310" y="20"/>
                  </a:lnTo>
                  <a:lnTo>
                    <a:pt x="296" y="0"/>
                  </a:lnTo>
                  <a:lnTo>
                    <a:pt x="6" y="258"/>
                  </a:lnTo>
                  <a:lnTo>
                    <a:pt x="4" y="259"/>
                  </a:lnTo>
                  <a:lnTo>
                    <a:pt x="2" y="263"/>
                  </a:lnTo>
                  <a:lnTo>
                    <a:pt x="0" y="268"/>
                  </a:lnTo>
                  <a:lnTo>
                    <a:pt x="2" y="272"/>
                  </a:lnTo>
                  <a:lnTo>
                    <a:pt x="4" y="276"/>
                  </a:lnTo>
                  <a:lnTo>
                    <a:pt x="8" y="279"/>
                  </a:lnTo>
                  <a:lnTo>
                    <a:pt x="11" y="280"/>
                  </a:lnTo>
                  <a:lnTo>
                    <a:pt x="393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478480" y="5375160"/>
            <a:ext cx="1000080" cy="650880"/>
            <a:chOff x="5478480" y="5375160"/>
            <a:chExt cx="1000080" cy="650880"/>
          </a:xfrm>
        </p:grpSpPr>
        <p:sp>
          <p:nvSpPr>
            <p:cNvPr id="641" name=""/>
            <p:cNvSpPr/>
            <p:nvPr/>
          </p:nvSpPr>
          <p:spPr>
            <a:xfrm>
              <a:off x="5497560" y="5386320"/>
              <a:ext cx="981000" cy="639720"/>
            </a:xfrm>
            <a:custGeom>
              <a:avLst/>
              <a:gdLst/>
              <a:ahLst/>
              <a:rect l="l" t="t" r="r" b="b"/>
              <a:pathLst>
                <a:path w="1234" h="806">
                  <a:moveTo>
                    <a:pt x="18" y="0"/>
                  </a:moveTo>
                  <a:lnTo>
                    <a:pt x="0" y="14"/>
                  </a:lnTo>
                  <a:lnTo>
                    <a:pt x="130" y="215"/>
                  </a:lnTo>
                  <a:lnTo>
                    <a:pt x="131" y="217"/>
                  </a:lnTo>
                  <a:lnTo>
                    <a:pt x="309" y="397"/>
                  </a:lnTo>
                  <a:lnTo>
                    <a:pt x="310" y="398"/>
                  </a:lnTo>
                  <a:lnTo>
                    <a:pt x="528" y="554"/>
                  </a:lnTo>
                  <a:lnTo>
                    <a:pt x="530" y="554"/>
                  </a:lnTo>
                  <a:lnTo>
                    <a:pt x="783" y="681"/>
                  </a:lnTo>
                  <a:lnTo>
                    <a:pt x="785" y="682"/>
                  </a:lnTo>
                  <a:lnTo>
                    <a:pt x="1066" y="776"/>
                  </a:lnTo>
                  <a:lnTo>
                    <a:pt x="1067" y="776"/>
                  </a:lnTo>
                  <a:lnTo>
                    <a:pt x="1230" y="806"/>
                  </a:lnTo>
                  <a:lnTo>
                    <a:pt x="1234" y="783"/>
                  </a:lnTo>
                  <a:lnTo>
                    <a:pt x="1071" y="752"/>
                  </a:lnTo>
                  <a:lnTo>
                    <a:pt x="1068" y="763"/>
                  </a:lnTo>
                  <a:lnTo>
                    <a:pt x="1072" y="752"/>
                  </a:lnTo>
                  <a:lnTo>
                    <a:pt x="792" y="659"/>
                  </a:lnTo>
                  <a:lnTo>
                    <a:pt x="788" y="670"/>
                  </a:lnTo>
                  <a:lnTo>
                    <a:pt x="793" y="659"/>
                  </a:lnTo>
                  <a:lnTo>
                    <a:pt x="540" y="532"/>
                  </a:lnTo>
                  <a:lnTo>
                    <a:pt x="535" y="543"/>
                  </a:lnTo>
                  <a:lnTo>
                    <a:pt x="541" y="534"/>
                  </a:lnTo>
                  <a:lnTo>
                    <a:pt x="323" y="378"/>
                  </a:lnTo>
                  <a:lnTo>
                    <a:pt x="316" y="387"/>
                  </a:lnTo>
                  <a:lnTo>
                    <a:pt x="324" y="379"/>
                  </a:lnTo>
                  <a:lnTo>
                    <a:pt x="147" y="199"/>
                  </a:lnTo>
                  <a:lnTo>
                    <a:pt x="139" y="208"/>
                  </a:lnTo>
                  <a:lnTo>
                    <a:pt x="148" y="20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78480" y="5375160"/>
              <a:ext cx="285840" cy="331920"/>
            </a:xfrm>
            <a:custGeom>
              <a:avLst/>
              <a:gdLst/>
              <a:ahLst/>
              <a:rect l="l" t="t" r="r" b="b"/>
              <a:pathLst>
                <a:path w="358" h="416">
                  <a:moveTo>
                    <a:pt x="117" y="416"/>
                  </a:moveTo>
                  <a:lnTo>
                    <a:pt x="138" y="408"/>
                  </a:lnTo>
                  <a:lnTo>
                    <a:pt x="23" y="8"/>
                  </a:lnTo>
                  <a:lnTo>
                    <a:pt x="11" y="12"/>
                  </a:lnTo>
                  <a:lnTo>
                    <a:pt x="7" y="23"/>
                  </a:lnTo>
                  <a:lnTo>
                    <a:pt x="11" y="25"/>
                  </a:lnTo>
                  <a:lnTo>
                    <a:pt x="15" y="23"/>
                  </a:lnTo>
                  <a:lnTo>
                    <a:pt x="19" y="21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6" y="23"/>
                  </a:lnTo>
                  <a:lnTo>
                    <a:pt x="348" y="195"/>
                  </a:lnTo>
                  <a:lnTo>
                    <a:pt x="358" y="17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117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6593040" y="3794040"/>
            <a:ext cx="51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53160" y="3819600"/>
            <a:ext cx="441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1" lang="en-US" sz="2500" spc="-1" strike="noStrike">
                <a:solidFill>
                  <a:srgbClr val="ff00ff"/>
                </a:solidFill>
                <a:latin typeface="Times New Roman"/>
              </a:rPr>
              <a:t>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32440" y="3855960"/>
            <a:ext cx="1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004240" y="4721400"/>
            <a:ext cx="450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062920" y="474660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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534000" y="5729400"/>
            <a:ext cx="5986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593040" y="5791320"/>
            <a:ext cx="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1320" y="5754600"/>
            <a:ext cx="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70600" y="5791320"/>
            <a:ext cx="1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85080" y="5964120"/>
            <a:ext cx="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221440" y="4749840"/>
            <a:ext cx="4521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281560" y="477504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ab6"/>
                </a:solidFill>
                <a:latin typeface="Symbol"/>
                <a:ea typeface="Symbol"/>
              </a:rPr>
              <a:t>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456400" y="6073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567480" y="5738760"/>
            <a:ext cx="66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Times New Roman"/>
              </a:rPr>
              <a:t>J</a:t>
            </a:r>
            <a:r>
              <a:rPr b="1" lang="en-GB" sz="2400" spc="-1" strike="noStrike" baseline="-25000">
                <a:solidFill>
                  <a:srgbClr val="cc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39840" y="5608800"/>
            <a:ext cx="4641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re flux jumping by making superconductor in the form of fine filaments – weaken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bab6"/>
                </a:solidFill>
                <a:latin typeface="Symbol"/>
                <a:ea typeface="Symbol"/>
              </a:rPr>
              <a:t>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</a:t>
            </a:r>
            <a:r>
              <a:rPr b="1" lang="en-GB" sz="1800" spc="-1" strike="noStrike">
                <a:solidFill>
                  <a:srgbClr val="cc3399"/>
                </a:solidFill>
                <a:latin typeface="Symbol"/>
                <a:ea typeface="Symbol"/>
              </a:rPr>
              <a:t></a:t>
            </a:r>
            <a:r>
              <a:rPr b="1" lang="en-GB" sz="1800" spc="-1" strike="noStrike">
                <a:solidFill>
                  <a:srgbClr val="cc3399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85760" y="109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AC Losses: fully penetrated </a:t>
            </a:r>
            <a:r>
              <a:rPr b="0" i="1" lang="en-GB" sz="2400" spc="-1" strike="noStrike">
                <a:solidFill>
                  <a:srgbClr val="333399"/>
                </a:solidFill>
                <a:latin typeface="Lucida Bright"/>
              </a:rPr>
              <a:t>(large field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4000" y="838080"/>
            <a:ext cx="58147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though they have no loss in the steady state, all superconductors dissipate energy in changing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ysically the reason is that changing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magneti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ield produces an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electri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ield in the superconductor, which drives the current density beyond critic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09600" y="2205000"/>
            <a:ext cx="8480520" cy="3561480"/>
            <a:chOff x="309600" y="2205000"/>
            <a:chExt cx="8480520" cy="3561480"/>
          </a:xfrm>
        </p:grpSpPr>
        <p:sp>
          <p:nvSpPr>
            <p:cNvPr id="661" name=""/>
            <p:cNvSpPr/>
            <p:nvPr/>
          </p:nvSpPr>
          <p:spPr>
            <a:xfrm>
              <a:off x="8318520" y="30909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33760" y="542916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309600" y="2205000"/>
              <a:ext cx="8480520" cy="3483000"/>
              <a:chOff x="309600" y="2205000"/>
              <a:chExt cx="8480520" cy="348300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5915160" y="3081240"/>
                <a:ext cx="2874960" cy="2606760"/>
                <a:chOff x="5915160" y="3081240"/>
                <a:chExt cx="2874960" cy="260676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7799400" y="3081240"/>
                  <a:ext cx="0" cy="199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883640" y="3083040"/>
                  <a:ext cx="0" cy="198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7403760" y="491328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684560" y="51688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d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315200" y="520848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0" name=""/>
                <p:cNvGrpSpPr/>
                <p:nvPr/>
              </p:nvGrpSpPr>
              <p:grpSpPr>
                <a:xfrm>
                  <a:off x="5915160" y="3090960"/>
                  <a:ext cx="2874960" cy="2597040"/>
                  <a:chOff x="5915160" y="3090960"/>
                  <a:chExt cx="2874960" cy="259704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6275520" y="3090960"/>
                    <a:ext cx="0" cy="2597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5915160" y="3900600"/>
                    <a:ext cx="2782440" cy="1123560"/>
                    <a:chOff x="5915160" y="3900600"/>
                    <a:chExt cx="2782440" cy="112356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5915160" y="3904920"/>
                      <a:ext cx="370080" cy="0"/>
                    </a:xfrm>
                    <a:prstGeom prst="line">
                      <a:avLst/>
                    </a:prstGeom>
                    <a:ln w="19080">
                      <a:solidFill>
                        <a:srgbClr val="4141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8327520" y="3906360"/>
                      <a:ext cx="370080" cy="0"/>
                    </a:xfrm>
                    <a:prstGeom prst="line">
                      <a:avLst/>
                    </a:prstGeom>
                    <a:ln w="19080">
                      <a:solidFill>
                        <a:srgbClr val="4141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6276960" y="3900600"/>
                      <a:ext cx="1028880" cy="1117800"/>
                    </a:xfrm>
                    <a:prstGeom prst="line">
                      <a:avLst/>
                    </a:prstGeom>
                    <a:ln w="19080">
                      <a:solidFill>
                        <a:srgbClr val="4141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flipH="1">
                      <a:off x="7298640" y="3906360"/>
                      <a:ext cx="1028880" cy="1117800"/>
                    </a:xfrm>
                    <a:prstGeom prst="line">
                      <a:avLst/>
                    </a:prstGeom>
                    <a:ln w="19080">
                      <a:solidFill>
                        <a:srgbClr val="4141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7" name=""/>
                  <p:cNvSpPr/>
                  <p:nvPr/>
                </p:nvSpPr>
                <p:spPr>
                  <a:xfrm>
                    <a:off x="8473680" y="484344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B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V="1">
                    <a:off x="8612280" y="4430520"/>
                    <a:ext cx="0" cy="2761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9" name=""/>
                <p:cNvSpPr/>
                <p:nvPr/>
              </p:nvSpPr>
              <p:spPr>
                <a:xfrm>
                  <a:off x="7292880" y="5477040"/>
                  <a:ext cx="102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0" name=""/>
              <p:cNvSpPr/>
              <p:nvPr/>
            </p:nvSpPr>
            <p:spPr>
              <a:xfrm>
                <a:off x="309600" y="2205000"/>
                <a:ext cx="538308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82520" indent="-182520"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creening currents induced in slab by external field, consider 'sub slab' at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 width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dx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1" name=""/>
          <p:cNvGrpSpPr/>
          <p:nvPr/>
        </p:nvGrpSpPr>
        <p:grpSpPr>
          <a:xfrm>
            <a:off x="325440" y="2838600"/>
            <a:ext cx="8521920" cy="1485360"/>
            <a:chOff x="325440" y="2838600"/>
            <a:chExt cx="8521920" cy="1485360"/>
          </a:xfrm>
        </p:grpSpPr>
        <p:grpSp>
          <p:nvGrpSpPr>
            <p:cNvPr id="682" name=""/>
            <p:cNvGrpSpPr/>
            <p:nvPr/>
          </p:nvGrpSpPr>
          <p:grpSpPr>
            <a:xfrm>
              <a:off x="5916600" y="3201840"/>
              <a:ext cx="2930760" cy="1122120"/>
              <a:chOff x="5916600" y="3201840"/>
              <a:chExt cx="2930760" cy="112212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5916600" y="3201840"/>
                <a:ext cx="2781000" cy="1122120"/>
                <a:chOff x="5916600" y="3201840"/>
                <a:chExt cx="2781000" cy="11221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5916600" y="3205800"/>
                  <a:ext cx="370080" cy="0"/>
                </a:xfrm>
                <a:prstGeom prst="line">
                  <a:avLst/>
                </a:prstGeom>
                <a:ln w="19080">
                  <a:solidFill>
                    <a:srgbClr val="414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327520" y="3207600"/>
                  <a:ext cx="370080" cy="0"/>
                </a:xfrm>
                <a:prstGeom prst="line">
                  <a:avLst/>
                </a:prstGeom>
                <a:ln w="19080">
                  <a:solidFill>
                    <a:srgbClr val="414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278040" y="3201840"/>
                  <a:ext cx="1028160" cy="1116360"/>
                </a:xfrm>
                <a:prstGeom prst="line">
                  <a:avLst/>
                </a:prstGeom>
                <a:ln w="19080">
                  <a:solidFill>
                    <a:srgbClr val="414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>
                  <a:off x="7299360" y="3207600"/>
                  <a:ext cx="1028160" cy="1116360"/>
                </a:xfrm>
                <a:prstGeom prst="line">
                  <a:avLst/>
                </a:prstGeom>
                <a:ln w="19080">
                  <a:solidFill>
                    <a:srgbClr val="414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8407440" y="3352680"/>
                <a:ext cx="43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GB" sz="16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325440" y="2838600"/>
              <a:ext cx="538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rnal field changes </a:t>
              </a: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07800" y="3089160"/>
            <a:ext cx="7556760" cy="2583000"/>
            <a:chOff x="307800" y="3089160"/>
            <a:chExt cx="7556760" cy="2583000"/>
          </a:xfrm>
        </p:grpSpPr>
        <p:grpSp>
          <p:nvGrpSpPr>
            <p:cNvPr id="691" name=""/>
            <p:cNvGrpSpPr/>
            <p:nvPr/>
          </p:nvGrpSpPr>
          <p:grpSpPr>
            <a:xfrm>
              <a:off x="307800" y="3089160"/>
              <a:ext cx="7556760" cy="2583000"/>
              <a:chOff x="307800" y="3089160"/>
              <a:chExt cx="7556760" cy="2583000"/>
            </a:xfrm>
          </p:grpSpPr>
          <p:grpSp>
            <p:nvGrpSpPr>
              <p:cNvPr id="692" name=""/>
              <p:cNvGrpSpPr/>
              <p:nvPr/>
            </p:nvGrpSpPr>
            <p:grpSpPr>
              <a:xfrm>
                <a:off x="7304040" y="3089160"/>
                <a:ext cx="560520" cy="2583000"/>
                <a:chOff x="7304040" y="3089160"/>
                <a:chExt cx="560520" cy="25830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7315200" y="3722760"/>
                  <a:ext cx="549360" cy="1271520"/>
                </a:xfrm>
                <a:custGeom>
                  <a:avLst/>
                  <a:gdLst/>
                  <a:ahLst/>
                  <a:rect l="l" t="t" r="r" b="b"/>
                  <a:pathLst>
                    <a:path w="375" h="882">
                      <a:moveTo>
                        <a:pt x="0" y="411"/>
                      </a:moveTo>
                      <a:lnTo>
                        <a:pt x="0" y="882"/>
                      </a:lnTo>
                      <a:lnTo>
                        <a:pt x="375" y="468"/>
                      </a:lnTo>
                      <a:lnTo>
                        <a:pt x="375" y="0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7304040" y="3089160"/>
                  <a:ext cx="0" cy="258300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5" name=""/>
              <p:cNvSpPr/>
              <p:nvPr/>
            </p:nvSpPr>
            <p:spPr>
              <a:xfrm>
                <a:off x="307800" y="3178080"/>
                <a:ext cx="53834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82520" indent="-182520"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change in flux linked between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 and </a:t>
                </a:r>
                <a:r>
                  <a:rPr b="1" i="1" lang="en-GB" sz="1600" spc="-1" strike="noStrike">
                    <a:solidFill>
                      <a:srgbClr val="ff00ff"/>
                    </a:solidFill>
                    <a:latin typeface="Arial"/>
                  </a:rPr>
                  <a:t>electric centre li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96" name=""/>
                <p:cNvSpPr txBox="1"/>
                <p:nvPr/>
              </p:nvSpPr>
              <p:spPr>
                <a:xfrm>
                  <a:off x="1639800" y="3606840"/>
                  <a:ext cx="132876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φ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ΔB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7" name=""/>
          <p:cNvGrpSpPr/>
          <p:nvPr/>
        </p:nvGrpSpPr>
        <p:grpSpPr>
          <a:xfrm>
            <a:off x="343080" y="3983040"/>
            <a:ext cx="5383080" cy="731880"/>
            <a:chOff x="343080" y="3983040"/>
            <a:chExt cx="5383080" cy="731880"/>
          </a:xfrm>
        </p:grpSpPr>
        <p:sp>
          <p:nvSpPr>
            <p:cNvPr id="698" name=""/>
            <p:cNvSpPr/>
            <p:nvPr/>
          </p:nvSpPr>
          <p:spPr>
            <a:xfrm>
              <a:off x="343080" y="3983040"/>
              <a:ext cx="538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nergy dissipated within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dx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per unit height and lengt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1595520" y="4390920"/>
                  <a:ext cx="280836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q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Δφ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ΔB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0" name=""/>
          <p:cNvGrpSpPr/>
          <p:nvPr/>
        </p:nvGrpSpPr>
        <p:grpSpPr>
          <a:xfrm>
            <a:off x="343080" y="4848120"/>
            <a:ext cx="5383080" cy="998640"/>
            <a:chOff x="343080" y="4848120"/>
            <a:chExt cx="5383080" cy="998640"/>
          </a:xfrm>
        </p:grpSpPr>
        <p:sp>
          <p:nvSpPr>
            <p:cNvPr id="701" name=""/>
            <p:cNvSpPr/>
            <p:nvPr/>
          </p:nvSpPr>
          <p:spPr>
            <a:xfrm>
              <a:off x="343080" y="4848120"/>
              <a:ext cx="538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otal energy dissipated per unit volume of sla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1582560" y="5110200"/>
                  <a:ext cx="24973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a</m:t>
                          </m:r>
                        </m:sup>
                        <m:e>
                          <m:r>
                            <m:t xml:space="preserve">Δq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ΔB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6366240" y="774720"/>
            <a:ext cx="2341080" cy="1797840"/>
            <a:chOff x="6366240" y="774720"/>
            <a:chExt cx="2341080" cy="1797840"/>
          </a:xfrm>
        </p:grpSpPr>
        <p:sp>
          <p:nvSpPr>
            <p:cNvPr id="704" name=""/>
            <p:cNvSpPr/>
            <p:nvPr/>
          </p:nvSpPr>
          <p:spPr>
            <a:xfrm>
              <a:off x="6740640" y="789120"/>
              <a:ext cx="0" cy="140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740640" y="2198520"/>
              <a:ext cx="19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66240" y="12700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16880" y="223524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69160" y="1463760"/>
              <a:ext cx="376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imes New Roman"/>
                </a:rPr>
                <a:t>J</a:t>
              </a:r>
              <a:r>
                <a:rPr b="1" lang="en-GB" sz="1600" spc="-1" strike="noStrike" baseline="-25000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8062920" y="1846440"/>
              <a:ext cx="0" cy="352080"/>
            </a:xfrm>
            <a:prstGeom prst="line">
              <a:avLst/>
            </a:prstGeom>
            <a:ln w="284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46760" y="774720"/>
              <a:ext cx="1527120" cy="1328760"/>
            </a:xfrm>
            <a:custGeom>
              <a:avLst/>
              <a:gdLst/>
              <a:ahLst/>
              <a:rect l="l" t="t" r="r" b="b"/>
              <a:pathLst>
                <a:path w="956" h="837">
                  <a:moveTo>
                    <a:pt x="0" y="832"/>
                  </a:moveTo>
                  <a:cubicBezTo>
                    <a:pt x="300" y="832"/>
                    <a:pt x="600" y="833"/>
                    <a:pt x="730" y="834"/>
                  </a:cubicBezTo>
                  <a:cubicBezTo>
                    <a:pt x="860" y="835"/>
                    <a:pt x="765" y="836"/>
                    <a:pt x="780" y="836"/>
                  </a:cubicBezTo>
                  <a:cubicBezTo>
                    <a:pt x="795" y="836"/>
                    <a:pt x="806" y="837"/>
                    <a:pt x="818" y="834"/>
                  </a:cubicBezTo>
                  <a:cubicBezTo>
                    <a:pt x="830" y="831"/>
                    <a:pt x="841" y="826"/>
                    <a:pt x="850" y="820"/>
                  </a:cubicBezTo>
                  <a:cubicBezTo>
                    <a:pt x="859" y="814"/>
                    <a:pt x="866" y="808"/>
                    <a:pt x="872" y="798"/>
                  </a:cubicBezTo>
                  <a:cubicBezTo>
                    <a:pt x="878" y="788"/>
                    <a:pt x="882" y="779"/>
                    <a:pt x="886" y="760"/>
                  </a:cubicBezTo>
                  <a:cubicBezTo>
                    <a:pt x="890" y="741"/>
                    <a:pt x="894" y="724"/>
                    <a:pt x="898" y="686"/>
                  </a:cubicBezTo>
                  <a:cubicBezTo>
                    <a:pt x="902" y="648"/>
                    <a:pt x="907" y="596"/>
                    <a:pt x="912" y="534"/>
                  </a:cubicBezTo>
                  <a:cubicBezTo>
                    <a:pt x="917" y="472"/>
                    <a:pt x="921" y="401"/>
                    <a:pt x="928" y="312"/>
                  </a:cubicBezTo>
                  <a:cubicBezTo>
                    <a:pt x="935" y="223"/>
                    <a:pt x="945" y="111"/>
                    <a:pt x="95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559560" y="791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047080" y="2401920"/>
              <a:ext cx="31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018960" y="5888160"/>
            <a:ext cx="24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- hence fine fila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Lucida Bright"/>
              </a:rPr>
              <a:t>Magnetization </a:t>
            </a:r>
            <a:endParaRPr b="0" i="1" lang="en-US" sz="3200" spc="-1" strike="noStrike">
              <a:solidFill>
                <a:srgbClr val="333399"/>
              </a:solidFill>
              <a:latin typeface="Lucida Bright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10098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cylindrical filaments the inner current boundary is roughly elliptical (controversi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rcRect l="0" t="0" r="2603" b="0"/>
          <a:stretch/>
        </p:blipFill>
        <p:spPr>
          <a:xfrm>
            <a:off x="3581280" y="1542960"/>
            <a:ext cx="4038840" cy="271152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4345920" y="4589640"/>
            <a:ext cx="40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n fully penetrated, the magnetization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5867280" y="5113440"/>
                <a:ext cx="1368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4422600" y="588492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re a = filament rad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1319040" y="2681280"/>
                <a:ext cx="1165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36400" y="5191200"/>
                <a:ext cx="21639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>
            <a:off x="380880" y="857160"/>
            <a:ext cx="275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n viewed from outside the sample, the persistent currents produce a magnetic moment.  We can thus define a magnetiz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990720" y="4210200"/>
            <a:ext cx="1218960" cy="761760"/>
            <a:chOff x="990720" y="4210200"/>
            <a:chExt cx="1218960" cy="761760"/>
          </a:xfrm>
        </p:grpSpPr>
        <p:sp>
          <p:nvSpPr>
            <p:cNvPr id="724" name=""/>
            <p:cNvSpPr/>
            <p:nvPr/>
          </p:nvSpPr>
          <p:spPr>
            <a:xfrm>
              <a:off x="1219320" y="421020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81080" y="421020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90720" y="4438800"/>
              <a:ext cx="228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19320" y="4438800"/>
              <a:ext cx="380880" cy="3808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600200" y="4438800"/>
              <a:ext cx="380880" cy="3808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81080" y="4438800"/>
              <a:ext cx="228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357120" y="3676680"/>
            <a:ext cx="24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a fully penetrated s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7619760" y="3371760"/>
            <a:ext cx="1066680" cy="533520"/>
            <a:chOff x="7619760" y="3371760"/>
            <a:chExt cx="1066680" cy="533520"/>
          </a:xfrm>
        </p:grpSpPr>
        <p:sp>
          <p:nvSpPr>
            <p:cNvPr id="732" name=""/>
            <p:cNvSpPr/>
            <p:nvPr/>
          </p:nvSpPr>
          <p:spPr>
            <a:xfrm>
              <a:off x="7783920" y="33717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522640" y="33717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783920" y="3448080"/>
              <a:ext cx="328320" cy="3808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8194320" y="3448080"/>
              <a:ext cx="328320" cy="3808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522640" y="3448080"/>
              <a:ext cx="163800" cy="759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619760" y="3448080"/>
              <a:ext cx="163800" cy="759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112240" y="3828960"/>
              <a:ext cx="81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7772400" y="2152800"/>
            <a:ext cx="762120" cy="761760"/>
            <a:chOff x="7772400" y="2152800"/>
            <a:chExt cx="762120" cy="761760"/>
          </a:xfrm>
        </p:grpSpPr>
        <p:sp>
          <p:nvSpPr>
            <p:cNvPr id="740" name=""/>
            <p:cNvSpPr/>
            <p:nvPr/>
          </p:nvSpPr>
          <p:spPr>
            <a:xfrm>
              <a:off x="7772400" y="2152800"/>
              <a:ext cx="381240" cy="7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0800000">
              <a:off x="8153640" y="2152800"/>
              <a:ext cx="380880" cy="7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0:33:22Z</dcterms:created>
  <dc:creator>Martin Wilson</dc:creator>
  <dc:description/>
  <dc:language>en-US</dc:language>
  <cp:lastModifiedBy>botturl</cp:lastModifiedBy>
  <dcterms:modified xsi:type="dcterms:W3CDTF">2002-08-22T13:58:28Z</dcterms:modified>
  <cp:revision>52</cp:revision>
  <dc:subject/>
  <dc:title>Slide 1</dc:title>
</cp:coreProperties>
</file>