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214956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11824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3216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6940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53216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66940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1824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Lucida Bright"/>
              </a:rPr>
              <a:t>Click to edit the title text format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340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6200" indent="-18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06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48360" y="6278400"/>
            <a:ext cx="2057760" cy="750240"/>
            <a:chOff x="6948360" y="6278400"/>
            <a:chExt cx="2057760" cy="750240"/>
          </a:xfrm>
        </p:grpSpPr>
        <p:sp>
          <p:nvSpPr>
            <p:cNvPr id="3" name=""/>
            <p:cNvSpPr/>
            <p:nvPr/>
          </p:nvSpPr>
          <p:spPr>
            <a:xfrm>
              <a:off x="6950880" y="6278400"/>
              <a:ext cx="205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cc99"/>
                  </a:solidFill>
                  <a:latin typeface="Arial"/>
                </a:rPr>
                <a:t>ASC 20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6948360" y="6354360"/>
              <a:ext cx="2016000" cy="674280"/>
              <a:chOff x="6948360" y="6354360"/>
              <a:chExt cx="2016000" cy="674280"/>
            </a:xfrm>
          </p:grpSpPr>
          <p:sp>
            <p:nvSpPr>
              <p:cNvPr id="5" name=""/>
              <p:cNvSpPr/>
              <p:nvPr/>
            </p:nvSpPr>
            <p:spPr>
              <a:xfrm>
                <a:off x="6951240" y="6354360"/>
                <a:ext cx="2013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9900"/>
                    </a:solidFill>
                    <a:latin typeface="Arial Narrow"/>
                  </a:rPr>
                  <a:t>Superconductors in the Marketpla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48360" y="6508440"/>
                <a:ext cx="164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Condensed"/>
                  </a:rPr>
                  <a:t>Superconducting Magne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"/>
          <p:cNvSpPr/>
          <p:nvPr/>
        </p:nvSpPr>
        <p:spPr>
          <a:xfrm>
            <a:off x="189720" y="645336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artin Wilson 'Magnet Design' slide no </a:t>
            </a:r>
            <a:fld id="{8FE67BAE-B72C-40FB-8872-A9B0101E4FE4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2680" y="3724200"/>
            <a:ext cx="336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jb-plu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960" y="1725480"/>
            <a:ext cx="79772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9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b4125"/>
                </a:solidFill>
                <a:latin typeface="Times New Roman"/>
              </a:rPr>
              <a:t>Le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uca Bottura: CERN, Switzerland &lt;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Luca.Bottura@cern.ch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rnaud Devred: Saclay, France and CERN, Switzerland  &lt;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evred@dapnia.cea.f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rtin Wilson: Consultant (ex Oxford Instruments and Rutherford Laboratory) UK &lt;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m-wilson@clara.co.uk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04920"/>
            <a:ext cx="8556480" cy="1052280"/>
            <a:chOff x="0" y="304920"/>
            <a:chExt cx="8556480" cy="1052280"/>
          </a:xfrm>
        </p:grpSpPr>
        <p:sp>
          <p:nvSpPr>
            <p:cNvPr id="48" name=""/>
            <p:cNvSpPr/>
            <p:nvPr/>
          </p:nvSpPr>
          <p:spPr>
            <a:xfrm>
              <a:off x="290520" y="380880"/>
              <a:ext cx="73188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4360" y="803160"/>
              <a:ext cx="422280" cy="4741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30080"/>
              <a:ext cx="560160" cy="421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0120" y="10346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3049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39880" y="123192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Short course at ASC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800" y="3549600"/>
            <a:ext cx="44550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0720" indent="-72072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b4125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45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design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45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.00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cal Design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.00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 Losses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.00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un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99080" y="3814920"/>
            <a:ext cx="330840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00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ufacturing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30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oling and Stability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.30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ufacturing 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5.30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5.45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gnet Protection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6.45: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rap up session   </a:t>
            </a:r>
            <a:r>
              <a:rPr b="1" i="1" lang="en-GB" sz="1800" spc="-1" strike="noStrike">
                <a:solidFill>
                  <a:srgbClr val="cb4125"/>
                </a:solidFill>
                <a:latin typeface="Arial"/>
              </a:rPr>
              <a:t>Y'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58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22040" y="12445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Synopsi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720" y="2065320"/>
            <a:ext cx="408168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1) System design</a:t>
            </a:r>
            <a:r>
              <a:rPr b="1" lang="en-GB" sz="2000" spc="-1" strike="noStrike">
                <a:solidFill>
                  <a:srgbClr val="cb4125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tic field shapes and how to make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s - dc and ac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ak field, critical surface, temperature mar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den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s and st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current – large or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conduct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bTi, Nb3Sn, BS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tical condu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30760" y="2060640"/>
            <a:ext cx="389088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2) Mechanical Design Issues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hanics at low temperature and vac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i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d 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s: laboratory solenoid and accelerator dip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68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22040" y="12445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Synopsi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3720" y="1806480"/>
            <a:ext cx="408168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3) AC Losses</a:t>
            </a:r>
            <a:r>
              <a:rPr b="1" lang="en-GB" sz="2000" spc="-1" strike="noStrike">
                <a:solidFill>
                  <a:srgbClr val="cb4125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ux jumping and fine fil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tization and hyste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amentary compo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between filaments in a w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between wires in a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 field loss and Norris’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98880" y="1881360"/>
            <a:ext cx="3891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4) Cooling and Stability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graded quench current,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turbation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ling m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halpy stab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os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d-end recovery crite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l-cooled operation for CICC’s, MPZ and M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ient stability and advanced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78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22040" y="12445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Synopsis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120" y="1897200"/>
            <a:ext cx="408168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5) Manufacturing Issues</a:t>
            </a:r>
            <a:r>
              <a:rPr b="1" lang="en-GB" sz="2000" spc="-1" strike="noStrike">
                <a:solidFill>
                  <a:srgbClr val="cb4125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ing and 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 and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sample tes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‘n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ing and ins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ints and sp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l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ion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46680" y="1932120"/>
            <a:ext cx="389088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6)  Magnet Protection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t quench, origins and con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t spot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nch propa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anc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60360" y="4568760"/>
            <a:ext cx="2541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cb4125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cb4125"/>
                </a:solidFill>
                <a:latin typeface="Times New Roman"/>
              </a:rPr>
              <a:t>Wrap up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enda is up to yo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d you understand it a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not don't be afraid to 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89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134160" y="12445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Where to find more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1680" y="1644480"/>
            <a:ext cx="85550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uperconducting Mag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se Studies in Superconducting Magnets:  Y Iwasa,   pub  Plenum Press, New York (1994), ISBN 0-306-44881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erconducting Magnets:  MN Wilson,  pub Oxford University Press (1983) ISBN 0-019-85480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 Field Superconducting Magnets:  FM Asner, pub Oxford University Press (1999) ISBN 0 19 851764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erconducting Accelerator Magnets:   KH Mess, P Schmuser, S Wolf., pub World Scientific, (1996)  ISBN 981-02-2790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bility of Superconductors:  L. Dresner,  pub  Plenum Press, New York (1994), ISBN 0-306-45030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book of Applied Superconductivity ed B Seeber, pub UK Institute Physics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c Applied Superconductivity Conference:  pub as IEEE Trans Applied Superconductivity, Mar 93 to 99, and as IEEE Trans Magnetics Mar 75 to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c European Conference on Applied Superconductivity EUCAS, pub UK Institute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 International Conference on Magnet Technology; MT-1 to MT-17 (2001) pub mainly as IEEE Trans Applied Superconductivity and IEEE Trans Mag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98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940480" y="125748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Where to find mor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1824120"/>
            <a:ext cx="825156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Mag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erconducting Accelerator Magnets: an interactive tutorial on two CD-ROMs,                                                                                                                  s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jb-plus.co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detailed content and ordering information.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600" spc="-1" strike="noStrike">
                <a:solidFill>
                  <a:srgbClr val="ff0000"/>
                </a:solidFill>
                <a:latin typeface="Times New Roman"/>
              </a:rPr>
              <a:t>Special price for ASC 2002 $35 (regular $9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Cryoge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lium Cryogenics Van Sciver SW,  pub Plenum 86  ISBN 0-0306-42335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yogenic Engineering,  Hands BA, pub Academic Press 86  ISBN 0-012-322991-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yogenics: published monthly by Butterwor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uperconduct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conductor Science and Technology, published monthly by Institute of Physics (U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EE Trans Applied Superconductivity, pub quart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conductivity of metals and Cuprates,  JR Waldram, Institute of Physics Publishing (1996) ISBN 0 85274 337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Temperature Superconductors: Processing and Science, A Bourdillon and NX Tan Bourdillon,  Academic Press, ISBN 0 12 11768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6640" y="24624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407880"/>
            <a:ext cx="8556480" cy="1052640"/>
            <a:chOff x="0" y="407880"/>
            <a:chExt cx="8556480" cy="1052640"/>
          </a:xfrm>
        </p:grpSpPr>
        <p:sp>
          <p:nvSpPr>
            <p:cNvPr id="107" name=""/>
            <p:cNvSpPr/>
            <p:nvPr/>
          </p:nvSpPr>
          <p:spPr>
            <a:xfrm>
              <a:off x="290520" y="48420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360" y="90648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833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120" y="113796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5040" y="4078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40480" y="125748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Where to find more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840" y="1824120"/>
            <a:ext cx="825156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Materials Mecha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terials at Low Temperature: Ed RP Reed &amp; AF Clark, pub  Am. Soc. Metals 1983. ISBN 0-87170-146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book on Materials for Superconducting Machinery pub Batelle Columbus Laboratories 197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metallic materials and composites at low temperatures: Ed AF Clark, RP Reed, G Hartwig pub Ple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metallic materials and composites at low temperatures 2, Ed G Hartwig, D Evans, pub Plenum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6640" y="168120"/>
            <a:ext cx="821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uperconducting Magnet Desig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343080"/>
            <a:ext cx="8556480" cy="1052280"/>
            <a:chOff x="0" y="343080"/>
            <a:chExt cx="8556480" cy="1052280"/>
          </a:xfrm>
        </p:grpSpPr>
        <p:sp>
          <p:nvSpPr>
            <p:cNvPr id="116" name=""/>
            <p:cNvSpPr/>
            <p:nvPr/>
          </p:nvSpPr>
          <p:spPr>
            <a:xfrm>
              <a:off x="290520" y="419040"/>
              <a:ext cx="73188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360" y="841320"/>
              <a:ext cx="422280" cy="4741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768240"/>
              <a:ext cx="560160" cy="421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0120" y="107280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34308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40480" y="116676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b4125"/>
                </a:solidFill>
                <a:latin typeface="Times New Roman"/>
              </a:rPr>
              <a:t>Where to find more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2440" y="1630440"/>
            <a:ext cx="82519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Web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www.cryogenics.nist.gov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fre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ogenic properties of many solids, eg thermal conductivity, specific heat, and thermal expansion, plus empirically fitted equation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www.matweb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fre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oom-temperature data for about 10 to 20 properties of about 24,000 mater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www.cpia.jhu.edu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pay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lots and data-look-up using NIST equ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ww.jahm.com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pa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 dependent properties of about 1000 materials, many at cryogenic temperatu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www.cryodata.com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pay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wn fitting equations for cryogenic properties of ~ 100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yodata also sells software produ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99"/>
                </a:solidFill>
                <a:uFillTx/>
                <a:latin typeface="Times New Roman"/>
              </a:rPr>
              <a:t>GASPA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properties of pure fluids from the triple point to high tempera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99"/>
                </a:solidFill>
                <a:uFillTx/>
                <a:latin typeface="Times New Roman"/>
              </a:rPr>
              <a:t>HEPA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roperties of helium including superfluid above 0.8 K, up to 1500 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99"/>
                </a:solidFill>
                <a:uFillTx/>
                <a:latin typeface="Times New Roman"/>
              </a:rPr>
              <a:t>STEAMPA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roperties of water from the triple point to 2000 K and 200 M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99"/>
                </a:solidFill>
                <a:uFillTx/>
                <a:latin typeface="Times New Roman"/>
              </a:rPr>
              <a:t>METALPAK, CPPACK, EXPAK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ference properties of metals and other solids, 1 - 300 K. </a:t>
            </a:r>
            <a:r>
              <a:rPr b="0" lang="en-GB" sz="1600" spc="-1" strike="noStrike" u="sng">
                <a:solidFill>
                  <a:srgbClr val="333399"/>
                </a:solidFill>
                <a:uFillTx/>
                <a:latin typeface="Times New Roman"/>
              </a:rPr>
              <a:t>CRYOCOM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properties and thermal design calculations for solid materials, 1 - 300 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SUPERMAGNE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ur unique engineering design codes for superconducting magnet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KRYOM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merical modeling calculations on radiation-shielded cryogenic enclo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0:33:22Z</dcterms:created>
  <dc:creator>Martin Wilson</dc:creator>
  <dc:description/>
  <dc:language>en-US</dc:language>
  <cp:lastModifiedBy>Preferred Customer</cp:lastModifiedBy>
  <dcterms:modified xsi:type="dcterms:W3CDTF">2002-08-09T13:47:04Z</dcterms:modified>
  <cp:revision>51</cp:revision>
  <dc:subject/>
  <dc:title>Slide 1</dc:title>
</cp:coreProperties>
</file>