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pct" ContentType="image/x-pict"/>
  <Override PartName="/ppt/media/image54.png" ContentType="image/png"/>
  <Override PartName="/ppt/media/image68.pct" ContentType="image/x-pict"/>
  <Override PartName="/ppt/media/image52.png" ContentType="image/png"/>
  <Override PartName="/ppt/media/image51.png" ContentType="image/png"/>
  <Override PartName="/ppt/media/image53.png" ContentType="image/png"/>
  <Override PartName="/ppt/media/image50.pct" ContentType="image/x-pict"/>
  <Override PartName="/ppt/media/image46.pct" ContentType="image/x-pict"/>
  <Override PartName="/ppt/media/image32.png" ContentType="image/png"/>
  <Override PartName="/ppt/media/image45.pct" ContentType="image/x-pict"/>
  <Override PartName="/ppt/media/image31.png" ContentType="image/png"/>
  <Override PartName="/ppt/media/image44.pct" ContentType="image/x-pict"/>
  <Override PartName="/ppt/media/image30.png" ContentType="image/png"/>
  <Override PartName="/ppt/media/image43.pct" ContentType="image/x-pict"/>
  <Override PartName="/ppt/media/image42.pct" ContentType="image/x-pict"/>
  <Override PartName="/ppt/media/image41.pct" ContentType="image/x-pict"/>
  <Override PartName="/ppt/media/image40.pct" ContentType="image/x-pict"/>
  <Override PartName="/ppt/media/image39.pct" ContentType="image/x-pict"/>
  <Override PartName="/ppt/media/image25.png" ContentType="image/png"/>
  <Override PartName="/ppt/media/image38.pct" ContentType="image/x-pict"/>
  <Override PartName="/ppt/media/image37.pct" ContentType="image/x-pict"/>
  <Override PartName="/ppt/media/image35.png" ContentType="image/png"/>
  <Override PartName="/ppt/media/image49.pct" ContentType="image/x-pict"/>
  <Override PartName="/ppt/media/image33.pct" ContentType="image/x-pict"/>
  <Override PartName="/ppt/media/image13.pct" ContentType="image/x-pict"/>
  <Override PartName="/ppt/media/image2.png" ContentType="image/png"/>
  <Override PartName="/ppt/media/image28.pct" ContentType="image/x-pict"/>
  <Override PartName="/ppt/media/image12.pct" ContentType="image/x-pict"/>
  <Override PartName="/ppt/media/image1.png" ContentType="image/png"/>
  <Override PartName="/ppt/media/image27.pct" ContentType="image/x-pict"/>
  <Override PartName="/ppt/media/image92.pct" ContentType="image/x-pict"/>
  <Override PartName="/ppt/media/image7.png" ContentType="image/png"/>
  <Override PartName="/ppt/media/image62.jpeg" ContentType="image/jpeg"/>
  <Override PartName="/ppt/media/image84.png" ContentType="image/png"/>
  <Override PartName="/ppt/media/image29.png" ContentType="image/png"/>
  <Override PartName="/ppt/media/image16.pct" ContentType="image/x-pict"/>
  <Override PartName="/ppt/media/image61.png" ContentType="image/png"/>
  <Override PartName="/ppt/media/image75.pct" ContentType="image/x-pict"/>
  <Override PartName="/ppt/media/image26.pct" ContentType="image/x-pict"/>
  <Override PartName="/ppt/media/image91.pct" ContentType="image/x-pict"/>
  <Override PartName="/ppt/media/image65.jpeg" ContentType="image/jpeg"/>
  <Override PartName="/ppt/media/image8.png" ContentType="image/png"/>
  <Override PartName="/ppt/media/image66.png" ContentType="image/png"/>
  <Override PartName="/ppt/media/image60.png" ContentType="image/png"/>
  <Override PartName="/ppt/media/image74.pct" ContentType="image/x-pict"/>
  <Override PartName="/ppt/media/image67.jpeg" ContentType="image/jpeg"/>
  <Override PartName="/ppt/media/image21.png" ContentType="image/png"/>
  <Override PartName="/ppt/media/image72.pct" ContentType="image/x-pict"/>
  <Override PartName="/ppt/media/image64.jpeg" ContentType="image/jpeg"/>
  <Override PartName="/ppt/media/image93.png" ContentType="image/png"/>
  <Override PartName="/ppt/media/image90.pct" ContentType="image/x-pict"/>
  <Override PartName="/ppt/media/image11.pct" ContentType="image/x-pict"/>
  <Override PartName="/ppt/media/image89.png" ContentType="image/png"/>
  <Override PartName="/ppt/media/image88.pct" ContentType="image/x-pict"/>
  <Override PartName="/ppt/media/image79.png" ContentType="image/png"/>
  <Override PartName="/ppt/media/image87.jpeg" ContentType="image/jpeg"/>
  <Override PartName="/ppt/media/image83.png" ContentType="image/png"/>
  <Override PartName="/ppt/media/image15.pct" ContentType="image/x-pict"/>
  <Override PartName="/ppt/media/image80.pct" ContentType="image/x-pict"/>
  <Override PartName="/ppt/media/image76.png" ContentType="image/png"/>
  <Override PartName="/ppt/media/image73.pct" ContentType="image/x-pict"/>
  <Override PartName="/ppt/media/image77.pct" ContentType="image/x-pict"/>
  <Override PartName="/ppt/media/image63.png" ContentType="image/png"/>
  <Override PartName="/ppt/media/image85.jpeg" ContentType="image/jpeg"/>
  <Override PartName="/ppt/media/image86.jpeg" ContentType="image/jpeg"/>
  <Override PartName="/ppt/media/image70.pct" ContentType="image/x-pict"/>
  <Override PartName="/ppt/media/image69.pct" ContentType="image/x-pict"/>
  <Override PartName="/ppt/media/image71.pct" ContentType="image/x-pict"/>
  <Override PartName="/ppt/media/image82.png" ContentType="image/png"/>
  <Override PartName="/ppt/media/image78.pct" ContentType="image/x-pict"/>
  <Override PartName="/ppt/media/image24.pct" ContentType="image/x-pict"/>
  <Override PartName="/ppt/media/image23.pct" ContentType="image/x-pict"/>
  <Override PartName="/ppt/media/image14.pct" ContentType="image/x-pict"/>
  <Override PartName="/ppt/media/image3.png" ContentType="image/png"/>
  <Override PartName="/ppt/media/image9.png" ContentType="image/png"/>
  <Override PartName="/ppt/media/image18.pct" ContentType="image/x-pict"/>
  <Override PartName="/ppt/media/image6.pct" ContentType="image/x-pict"/>
  <Override PartName="/ppt/media/image81.png" ContentType="image/png"/>
  <Override PartName="/ppt/media/image4.png" ContentType="image/png"/>
  <Override PartName="/ppt/media/image48.pct" ContentType="image/x-pict"/>
  <Override PartName="/ppt/media/image34.png" ContentType="image/png"/>
  <Override PartName="/ppt/media/image5.pct" ContentType="image/x-pict"/>
  <Override PartName="/ppt/media/image17.pct" ContentType="image/x-pict"/>
  <Override PartName="/ppt/media/image19.pct" ContentType="image/x-pict"/>
  <Override PartName="/ppt/media/image56.pct" ContentType="image/x-pict"/>
  <Override PartName="/ppt/media/image59.png" ContentType="image/png"/>
  <Override PartName="/ppt/media/image36.pct" ContentType="image/x-pict"/>
  <Override PartName="/ppt/media/image22.png" ContentType="image/png"/>
  <Override PartName="/ppt/media/image10.pct" ContentType="image/x-pict"/>
  <Override PartName="/ppt/media/image47.pct" ContentType="image/x-pict"/>
  <Override PartName="/ppt/media/image20.pct" ContentType="image/x-pict"/>
  <Override PartName="/ppt/media/image55.jpeg" ContentType="image/jpeg"/>
  <Override PartName="/ppt/media/image57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A54F-0A55-43B4-B6DD-C5CD67AD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642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990360" y="3967920"/>
            <a:ext cx="79642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4B56-92FD-41D4-A74F-F1562F80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38865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71680" y="1600200"/>
            <a:ext cx="38865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90360" y="3967920"/>
            <a:ext cx="38865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071680" y="3967920"/>
            <a:ext cx="38865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FC71-519F-4F6E-89E9-634449BE1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25642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683160" y="1600200"/>
            <a:ext cx="25642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375960" y="1600200"/>
            <a:ext cx="25642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990360" y="3967920"/>
            <a:ext cx="25642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683160" y="3967920"/>
            <a:ext cx="25642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375960" y="3967920"/>
            <a:ext cx="25642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19B9-2C0F-4705-BC6C-926F8642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DACA-44D0-459C-9674-F3B86D10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990360" y="1600200"/>
            <a:ext cx="796428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C698-B8A2-4574-A942-1875E1D6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642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421D-435F-49BE-9968-CD4FF3D8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38865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71680" y="1600200"/>
            <a:ext cx="38865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FB07-4BCB-4E62-9A58-1EA47658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85FA-B799-40D4-A0CF-BD67424D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990720" y="22824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B5B5-5E9E-412F-AB46-D63F4EA3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38865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71680" y="1600200"/>
            <a:ext cx="38865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90360" y="3967920"/>
            <a:ext cx="38865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8C06-BF26-4A07-9B34-C320A95E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990360" y="1600200"/>
            <a:ext cx="796428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FA54-FCDD-468F-A5A5-A903E29C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38865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71680" y="1600200"/>
            <a:ext cx="38865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071680" y="3967920"/>
            <a:ext cx="38865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111B-2E66-468F-9CE0-34C97922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38865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71680" y="1600200"/>
            <a:ext cx="38865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360" y="3967920"/>
            <a:ext cx="79642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5D4D-643D-42A2-937A-BF39AA67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642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90360" y="3967920"/>
            <a:ext cx="79642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ECEC-B85F-48E2-BB9B-D8348A26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38865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71680" y="1600200"/>
            <a:ext cx="38865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90360" y="3967920"/>
            <a:ext cx="38865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071680" y="3967920"/>
            <a:ext cx="38865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BC05-2DE8-45CE-9BE9-D128FCD81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25642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83160" y="1600200"/>
            <a:ext cx="25642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375960" y="1600200"/>
            <a:ext cx="25642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990360" y="3967920"/>
            <a:ext cx="25642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83160" y="3967920"/>
            <a:ext cx="25642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375960" y="3967920"/>
            <a:ext cx="25642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532B-CFC0-487E-A998-D606F997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642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AD24-0A19-45FA-B143-BAC38F98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38865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1680" y="1600200"/>
            <a:ext cx="38865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DDFB-FDE0-4CB0-8298-234F5EC2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4EC3-7FC4-4017-BF2E-32480CA5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990720" y="22824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2B4B-E3C5-4E0A-8511-7CACC4F4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38865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1680" y="1600200"/>
            <a:ext cx="38865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3967920"/>
            <a:ext cx="38865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C9CE-549E-4436-A5A4-7BC010F7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38865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71680" y="1600200"/>
            <a:ext cx="38865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71680" y="3967920"/>
            <a:ext cx="38865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5293-382F-43F6-97EC-391AA1D8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38865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71680" y="1600200"/>
            <a:ext cx="38865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360" y="3967920"/>
            <a:ext cx="79642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8813-9D90-47AE-AC36-9553BD56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7621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7621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1844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1844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1113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68580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1588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90360" y="1600200"/>
            <a:ext cx="79642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F8AE-CE47-42DF-8EE2-7A356CD828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7062840" y="6240600"/>
            <a:ext cx="2057400" cy="701640"/>
            <a:chOff x="7062840" y="6240600"/>
            <a:chExt cx="2057400" cy="701640"/>
          </a:xfrm>
        </p:grpSpPr>
        <p:sp>
          <p:nvSpPr>
            <p:cNvPr id="13" name=""/>
            <p:cNvSpPr/>
            <p:nvPr/>
          </p:nvSpPr>
          <p:spPr>
            <a:xfrm>
              <a:off x="7065000" y="6240600"/>
              <a:ext cx="205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cc99"/>
                  </a:solidFill>
                  <a:latin typeface="Arial"/>
                </a:rPr>
                <a:t>ASC 200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065720" y="6316560"/>
              <a:ext cx="201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9900"/>
                  </a:solidFill>
                  <a:latin typeface="Arial Narrow"/>
                </a:rPr>
                <a:t>Superconductors in the Marketpl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062840" y="6483240"/>
              <a:ext cx="2025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uperconducting Magne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" name=""/>
          <p:cNvSpPr/>
          <p:nvPr/>
        </p:nvSpPr>
        <p:spPr>
          <a:xfrm>
            <a:off x="50040" y="6423120"/>
            <a:ext cx="321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Luca Bottura ‘Cooling and Stability’ slide no </a:t>
            </a:r>
            <a:fld id="{66849E60-190B-47BF-B95C-223D7BD92DE9}" type="slidenum">
              <a:rPr b="0" i="1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1981080"/>
            <a:ext cx="9009000" cy="1052640"/>
            <a:chOff x="0" y="1981080"/>
            <a:chExt cx="9009000" cy="1052640"/>
          </a:xfrm>
        </p:grpSpPr>
        <p:grpSp>
          <p:nvGrpSpPr>
            <p:cNvPr id="54" name=""/>
            <p:cNvGrpSpPr/>
            <p:nvPr/>
          </p:nvGrpSpPr>
          <p:grpSpPr>
            <a:xfrm>
              <a:off x="290520" y="2089080"/>
              <a:ext cx="711360" cy="474840"/>
              <a:chOff x="290520" y="2089080"/>
              <a:chExt cx="711360" cy="474840"/>
            </a:xfrm>
          </p:grpSpPr>
          <p:sp>
            <p:nvSpPr>
              <p:cNvPr id="55" name=""/>
              <p:cNvSpPr/>
              <p:nvPr/>
            </p:nvSpPr>
            <p:spPr>
              <a:xfrm>
                <a:off x="290520" y="20890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73560" y="20890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414360" y="2511360"/>
              <a:ext cx="737640" cy="474840"/>
              <a:chOff x="414360" y="2511360"/>
              <a:chExt cx="737640" cy="474840"/>
            </a:xfrm>
          </p:grpSpPr>
          <p:sp>
            <p:nvSpPr>
              <p:cNvPr id="58" name=""/>
              <p:cNvSpPr/>
              <p:nvPr/>
            </p:nvSpPr>
            <p:spPr>
              <a:xfrm>
                <a:off x="414360" y="25113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83000" y="25113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24382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5040" y="19810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316080" y="28033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9289-1A8F-43D1-BB31-5D055EAC80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062840" y="6240600"/>
            <a:ext cx="2057400" cy="701640"/>
            <a:chOff x="7062840" y="6240600"/>
            <a:chExt cx="2057400" cy="701640"/>
          </a:xfrm>
        </p:grpSpPr>
        <p:sp>
          <p:nvSpPr>
            <p:cNvPr id="68" name=""/>
            <p:cNvSpPr/>
            <p:nvPr/>
          </p:nvSpPr>
          <p:spPr>
            <a:xfrm>
              <a:off x="7065000" y="6240600"/>
              <a:ext cx="205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cc99"/>
                  </a:solidFill>
                  <a:latin typeface="Arial"/>
                </a:rPr>
                <a:t>ASC 200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065720" y="6316560"/>
              <a:ext cx="201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9900"/>
                  </a:solidFill>
                  <a:latin typeface="Arial Narrow"/>
                </a:rPr>
                <a:t>Superconductors in the Marketpl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062840" y="6483240"/>
              <a:ext cx="2025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uperconducting Magne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50040" y="6423120"/>
            <a:ext cx="321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Luca Bottura ‘Cooling and Stability’ slide no </a:t>
            </a:r>
            <a:fld id="{BB3EE053-CB94-4B2F-B0D8-54C9ACCA703B}" type="slidenum">
              <a:rPr b="0" i="1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ct"/><Relationship Id="rId3" Type="http://schemas.openxmlformats.org/officeDocument/2006/relationships/image" Target="../media/image17.pct"/><Relationship Id="rId4" Type="http://schemas.openxmlformats.org/officeDocument/2006/relationships/image" Target="../media/image20.pct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ct"/><Relationship Id="rId3" Type="http://schemas.openxmlformats.org/officeDocument/2006/relationships/image" Target="../media/image24.pct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26.pct"/><Relationship Id="rId3" Type="http://schemas.openxmlformats.org/officeDocument/2006/relationships/image" Target="../media/image27.pct"/><Relationship Id="rId4" Type="http://schemas.openxmlformats.org/officeDocument/2006/relationships/image" Target="../media/image28.pct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8.pct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ct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36.pct"/><Relationship Id="rId3" Type="http://schemas.openxmlformats.org/officeDocument/2006/relationships/image" Target="../media/image37.pct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ct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ct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ct"/><Relationship Id="rId2" Type="http://schemas.openxmlformats.org/officeDocument/2006/relationships/image" Target="../media/image40.pct"/><Relationship Id="rId3" Type="http://schemas.openxmlformats.org/officeDocument/2006/relationships/image" Target="../media/image41.pct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pct"/><Relationship Id="rId2" Type="http://schemas.openxmlformats.org/officeDocument/2006/relationships/image" Target="../media/image39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pct"/><Relationship Id="rId2" Type="http://schemas.openxmlformats.org/officeDocument/2006/relationships/image" Target="../media/image44.pct"/><Relationship Id="rId3" Type="http://schemas.openxmlformats.org/officeDocument/2006/relationships/image" Target="../media/image45.pct"/><Relationship Id="rId4" Type="http://schemas.openxmlformats.org/officeDocument/2006/relationships/image" Target="../media/image46.pct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pct"/><Relationship Id="rId2" Type="http://schemas.openxmlformats.org/officeDocument/2006/relationships/image" Target="../media/image48.pct"/><Relationship Id="rId3" Type="http://schemas.openxmlformats.org/officeDocument/2006/relationships/image" Target="../media/image40.pct"/><Relationship Id="rId4" Type="http://schemas.openxmlformats.org/officeDocument/2006/relationships/image" Target="../media/image49.pct"/><Relationship Id="rId5" Type="http://schemas.openxmlformats.org/officeDocument/2006/relationships/image" Target="../media/image46.pct"/><Relationship Id="rId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0.pct"/><Relationship Id="rId2" Type="http://schemas.openxmlformats.org/officeDocument/2006/relationships/image" Target="../media/image42.pct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4.png"/><Relationship Id="rId6" Type="http://schemas.openxmlformats.org/officeDocument/2006/relationships/image" Target="../media/image55.jpeg"/><Relationship Id="rId7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6.pct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7.pct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8.pct"/><Relationship Id="rId2" Type="http://schemas.openxmlformats.org/officeDocument/2006/relationships/image" Target="../media/image46.pct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46.pct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8.pct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png"/><Relationship Id="rId5" Type="http://schemas.openxmlformats.org/officeDocument/2006/relationships/image" Target="../media/image61.png"/><Relationship Id="rId6" Type="http://schemas.openxmlformats.org/officeDocument/2006/relationships/image" Target="../media/image62.jpeg"/><Relationship Id="rId7" Type="http://schemas.openxmlformats.org/officeDocument/2006/relationships/image" Target="../media/image63.png"/><Relationship Id="rId8" Type="http://schemas.openxmlformats.org/officeDocument/2006/relationships/image" Target="../media/image64.jpeg"/><Relationship Id="rId9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8.pct"/><Relationship Id="rId2" Type="http://schemas.openxmlformats.org/officeDocument/2006/relationships/image" Target="../media/image69.pct"/><Relationship Id="rId3" Type="http://schemas.openxmlformats.org/officeDocument/2006/relationships/image" Target="../media/image70.pct"/><Relationship Id="rId4" Type="http://schemas.openxmlformats.org/officeDocument/2006/relationships/image" Target="../media/image71.pct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2.pct"/><Relationship Id="rId2" Type="http://schemas.openxmlformats.org/officeDocument/2006/relationships/image" Target="../media/image73.pct"/><Relationship Id="rId3" Type="http://schemas.openxmlformats.org/officeDocument/2006/relationships/image" Target="../media/image73.pct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png"/><Relationship Id="rId3" Type="http://schemas.openxmlformats.org/officeDocument/2006/relationships/image" Target="../media/image74.pct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5.pct"/><Relationship Id="rId2" Type="http://schemas.openxmlformats.org/officeDocument/2006/relationships/image" Target="../media/image10.pct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ct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8.pct"/><Relationship Id="rId2" Type="http://schemas.openxmlformats.org/officeDocument/2006/relationships/image" Target="../media/image79.png"/><Relationship Id="rId3" Type="http://schemas.openxmlformats.org/officeDocument/2006/relationships/image" Target="../media/image80.pct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57.pct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jpeg"/><Relationship Id="rId3" Type="http://schemas.openxmlformats.org/officeDocument/2006/relationships/image" Target="../media/image33.pct"/><Relationship Id="rId4" Type="http://schemas.openxmlformats.org/officeDocument/2006/relationships/image" Target="../media/image86.jpeg"/><Relationship Id="rId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6.jpe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pct"/><Relationship Id="rId3" Type="http://schemas.openxmlformats.org/officeDocument/2006/relationships/image" Target="../media/image41.pct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9.pn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90.pct"/><Relationship Id="rId3" Type="http://schemas.openxmlformats.org/officeDocument/2006/relationships/image" Target="../media/image91.pct"/><Relationship Id="rId4" Type="http://schemas.openxmlformats.org/officeDocument/2006/relationships/image" Target="../media/image92.pct"/><Relationship Id="rId5" Type="http://schemas.openxmlformats.org/officeDocument/2006/relationships/image" Target="../media/image9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bility (and Cooling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92240" y="3048120"/>
            <a:ext cx="7670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ca.Bottura@cern.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Course on Superconducting Magnet 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gust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2002, Houston, T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turb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642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ent (stability concer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Joules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’’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Joules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[mJ/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(sizing of cooling syst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Watts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’’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Watts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6591240" y="2705040"/>
            <a:ext cx="596880" cy="203400"/>
          </a:xfrm>
          <a:prstGeom prst="rightArrow">
            <a:avLst>
              <a:gd name="adj1" fmla="val 50000"/>
              <a:gd name="adj2" fmla="val 7336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turbation 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324080" y="1808280"/>
            <a:ext cx="6416640" cy="44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ahoma"/>
              </a:rPr>
              <a:t>Plan of the l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642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training and degrad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perturbation spectrum over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heat bal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Joule hea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cooling and heat trans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stability crite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enthalpy stabil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cryost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cold end recovery and the </a:t>
            </a:r>
            <a:r>
              <a:rPr b="0" i="1" lang="en-US" sz="1800" spc="-1" strike="noStrike">
                <a:solidFill>
                  <a:srgbClr val="b2b2b2"/>
                </a:solidFill>
                <a:latin typeface="Tahoma"/>
              </a:rPr>
              <a:t>equal-area theor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meta-stable conductor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well-cooled operation in CICC’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MPZ and MQ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at bal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74720" y="1755720"/>
            <a:ext cx="7543800" cy="33958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905120" y="5181480"/>
            <a:ext cx="52704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mperature transi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476600" cy="4552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33520" y="2057400"/>
            <a:ext cx="1841400" cy="368280"/>
          </a:xfr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t pulse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1547640"/>
            <a:ext cx="3733920" cy="642600"/>
          </a:xfr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ffect of heat conduction and cooling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49640" y="2514600"/>
            <a:ext cx="2135880" cy="1607400"/>
          </a:xfr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Q’’’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ahoma"/>
              </a:rPr>
              <a:t>ext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Q’’’+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gen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o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38480" y="4495680"/>
            <a:ext cx="2059560" cy="1607400"/>
          </a:xfr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Q’’’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ahoma"/>
              </a:rPr>
              <a:t>ext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=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Q’’’-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gen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&l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coo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ergy marg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642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’’’, energy marg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energy density that leads to a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energy density that can be tolerated by a superconductor, still resulting in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nd experimentally measurable quantity (…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sured in [mJ/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 for convenience (value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1…100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so call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tability marg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ared to the energy spectrum to achieve stable desig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, quench energ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adapted for disturbances of limited space exten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sured in [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] to [mJ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ahoma"/>
              </a:rPr>
              <a:t>Plan of the l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642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training and degrad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perturbation spectrum over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heat bal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Joule hea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cooling and heat trans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stability crite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enthalpy stabil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cryost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cold end recovery and the </a:t>
            </a:r>
            <a:r>
              <a:rPr b="0" i="1" lang="en-US" sz="1800" spc="-1" strike="noStrike">
                <a:solidFill>
                  <a:srgbClr val="b2b2b2"/>
                </a:solidFill>
                <a:latin typeface="Tahoma"/>
              </a:rPr>
              <a:t>equal-area theor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meta-stable conductor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well-cooled operation in CICC’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MPZ and MQ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itical surface Jc(B,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8160" y="1909800"/>
            <a:ext cx="4316040" cy="3795120"/>
            <a:chOff x="38160" y="1909800"/>
            <a:chExt cx="4316040" cy="3795120"/>
          </a:xfrm>
        </p:grpSpPr>
        <p:sp>
          <p:nvSpPr>
            <p:cNvPr id="185" name=""/>
            <p:cNvSpPr/>
            <p:nvPr/>
          </p:nvSpPr>
          <p:spPr>
            <a:xfrm>
              <a:off x="1860480" y="3781440"/>
              <a:ext cx="532800" cy="1057320"/>
            </a:xfrm>
            <a:custGeom>
              <a:avLst/>
              <a:gdLst/>
              <a:ahLst/>
              <a:rect l="l" t="t" r="r" b="b"/>
              <a:pathLst>
                <a:path w="336" h="666">
                  <a:moveTo>
                    <a:pt x="0" y="0"/>
                  </a:moveTo>
                  <a:lnTo>
                    <a:pt x="57" y="45"/>
                  </a:lnTo>
                  <a:lnTo>
                    <a:pt x="111" y="96"/>
                  </a:lnTo>
                  <a:lnTo>
                    <a:pt x="186" y="168"/>
                  </a:lnTo>
                  <a:lnTo>
                    <a:pt x="243" y="228"/>
                  </a:lnTo>
                  <a:lnTo>
                    <a:pt x="297" y="294"/>
                  </a:lnTo>
                  <a:lnTo>
                    <a:pt x="336" y="342"/>
                  </a:lnTo>
                  <a:lnTo>
                    <a:pt x="332" y="666"/>
                  </a:lnTo>
                  <a:lnTo>
                    <a:pt x="4" y="4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e4a8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2527200" y="2476440"/>
              <a:ext cx="0" cy="18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850320" y="4076640"/>
              <a:ext cx="182844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74560" y="4076640"/>
              <a:ext cx="175248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55600" y="2857680"/>
              <a:ext cx="1371240" cy="2209680"/>
            </a:xfrm>
            <a:custGeom>
              <a:avLst/>
              <a:gdLst/>
              <a:ahLst/>
              <a:rect l="l" t="t" r="r" b="b"/>
              <a:pathLst>
                <a:path w="864" h="1632">
                  <a:moveTo>
                    <a:pt x="864" y="0"/>
                  </a:moveTo>
                  <a:cubicBezTo>
                    <a:pt x="832" y="57"/>
                    <a:pt x="755" y="215"/>
                    <a:pt x="672" y="344"/>
                  </a:cubicBezTo>
                  <a:cubicBezTo>
                    <a:pt x="589" y="473"/>
                    <a:pt x="464" y="625"/>
                    <a:pt x="368" y="776"/>
                  </a:cubicBezTo>
                  <a:cubicBezTo>
                    <a:pt x="272" y="927"/>
                    <a:pt x="157" y="1105"/>
                    <a:pt x="96" y="1248"/>
                  </a:cubicBezTo>
                  <a:cubicBezTo>
                    <a:pt x="35" y="1391"/>
                    <a:pt x="16" y="1512"/>
                    <a:pt x="0" y="1632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27200" y="2857680"/>
              <a:ext cx="1269720" cy="1955520"/>
            </a:xfrm>
            <a:custGeom>
              <a:avLst/>
              <a:gdLst/>
              <a:ahLst/>
              <a:rect l="l" t="t" r="r" b="b"/>
              <a:pathLst>
                <a:path w="800" h="1472">
                  <a:moveTo>
                    <a:pt x="0" y="0"/>
                  </a:moveTo>
                  <a:cubicBezTo>
                    <a:pt x="53" y="65"/>
                    <a:pt x="227" y="248"/>
                    <a:pt x="320" y="392"/>
                  </a:cubicBezTo>
                  <a:cubicBezTo>
                    <a:pt x="413" y="536"/>
                    <a:pt x="480" y="684"/>
                    <a:pt x="560" y="864"/>
                  </a:cubicBezTo>
                  <a:cubicBezTo>
                    <a:pt x="640" y="1044"/>
                    <a:pt x="750" y="1345"/>
                    <a:pt x="800" y="1472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55600" y="4826160"/>
              <a:ext cx="2641320" cy="342720"/>
            </a:xfrm>
            <a:custGeom>
              <a:avLst/>
              <a:gdLst/>
              <a:ahLst/>
              <a:rect l="l" t="t" r="r" b="b"/>
              <a:pathLst>
                <a:path w="1664" h="216">
                  <a:moveTo>
                    <a:pt x="1664" y="0"/>
                  </a:moveTo>
                  <a:cubicBezTo>
                    <a:pt x="1625" y="17"/>
                    <a:pt x="1547" y="71"/>
                    <a:pt x="1424" y="104"/>
                  </a:cubicBezTo>
                  <a:cubicBezTo>
                    <a:pt x="1301" y="137"/>
                    <a:pt x="1096" y="184"/>
                    <a:pt x="928" y="200"/>
                  </a:cubicBezTo>
                  <a:cubicBezTo>
                    <a:pt x="760" y="216"/>
                    <a:pt x="571" y="208"/>
                    <a:pt x="416" y="200"/>
                  </a:cubicBezTo>
                  <a:cubicBezTo>
                    <a:pt x="261" y="192"/>
                    <a:pt x="87" y="162"/>
                    <a:pt x="0" y="152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87280" y="50292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01600" y="2476440"/>
              <a:ext cx="37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4960" y="5245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4920" y="4645080"/>
              <a:ext cx="77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.5 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36520" y="4429080"/>
              <a:ext cx="51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 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15840" y="3505320"/>
              <a:ext cx="1295280" cy="1638360"/>
            </a:xfrm>
            <a:custGeom>
              <a:avLst/>
              <a:gdLst/>
              <a:ahLst/>
              <a:rect l="l" t="t" r="r" b="b"/>
              <a:pathLst>
                <a:path w="864" h="1344">
                  <a:moveTo>
                    <a:pt x="864" y="0"/>
                  </a:moveTo>
                  <a:lnTo>
                    <a:pt x="720" y="192"/>
                  </a:lnTo>
                  <a:lnTo>
                    <a:pt x="576" y="432"/>
                  </a:lnTo>
                  <a:lnTo>
                    <a:pt x="384" y="672"/>
                  </a:lnTo>
                  <a:lnTo>
                    <a:pt x="192" y="912"/>
                  </a:lnTo>
                  <a:lnTo>
                    <a:pt x="48" y="1152"/>
                  </a:lnTo>
                  <a:lnTo>
                    <a:pt x="0" y="1344"/>
                  </a:lnTo>
                  <a:lnTo>
                    <a:pt x="864" y="768"/>
                  </a:lnTo>
                  <a:lnTo>
                    <a:pt x="864" y="0"/>
                  </a:lnTo>
                  <a:close/>
                </a:path>
              </a:pathLst>
            </a:custGeom>
            <a:solidFill>
              <a:srgbClr val="ffcf01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87520" y="4317840"/>
              <a:ext cx="583560" cy="787680"/>
            </a:xfrm>
            <a:custGeom>
              <a:avLst/>
              <a:gdLst/>
              <a:ahLst/>
              <a:rect l="l" t="t" r="r" b="b"/>
              <a:pathLst>
                <a:path w="368" h="496">
                  <a:moveTo>
                    <a:pt x="0" y="0"/>
                  </a:moveTo>
                  <a:lnTo>
                    <a:pt x="64" y="55"/>
                  </a:lnTo>
                  <a:lnTo>
                    <a:pt x="124" y="118"/>
                  </a:lnTo>
                  <a:lnTo>
                    <a:pt x="184" y="193"/>
                  </a:lnTo>
                  <a:lnTo>
                    <a:pt x="256" y="288"/>
                  </a:lnTo>
                  <a:lnTo>
                    <a:pt x="312" y="384"/>
                  </a:lnTo>
                  <a:lnTo>
                    <a:pt x="368" y="496"/>
                  </a:lnTo>
                  <a:lnTo>
                    <a:pt x="0" y="3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e4a8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85880" y="1909800"/>
              <a:ext cx="181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ahoma"/>
                </a:rPr>
                <a:t>typical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NbT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321200" y="4264200"/>
              <a:ext cx="49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 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61440" y="417528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.2 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357280" y="428796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160" y="3483000"/>
              <a:ext cx="1498320" cy="368280"/>
            </a:xfr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00 A/mm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460040" y="1511280"/>
            <a:ext cx="3807000" cy="2673720"/>
            <a:chOff x="4460040" y="1511280"/>
            <a:chExt cx="3807000" cy="2673720"/>
          </a:xfrm>
        </p:grpSpPr>
        <p:sp>
          <p:nvSpPr>
            <p:cNvPr id="205" name=""/>
            <p:cNvSpPr/>
            <p:nvPr/>
          </p:nvSpPr>
          <p:spPr>
            <a:xfrm>
              <a:off x="5801760" y="1511280"/>
              <a:ext cx="24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perating pla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4460040" y="1663560"/>
              <a:ext cx="2748240" cy="2521440"/>
              <a:chOff x="4460040" y="1663560"/>
              <a:chExt cx="2748240" cy="2521440"/>
            </a:xfrm>
          </p:grpSpPr>
          <p:sp>
            <p:nvSpPr>
              <p:cNvPr id="207" name=""/>
              <p:cNvSpPr/>
              <p:nvPr/>
            </p:nvSpPr>
            <p:spPr>
              <a:xfrm flipV="1">
                <a:off x="4994280" y="1723680"/>
                <a:ext cx="0" cy="2011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871880" y="3614760"/>
                <a:ext cx="2195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056200" y="1663560"/>
                <a:ext cx="29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824880" y="31874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460040" y="2760480"/>
                <a:ext cx="476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4994280" y="2781000"/>
                <a:ext cx="1127160" cy="8337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003640" y="2019240"/>
                <a:ext cx="1824120" cy="1652400"/>
              </a:xfrm>
              <a:custGeom>
                <a:avLst/>
                <a:gdLst/>
                <a:ahLst/>
                <a:rect l="l" t="t" r="r" b="b"/>
                <a:pathLst>
                  <a:path w="1436" h="1301">
                    <a:moveTo>
                      <a:pt x="0" y="0"/>
                    </a:moveTo>
                    <a:cubicBezTo>
                      <a:pt x="72" y="39"/>
                      <a:pt x="263" y="116"/>
                      <a:pt x="432" y="232"/>
                    </a:cubicBezTo>
                    <a:cubicBezTo>
                      <a:pt x="601" y="348"/>
                      <a:pt x="859" y="533"/>
                      <a:pt x="1016" y="696"/>
                    </a:cubicBezTo>
                    <a:cubicBezTo>
                      <a:pt x="1173" y="859"/>
                      <a:pt x="1316" y="1115"/>
                      <a:pt x="1376" y="1208"/>
                    </a:cubicBezTo>
                    <a:cubicBezTo>
                      <a:pt x="1436" y="1301"/>
                      <a:pt x="1368" y="1248"/>
                      <a:pt x="1376" y="1256"/>
                    </a:cubicBezTo>
                  </a:path>
                </a:pathLst>
              </a:custGeom>
              <a:noFill/>
              <a:ln w="316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496840" y="3674880"/>
                <a:ext cx="56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586920" y="3674880"/>
                <a:ext cx="461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146280" y="2425680"/>
                <a:ext cx="686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ff"/>
                    </a:solidFill>
                    <a:latin typeface="Times New Roman"/>
                  </a:rPr>
                  <a:t>B</a:t>
                </a:r>
                <a:r>
                  <a:rPr b="0" lang="en-US" sz="2400" spc="-1" strike="noStrike" baseline="-25000">
                    <a:solidFill>
                      <a:srgbClr val="ff00ff"/>
                    </a:solidFill>
                    <a:latin typeface="Times New Roman"/>
                  </a:rPr>
                  <a:t>ma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726160" y="3065400"/>
                <a:ext cx="0" cy="57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994280" y="3065400"/>
                <a:ext cx="669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64240" y="3004920"/>
                <a:ext cx="122040" cy="1206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075360" y="2685960"/>
                <a:ext cx="122040" cy="12060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978440" y="2425680"/>
                <a:ext cx="7617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664240" y="2349360"/>
                <a:ext cx="122040" cy="12060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519880" y="1892160"/>
                <a:ext cx="37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ff"/>
                    </a:solidFill>
                    <a:latin typeface="Times New Roman"/>
                  </a:rPr>
                  <a:t>J</a:t>
                </a:r>
                <a:r>
                  <a:rPr b="0" lang="en-US" sz="2400" spc="-1" strike="noStrike" baseline="-25000">
                    <a:solidFill>
                      <a:srgbClr val="ff00ff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359320" y="242568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5" name=""/>
          <p:cNvSpPr/>
          <p:nvPr/>
        </p:nvSpPr>
        <p:spPr>
          <a:xfrm>
            <a:off x="7188120" y="2065320"/>
            <a:ext cx="1841760" cy="368280"/>
          </a:xfr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mar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88120" y="4540320"/>
            <a:ext cx="1866960" cy="642600"/>
          </a:xfr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mperature mar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525200" y="4068720"/>
            <a:ext cx="2737440" cy="2524680"/>
            <a:chOff x="4525200" y="4068720"/>
            <a:chExt cx="2737440" cy="2524680"/>
          </a:xfrm>
        </p:grpSpPr>
        <p:sp>
          <p:nvSpPr>
            <p:cNvPr id="228" name=""/>
            <p:cNvSpPr/>
            <p:nvPr/>
          </p:nvSpPr>
          <p:spPr>
            <a:xfrm>
              <a:off x="6428520" y="4907160"/>
              <a:ext cx="512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ff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ff00ff"/>
                  </a:solidFill>
                  <a:latin typeface="Times New Roman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059440" y="4129200"/>
              <a:ext cx="0" cy="20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37040" y="6023160"/>
              <a:ext cx="2200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23160" y="40687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96160" y="55958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25200" y="5167440"/>
              <a:ext cx="476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59440" y="5411880"/>
              <a:ext cx="1405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70600" y="4424400"/>
              <a:ext cx="1827000" cy="1655640"/>
            </a:xfrm>
            <a:custGeom>
              <a:avLst/>
              <a:gdLst/>
              <a:ahLst/>
              <a:rect l="l" t="t" r="r" b="b"/>
              <a:pathLst>
                <a:path w="1436" h="1301">
                  <a:moveTo>
                    <a:pt x="0" y="0"/>
                  </a:moveTo>
                  <a:cubicBezTo>
                    <a:pt x="72" y="39"/>
                    <a:pt x="263" y="116"/>
                    <a:pt x="432" y="232"/>
                  </a:cubicBezTo>
                  <a:cubicBezTo>
                    <a:pt x="601" y="348"/>
                    <a:pt x="859" y="533"/>
                    <a:pt x="1016" y="696"/>
                  </a:cubicBezTo>
                  <a:cubicBezTo>
                    <a:pt x="1173" y="859"/>
                    <a:pt x="1316" y="1115"/>
                    <a:pt x="1376" y="1208"/>
                  </a:cubicBezTo>
                  <a:cubicBezTo>
                    <a:pt x="1436" y="1301"/>
                    <a:pt x="1368" y="1248"/>
                    <a:pt x="1376" y="1256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63080" y="6083280"/>
              <a:ext cx="543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56400" y="6083280"/>
              <a:ext cx="44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92760" y="547380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47960" y="4313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732640" y="5351400"/>
              <a:ext cx="122040" cy="1224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15200" y="5364360"/>
              <a:ext cx="122040" cy="1220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16520" y="574524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502320" y="544032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-I characteristi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341360" y="2795760"/>
            <a:ext cx="2382840" cy="34495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 flipH="1">
            <a:off x="617400" y="1747800"/>
            <a:ext cx="4532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bTi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orm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6.5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, Al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76120" y="3741840"/>
            <a:ext cx="1110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l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86400" y="1600200"/>
            <a:ext cx="3444840" cy="4699080"/>
            <a:chOff x="5486400" y="1600200"/>
            <a:chExt cx="3444840" cy="4699080"/>
          </a:xfrm>
        </p:grpSpPr>
        <p:pic>
          <p:nvPicPr>
            <p:cNvPr id="249" name="" descr=""/>
            <p:cNvPicPr/>
            <p:nvPr/>
          </p:nvPicPr>
          <p:blipFill>
            <a:blip r:embed="rId2"/>
            <a:stretch/>
          </p:blipFill>
          <p:spPr>
            <a:xfrm>
              <a:off x="5486400" y="2773440"/>
              <a:ext cx="2619360" cy="352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026040" y="1600200"/>
              <a:ext cx="176544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7334640" y="3741840"/>
              <a:ext cx="1596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nd re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4114800" y="4800600"/>
            <a:ext cx="1384200" cy="1191240"/>
          </a:xfr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istive dissip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Joule h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urrent sha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63080" y="3048120"/>
            <a:ext cx="4775760" cy="3097440"/>
            <a:chOff x="163080" y="3048120"/>
            <a:chExt cx="4775760" cy="3097440"/>
          </a:xfrm>
        </p:grpSpPr>
        <p:sp>
          <p:nvSpPr>
            <p:cNvPr id="255" name=""/>
            <p:cNvSpPr/>
            <p:nvPr/>
          </p:nvSpPr>
          <p:spPr>
            <a:xfrm>
              <a:off x="3063960" y="4597200"/>
              <a:ext cx="0" cy="1036440"/>
            </a:xfrm>
            <a:prstGeom prst="line">
              <a:avLst/>
            </a:prstGeom>
            <a:ln w="2844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60320" y="4557600"/>
              <a:ext cx="93528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900160" y="5635440"/>
              <a:ext cx="520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ff"/>
                  </a:solidFill>
                  <a:latin typeface="Tahoma"/>
                </a:rPr>
                <a:t>T</a:t>
              </a:r>
              <a:r>
                <a:rPr b="0" lang="en-US" sz="2400" spc="-1" strike="noStrike" baseline="-25000">
                  <a:solidFill>
                    <a:srgbClr val="ff00ff"/>
                  </a:solidFill>
                  <a:latin typeface="Tahoma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760320" y="3157200"/>
              <a:ext cx="0" cy="269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8560" y="5636880"/>
              <a:ext cx="4245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88920" y="5635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3080" y="431784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I</a:t>
              </a:r>
              <a:r>
                <a:rPr b="0" lang="en-US" sz="2400" spc="-1" strike="noStrike" baseline="-25000">
                  <a:solidFill>
                    <a:srgbClr val="0000ff"/>
                  </a:solidFill>
                  <a:latin typeface="Tahoma"/>
                </a:rPr>
                <a:t>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25480" y="4549680"/>
              <a:ext cx="1231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54200" y="3538440"/>
              <a:ext cx="3498840" cy="2107800"/>
            </a:xfrm>
            <a:custGeom>
              <a:avLst/>
              <a:gdLst/>
              <a:ahLst/>
              <a:rect l="l" t="t" r="r" b="b"/>
              <a:pathLst>
                <a:path w="2204" h="1328">
                  <a:moveTo>
                    <a:pt x="0" y="0"/>
                  </a:moveTo>
                  <a:cubicBezTo>
                    <a:pt x="73" y="15"/>
                    <a:pt x="293" y="52"/>
                    <a:pt x="440" y="93"/>
                  </a:cubicBezTo>
                  <a:cubicBezTo>
                    <a:pt x="587" y="134"/>
                    <a:pt x="738" y="178"/>
                    <a:pt x="884" y="248"/>
                  </a:cubicBezTo>
                  <a:cubicBezTo>
                    <a:pt x="1030" y="318"/>
                    <a:pt x="1183" y="402"/>
                    <a:pt x="1316" y="512"/>
                  </a:cubicBezTo>
                  <a:cubicBezTo>
                    <a:pt x="1449" y="622"/>
                    <a:pt x="1589" y="812"/>
                    <a:pt x="1680" y="907"/>
                  </a:cubicBezTo>
                  <a:cubicBezTo>
                    <a:pt x="1771" y="1002"/>
                    <a:pt x="1804" y="1028"/>
                    <a:pt x="1864" y="1082"/>
                  </a:cubicBezTo>
                  <a:cubicBezTo>
                    <a:pt x="1924" y="1135"/>
                    <a:pt x="1983" y="1187"/>
                    <a:pt x="2040" y="1228"/>
                  </a:cubicBezTo>
                  <a:cubicBezTo>
                    <a:pt x="2097" y="1269"/>
                    <a:pt x="2170" y="1307"/>
                    <a:pt x="2204" y="132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59080" y="5635440"/>
              <a:ext cx="564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T</a:t>
              </a:r>
              <a:r>
                <a:rPr b="0" lang="en-US" sz="2400" spc="-1" strike="noStrike" baseline="-25000">
                  <a:solidFill>
                    <a:srgbClr val="0000ff"/>
                  </a:solidFill>
                  <a:latin typeface="Tahoma"/>
                </a:rPr>
                <a:t>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16880" y="5635440"/>
              <a:ext cx="43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T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11440" y="4597200"/>
              <a:ext cx="0" cy="10364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8160" y="3048120"/>
              <a:ext cx="369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35120" y="4466880"/>
              <a:ext cx="155520" cy="1555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81160" y="4466880"/>
              <a:ext cx="155880" cy="1555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75280" y="5559120"/>
              <a:ext cx="155520" cy="155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733920" y="2209680"/>
            <a:ext cx="2368440" cy="2160720"/>
            <a:chOff x="3733920" y="2209680"/>
            <a:chExt cx="2368440" cy="2160720"/>
          </a:xfrm>
        </p:grpSpPr>
        <p:grpSp>
          <p:nvGrpSpPr>
            <p:cNvPr id="272" name=""/>
            <p:cNvGrpSpPr/>
            <p:nvPr/>
          </p:nvGrpSpPr>
          <p:grpSpPr>
            <a:xfrm>
              <a:off x="3733920" y="2743200"/>
              <a:ext cx="2368440" cy="717120"/>
              <a:chOff x="3733920" y="2743200"/>
              <a:chExt cx="2368440" cy="717120"/>
            </a:xfrm>
          </p:grpSpPr>
          <p:sp>
            <p:nvSpPr>
              <p:cNvPr id="273" name=""/>
              <p:cNvSpPr/>
              <p:nvPr/>
            </p:nvSpPr>
            <p:spPr>
              <a:xfrm>
                <a:off x="3733920" y="3244680"/>
                <a:ext cx="236844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733920" y="2743200"/>
                <a:ext cx="236844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733920" y="2958840"/>
                <a:ext cx="2368440" cy="285480"/>
              </a:xfrm>
              <a:prstGeom prst="rect">
                <a:avLst/>
              </a:prstGeom>
              <a:gradFill rotWithShape="0">
                <a:gsLst>
                  <a:gs pos="0">
                    <a:srgbClr val="00ccff"/>
                  </a:gs>
                  <a:gs pos="50000">
                    <a:srgbClr val="ffcc00"/>
                  </a:gs>
                  <a:gs pos="100000">
                    <a:srgbClr val="00cc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6" name=""/>
              <p:cNvGrpSpPr/>
              <p:nvPr/>
            </p:nvGrpSpPr>
            <p:grpSpPr>
              <a:xfrm>
                <a:off x="4021200" y="2814480"/>
                <a:ext cx="1864800" cy="574200"/>
                <a:chOff x="4021200" y="2814480"/>
                <a:chExt cx="1864800" cy="57420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4662360" y="2814480"/>
                  <a:ext cx="4078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8" name=""/>
                <p:cNvGrpSpPr/>
                <p:nvPr/>
              </p:nvGrpSpPr>
              <p:grpSpPr>
                <a:xfrm>
                  <a:off x="4021200" y="2814480"/>
                  <a:ext cx="832320" cy="573840"/>
                  <a:chOff x="4021200" y="2814480"/>
                  <a:chExt cx="832320" cy="57384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>
                    <a:off x="4021200" y="3101400"/>
                    <a:ext cx="2563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0" name=""/>
                  <p:cNvGrpSpPr/>
                  <p:nvPr/>
                </p:nvGrpSpPr>
                <p:grpSpPr>
                  <a:xfrm>
                    <a:off x="4085640" y="2814480"/>
                    <a:ext cx="767880" cy="287640"/>
                    <a:chOff x="4085640" y="2814480"/>
                    <a:chExt cx="767880" cy="287640"/>
                  </a:xfrm>
                </p:grpSpPr>
                <p:sp>
                  <p:nvSpPr>
                    <p:cNvPr id="281" name=""/>
                    <p:cNvSpPr/>
                    <p:nvPr/>
                  </p:nvSpPr>
                  <p:spPr>
                    <a:xfrm flipV="1">
                      <a:off x="4085640" y="2814840"/>
                      <a:ext cx="383760" cy="28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 flipH="1">
                      <a:off x="4469760" y="2814480"/>
                      <a:ext cx="383760" cy="28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4085640" y="3101400"/>
                    <a:ext cx="767880" cy="286920"/>
                    <a:chOff x="4085640" y="3101400"/>
                    <a:chExt cx="767880" cy="28692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4085640" y="3101400"/>
                      <a:ext cx="383760" cy="28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 flipH="1" flipV="1">
                      <a:off x="4469760" y="3101400"/>
                      <a:ext cx="383760" cy="28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86" name=""/>
                <p:cNvSpPr/>
                <p:nvPr/>
              </p:nvSpPr>
              <p:spPr>
                <a:xfrm>
                  <a:off x="4662360" y="3388680"/>
                  <a:ext cx="4078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662360" y="3101400"/>
                  <a:ext cx="4078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311000" y="3101400"/>
                  <a:ext cx="34956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9" name=""/>
                <p:cNvGrpSpPr/>
                <p:nvPr/>
              </p:nvGrpSpPr>
              <p:grpSpPr>
                <a:xfrm>
                  <a:off x="4983480" y="2814480"/>
                  <a:ext cx="902520" cy="573840"/>
                  <a:chOff x="4983480" y="2814480"/>
                  <a:chExt cx="902520" cy="57384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>
                    <a:off x="5594760" y="3101400"/>
                    <a:ext cx="29124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1" name=""/>
                  <p:cNvGrpSpPr/>
                  <p:nvPr/>
                </p:nvGrpSpPr>
                <p:grpSpPr>
                  <a:xfrm>
                    <a:off x="4983480" y="2814480"/>
                    <a:ext cx="813960" cy="287640"/>
                    <a:chOff x="4983480" y="2814480"/>
                    <a:chExt cx="813960" cy="287640"/>
                  </a:xfrm>
                </p:grpSpPr>
                <p:sp>
                  <p:nvSpPr>
                    <p:cNvPr id="292" name=""/>
                    <p:cNvSpPr/>
                    <p:nvPr/>
                  </p:nvSpPr>
                  <p:spPr>
                    <a:xfrm flipH="1" flipV="1">
                      <a:off x="5390640" y="2814840"/>
                      <a:ext cx="406800" cy="28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4983480" y="2814480"/>
                      <a:ext cx="406800" cy="28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4983480" y="3101400"/>
                    <a:ext cx="813960" cy="286920"/>
                    <a:chOff x="4983480" y="3101400"/>
                    <a:chExt cx="813960" cy="286920"/>
                  </a:xfrm>
                </p:grpSpPr>
                <p:sp>
                  <p:nvSpPr>
                    <p:cNvPr id="295" name=""/>
                    <p:cNvSpPr/>
                    <p:nvPr/>
                  </p:nvSpPr>
                  <p:spPr>
                    <a:xfrm flipH="1">
                      <a:off x="5390640" y="3101400"/>
                      <a:ext cx="406800" cy="28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 flipV="1">
                      <a:off x="4983480" y="3101400"/>
                      <a:ext cx="406800" cy="28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7" name=""/>
                  <p:cNvSpPr/>
                  <p:nvPr/>
                </p:nvSpPr>
                <p:spPr>
                  <a:xfrm>
                    <a:off x="5186880" y="3101400"/>
                    <a:ext cx="34956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98" name=""/>
            <p:cNvSpPr/>
            <p:nvPr/>
          </p:nvSpPr>
          <p:spPr>
            <a:xfrm>
              <a:off x="3878280" y="2209680"/>
              <a:ext cx="207972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cs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&lt; T &lt; 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9" name="" descr=""/>
            <p:cNvPicPr/>
            <p:nvPr/>
          </p:nvPicPr>
          <p:blipFill>
            <a:blip r:embed="rId1"/>
            <a:stretch/>
          </p:blipFill>
          <p:spPr>
            <a:xfrm>
              <a:off x="3809880" y="3505320"/>
              <a:ext cx="2181240" cy="86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0" name=""/>
          <p:cNvGrpSpPr/>
          <p:nvPr/>
        </p:nvGrpSpPr>
        <p:grpSpPr>
          <a:xfrm>
            <a:off x="914400" y="1447920"/>
            <a:ext cx="2367000" cy="1778040"/>
            <a:chOff x="914400" y="1447920"/>
            <a:chExt cx="2367000" cy="1778040"/>
          </a:xfrm>
        </p:grpSpPr>
        <p:sp>
          <p:nvSpPr>
            <p:cNvPr id="301" name=""/>
            <p:cNvSpPr/>
            <p:nvPr/>
          </p:nvSpPr>
          <p:spPr>
            <a:xfrm>
              <a:off x="1082520" y="1447920"/>
              <a:ext cx="208116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 &lt; 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914400" y="2007000"/>
              <a:ext cx="2367000" cy="717480"/>
              <a:chOff x="914400" y="2007000"/>
              <a:chExt cx="2367000" cy="717480"/>
            </a:xfrm>
          </p:grpSpPr>
          <p:sp>
            <p:nvSpPr>
              <p:cNvPr id="303" name=""/>
              <p:cNvSpPr/>
              <p:nvPr/>
            </p:nvSpPr>
            <p:spPr>
              <a:xfrm>
                <a:off x="914400" y="2509200"/>
                <a:ext cx="2367000" cy="215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914400" y="2007000"/>
                <a:ext cx="2367000" cy="215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914400" y="2222280"/>
                <a:ext cx="2367000" cy="28692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487880" y="2365920"/>
                <a:ext cx="11476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07" name="" descr=""/>
            <p:cNvPicPr/>
            <p:nvPr/>
          </p:nvPicPr>
          <p:blipFill>
            <a:blip r:embed="rId2"/>
            <a:stretch/>
          </p:blipFill>
          <p:spPr>
            <a:xfrm>
              <a:off x="1295280" y="2768760"/>
              <a:ext cx="159084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8" name=""/>
          <p:cNvGrpSpPr/>
          <p:nvPr/>
        </p:nvGrpSpPr>
        <p:grpSpPr>
          <a:xfrm>
            <a:off x="5867280" y="3962520"/>
            <a:ext cx="2374920" cy="2200320"/>
            <a:chOff x="5867280" y="3962520"/>
            <a:chExt cx="2374920" cy="2200320"/>
          </a:xfrm>
        </p:grpSpPr>
        <p:grpSp>
          <p:nvGrpSpPr>
            <p:cNvPr id="309" name=""/>
            <p:cNvGrpSpPr/>
            <p:nvPr/>
          </p:nvGrpSpPr>
          <p:grpSpPr>
            <a:xfrm>
              <a:off x="5867280" y="4535640"/>
              <a:ext cx="2368800" cy="717840"/>
              <a:chOff x="5867280" y="4535640"/>
              <a:chExt cx="2368800" cy="717840"/>
            </a:xfrm>
          </p:grpSpPr>
          <p:sp>
            <p:nvSpPr>
              <p:cNvPr id="310" name=""/>
              <p:cNvSpPr/>
              <p:nvPr/>
            </p:nvSpPr>
            <p:spPr>
              <a:xfrm>
                <a:off x="5869080" y="5038200"/>
                <a:ext cx="2367000" cy="215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869080" y="4535640"/>
                <a:ext cx="2367000" cy="215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67280" y="4750920"/>
                <a:ext cx="2367000" cy="286920"/>
              </a:xfrm>
              <a:prstGeom prst="rect">
                <a:avLst/>
              </a:prstGeom>
              <a:gradFill rotWithShape="0">
                <a:gsLst>
                  <a:gs pos="0">
                    <a:srgbClr val="00ccff"/>
                  </a:gs>
                  <a:gs pos="50000">
                    <a:srgbClr val="ff0000"/>
                  </a:gs>
                  <a:gs pos="100000">
                    <a:srgbClr val="00cc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797160" y="4607280"/>
                <a:ext cx="407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4" name=""/>
              <p:cNvGrpSpPr/>
              <p:nvPr/>
            </p:nvGrpSpPr>
            <p:grpSpPr>
              <a:xfrm>
                <a:off x="6156000" y="4607280"/>
                <a:ext cx="832320" cy="573840"/>
                <a:chOff x="6156000" y="4607280"/>
                <a:chExt cx="832320" cy="57384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6156000" y="4894200"/>
                  <a:ext cx="2563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6" name=""/>
                <p:cNvGrpSpPr/>
                <p:nvPr/>
              </p:nvGrpSpPr>
              <p:grpSpPr>
                <a:xfrm>
                  <a:off x="6220440" y="4607280"/>
                  <a:ext cx="767880" cy="287640"/>
                  <a:chOff x="6220440" y="4607280"/>
                  <a:chExt cx="767880" cy="28764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 flipV="1">
                    <a:off x="6220440" y="4607640"/>
                    <a:ext cx="383760" cy="28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flipH="1">
                    <a:off x="6604560" y="4607280"/>
                    <a:ext cx="383760" cy="28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9" name=""/>
                <p:cNvGrpSpPr/>
                <p:nvPr/>
              </p:nvGrpSpPr>
              <p:grpSpPr>
                <a:xfrm>
                  <a:off x="6220440" y="4894200"/>
                  <a:ext cx="767880" cy="286920"/>
                  <a:chOff x="6220440" y="4894200"/>
                  <a:chExt cx="767880" cy="28692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>
                    <a:off x="6220440" y="4894200"/>
                    <a:ext cx="383760" cy="286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flipH="1" flipV="1">
                    <a:off x="6604560" y="4894200"/>
                    <a:ext cx="383760" cy="28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2" name=""/>
              <p:cNvSpPr/>
              <p:nvPr/>
            </p:nvSpPr>
            <p:spPr>
              <a:xfrm>
                <a:off x="6797160" y="5181840"/>
                <a:ext cx="407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729560" y="4894560"/>
                <a:ext cx="2912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4" name=""/>
              <p:cNvGrpSpPr/>
              <p:nvPr/>
            </p:nvGrpSpPr>
            <p:grpSpPr>
              <a:xfrm>
                <a:off x="7117920" y="4607280"/>
                <a:ext cx="813960" cy="287640"/>
                <a:chOff x="7117920" y="4607280"/>
                <a:chExt cx="813960" cy="287640"/>
              </a:xfrm>
            </p:grpSpPr>
            <p:sp>
              <p:nvSpPr>
                <p:cNvPr id="325" name=""/>
                <p:cNvSpPr/>
                <p:nvPr/>
              </p:nvSpPr>
              <p:spPr>
                <a:xfrm flipH="1" flipV="1">
                  <a:off x="7525080" y="4607640"/>
                  <a:ext cx="406800" cy="285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117920" y="4607280"/>
                  <a:ext cx="406800" cy="28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7117920" y="4894560"/>
                <a:ext cx="813960" cy="286920"/>
                <a:chOff x="7117920" y="4894560"/>
                <a:chExt cx="813960" cy="286920"/>
              </a:xfrm>
            </p:grpSpPr>
            <p:sp>
              <p:nvSpPr>
                <p:cNvPr id="328" name=""/>
                <p:cNvSpPr/>
                <p:nvPr/>
              </p:nvSpPr>
              <p:spPr>
                <a:xfrm flipH="1">
                  <a:off x="7525080" y="4894560"/>
                  <a:ext cx="406800" cy="28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V="1">
                  <a:off x="7117920" y="4894560"/>
                  <a:ext cx="406800" cy="285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0" name=""/>
            <p:cNvSpPr/>
            <p:nvPr/>
          </p:nvSpPr>
          <p:spPr>
            <a:xfrm>
              <a:off x="6012000" y="3962520"/>
              <a:ext cx="208116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 &gt; 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1" name="" descr=""/>
            <p:cNvPicPr/>
            <p:nvPr/>
          </p:nvPicPr>
          <p:blipFill>
            <a:blip r:embed="rId3"/>
            <a:stretch/>
          </p:blipFill>
          <p:spPr>
            <a:xfrm>
              <a:off x="6019920" y="5297760"/>
              <a:ext cx="2222280" cy="86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2" name=""/>
          <p:cNvSpPr/>
          <p:nvPr/>
        </p:nvSpPr>
        <p:spPr>
          <a:xfrm>
            <a:off x="7503480" y="3429000"/>
            <a:ext cx="1255320" cy="368280"/>
          </a:xfr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uench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887800" y="1981080"/>
            <a:ext cx="1755000" cy="368280"/>
          </a:xfr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ent sha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12120" y="1447920"/>
            <a:ext cx="1151640" cy="368280"/>
          </a:xfr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bil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357720" y="1828800"/>
            <a:ext cx="1893600" cy="368280"/>
          </a:xfr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perco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an of the l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642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and degrad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turbation spectrum over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t bal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oule hea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oling and heat trans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 crite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thalpy stabil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yost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ld end recovery and th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qual-area theor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a-stable conductor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ll-cooled operation in CICC’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PZ and MQ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ocus on LTS magnets, adiabatic, indirect, stagnant or force-flow helium coo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oule hea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610640" y="1523520"/>
            <a:ext cx="5769720" cy="3417120"/>
            <a:chOff x="1610640" y="1523520"/>
            <a:chExt cx="5769720" cy="3417120"/>
          </a:xfrm>
        </p:grpSpPr>
        <p:sp>
          <p:nvSpPr>
            <p:cNvPr id="338" name=""/>
            <p:cNvSpPr/>
            <p:nvPr/>
          </p:nvSpPr>
          <p:spPr>
            <a:xfrm flipV="1">
              <a:off x="4179960" y="259056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198520" y="259056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3036960" y="259056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28920" y="4419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2198520" y="1523520"/>
              <a:ext cx="0" cy="297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122560" y="4419360"/>
              <a:ext cx="5105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63960" y="4430520"/>
              <a:ext cx="520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817720" y="4419360"/>
              <a:ext cx="564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563080" y="4419360"/>
              <a:ext cx="43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98520" y="1790640"/>
              <a:ext cx="3581640" cy="2628720"/>
            </a:xfrm>
            <a:custGeom>
              <a:avLst/>
              <a:gdLst/>
              <a:ahLst/>
              <a:rect l="l" t="t" r="r" b="b"/>
              <a:pathLst>
                <a:path w="2256" h="1656">
                  <a:moveTo>
                    <a:pt x="0" y="0"/>
                  </a:moveTo>
                  <a:cubicBezTo>
                    <a:pt x="103" y="25"/>
                    <a:pt x="443" y="97"/>
                    <a:pt x="616" y="152"/>
                  </a:cubicBezTo>
                  <a:cubicBezTo>
                    <a:pt x="789" y="207"/>
                    <a:pt x="913" y="247"/>
                    <a:pt x="1040" y="328"/>
                  </a:cubicBezTo>
                  <a:cubicBezTo>
                    <a:pt x="1167" y="409"/>
                    <a:pt x="1259" y="516"/>
                    <a:pt x="1376" y="640"/>
                  </a:cubicBezTo>
                  <a:cubicBezTo>
                    <a:pt x="1493" y="764"/>
                    <a:pt x="1652" y="961"/>
                    <a:pt x="1744" y="1072"/>
                  </a:cubicBezTo>
                  <a:cubicBezTo>
                    <a:pt x="1836" y="1183"/>
                    <a:pt x="1868" y="1232"/>
                    <a:pt x="1928" y="1304"/>
                  </a:cubicBezTo>
                  <a:cubicBezTo>
                    <a:pt x="1988" y="1376"/>
                    <a:pt x="2049" y="1445"/>
                    <a:pt x="2104" y="1504"/>
                  </a:cubicBezTo>
                  <a:cubicBezTo>
                    <a:pt x="2159" y="1563"/>
                    <a:pt x="2224" y="1624"/>
                    <a:pt x="2256" y="1656"/>
                  </a:cubicBez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960640" y="251424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036960" y="2590560"/>
              <a:ext cx="3581280" cy="1828800"/>
            </a:xfrm>
            <a:custGeom>
              <a:avLst/>
              <a:gdLst/>
              <a:ahLst/>
              <a:rect l="l" t="t" r="r" b="b"/>
              <a:pathLst>
                <a:path w="2256" h="1152">
                  <a:moveTo>
                    <a:pt x="0" y="0"/>
                  </a:moveTo>
                  <a:lnTo>
                    <a:pt x="720" y="0"/>
                  </a:lnTo>
                  <a:lnTo>
                    <a:pt x="981" y="286"/>
                  </a:lnTo>
                  <a:lnTo>
                    <a:pt x="1423" y="825"/>
                  </a:lnTo>
                  <a:lnTo>
                    <a:pt x="1550" y="974"/>
                  </a:lnTo>
                  <a:lnTo>
                    <a:pt x="1728" y="1152"/>
                  </a:lnTo>
                  <a:lnTo>
                    <a:pt x="2256" y="115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0" name="" descr=""/>
            <p:cNvPicPr/>
            <p:nvPr/>
          </p:nvPicPr>
          <p:blipFill>
            <a:blip r:embed="rId1"/>
            <a:stretch/>
          </p:blipFill>
          <p:spPr>
            <a:xfrm>
              <a:off x="5843520" y="3885840"/>
              <a:ext cx="927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2"/>
            <a:stretch/>
          </p:blipFill>
          <p:spPr>
            <a:xfrm>
              <a:off x="5843520" y="2057040"/>
              <a:ext cx="1536840" cy="4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1610640" y="236196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79960" y="25905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3036960" y="2590200"/>
              <a:ext cx="3581280" cy="1828800"/>
            </a:xfrm>
            <a:custGeom>
              <a:avLst/>
              <a:gdLst/>
              <a:ahLst/>
              <a:rect l="l" t="t" r="r" b="b"/>
              <a:pathLst>
                <a:path w="2256" h="1152">
                  <a:moveTo>
                    <a:pt x="0" y="0"/>
                  </a:moveTo>
                  <a:lnTo>
                    <a:pt x="720" y="0"/>
                  </a:lnTo>
                  <a:lnTo>
                    <a:pt x="981" y="286"/>
                  </a:lnTo>
                  <a:lnTo>
                    <a:pt x="1423" y="825"/>
                  </a:lnTo>
                  <a:lnTo>
                    <a:pt x="1550" y="974"/>
                  </a:lnTo>
                  <a:lnTo>
                    <a:pt x="1728" y="1152"/>
                  </a:lnTo>
                  <a:lnTo>
                    <a:pt x="2256" y="1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596880" y="5283360"/>
            <a:ext cx="5067360" cy="8888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6464160" y="5257800"/>
            <a:ext cx="1841760" cy="9399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6116040" y="3200400"/>
            <a:ext cx="2265480" cy="368280"/>
          </a:xfr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urrent in stabil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532840" y="1676520"/>
            <a:ext cx="3007800" cy="368280"/>
          </a:xfr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current in superco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oule heating (cont’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642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ar approximation for Jc(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ule hea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914400" y="2465280"/>
            <a:ext cx="2019240" cy="8874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363480" y="28195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343400" y="2362320"/>
            <a:ext cx="4241880" cy="2197440"/>
            <a:chOff x="4343400" y="2362320"/>
            <a:chExt cx="4241880" cy="2197440"/>
          </a:xfrm>
        </p:grpSpPr>
        <p:sp>
          <p:nvSpPr>
            <p:cNvPr id="364" name=""/>
            <p:cNvSpPr/>
            <p:nvPr/>
          </p:nvSpPr>
          <p:spPr>
            <a:xfrm flipV="1">
              <a:off x="7848720" y="28951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235360" y="4038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5181480" y="2362320"/>
              <a:ext cx="0" cy="17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029200" y="4038480"/>
              <a:ext cx="350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629400" y="4049640"/>
              <a:ext cx="520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824800" y="4038480"/>
              <a:ext cx="564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31640" y="4038480"/>
              <a:ext cx="43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5880" y="2895480"/>
              <a:ext cx="2286000" cy="1143000"/>
            </a:xfrm>
            <a:custGeom>
              <a:avLst/>
              <a:gdLst/>
              <a:ahLst/>
              <a:rect l="l" t="t" r="r" b="b"/>
              <a:pathLst>
                <a:path w="2256" h="1152">
                  <a:moveTo>
                    <a:pt x="0" y="1152"/>
                  </a:moveTo>
                  <a:lnTo>
                    <a:pt x="720" y="1152"/>
                  </a:lnTo>
                  <a:lnTo>
                    <a:pt x="1728" y="0"/>
                  </a:lnTo>
                  <a:lnTo>
                    <a:pt x="225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81480" y="289548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2"/>
            <a:stretch/>
          </p:blipFill>
          <p:spPr>
            <a:xfrm>
              <a:off x="4343400" y="2666880"/>
              <a:ext cx="698400" cy="45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6464160" y="4889520"/>
            <a:ext cx="1841760" cy="93996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4"/>
          <a:stretch/>
        </p:blipFill>
        <p:spPr>
          <a:xfrm>
            <a:off x="838080" y="4495680"/>
            <a:ext cx="472464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ahoma"/>
              </a:rPr>
              <a:t>Plan of the l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642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training and degrad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perturbation spectrum over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heat bal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Joule hea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oling and heat trans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stability crite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enthalpy stabil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cryost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cold end recovery and the </a:t>
            </a:r>
            <a:r>
              <a:rPr b="0" i="1" lang="en-US" sz="1800" spc="-1" strike="noStrike">
                <a:solidFill>
                  <a:srgbClr val="b2b2b2"/>
                </a:solidFill>
                <a:latin typeface="Tahoma"/>
              </a:rPr>
              <a:t>equal-area theor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meta-stable conductor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well-cooled operation in CICC’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MPZ and MQ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oling modes (low-Tc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642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act to a heat sink through conduction (cryoplant, cryocool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practic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no cooling on the time scale of interest for st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h cool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ol of liquid helium at atmospheric pressure and saturation temperature (4.2 K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oiling heat trans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ce-flow coo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percritical or two-phase flow, warm or cold circul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fluid coo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gnant bath, heat removal throug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ounterflow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heat exchan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lium phase dia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382760" y="1673280"/>
            <a:ext cx="6505560" cy="4248000"/>
          </a:xfrm>
          <a:prstGeom prst="rect">
            <a:avLst/>
          </a:prstGeom>
          <a:ln w="0">
            <a:noFill/>
          </a:ln>
        </p:spPr>
      </p:pic>
      <p:grpSp>
        <p:nvGrpSpPr>
          <p:cNvPr id="382" name=""/>
          <p:cNvGrpSpPr/>
          <p:nvPr/>
        </p:nvGrpSpPr>
        <p:grpSpPr>
          <a:xfrm>
            <a:off x="4064040" y="2141640"/>
            <a:ext cx="2984400" cy="1465200"/>
            <a:chOff x="4064040" y="2141640"/>
            <a:chExt cx="2984400" cy="1465200"/>
          </a:xfrm>
        </p:grpSpPr>
        <p:sp>
          <p:nvSpPr>
            <p:cNvPr id="383" name=""/>
            <p:cNvSpPr/>
            <p:nvPr/>
          </p:nvSpPr>
          <p:spPr>
            <a:xfrm>
              <a:off x="5046480" y="214164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forced-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64040" y="2641680"/>
              <a:ext cx="2984400" cy="965160"/>
            </a:xfrm>
            <a:custGeom>
              <a:avLst/>
              <a:gdLst/>
              <a:ahLst/>
              <a:rect l="l" t="t" r="r" b="b"/>
              <a:pathLst>
                <a:path w="1880" h="608">
                  <a:moveTo>
                    <a:pt x="584" y="608"/>
                  </a:moveTo>
                  <a:lnTo>
                    <a:pt x="920" y="504"/>
                  </a:lnTo>
                  <a:lnTo>
                    <a:pt x="936" y="400"/>
                  </a:lnTo>
                  <a:lnTo>
                    <a:pt x="1160" y="344"/>
                  </a:lnTo>
                  <a:lnTo>
                    <a:pt x="1432" y="320"/>
                  </a:lnTo>
                  <a:lnTo>
                    <a:pt x="1880" y="320"/>
                  </a:lnTo>
                  <a:lnTo>
                    <a:pt x="1872" y="8"/>
                  </a:lnTo>
                  <a:lnTo>
                    <a:pt x="0" y="0"/>
                  </a:lnTo>
                  <a:lnTo>
                    <a:pt x="0" y="376"/>
                  </a:lnTo>
                  <a:lnTo>
                    <a:pt x="584" y="608"/>
                  </a:ln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2730600" y="3530520"/>
            <a:ext cx="2565360" cy="1701720"/>
            <a:chOff x="2730600" y="3530520"/>
            <a:chExt cx="2565360" cy="1701720"/>
          </a:xfrm>
        </p:grpSpPr>
        <p:grpSp>
          <p:nvGrpSpPr>
            <p:cNvPr id="386" name=""/>
            <p:cNvGrpSpPr/>
            <p:nvPr/>
          </p:nvGrpSpPr>
          <p:grpSpPr>
            <a:xfrm>
              <a:off x="2730600" y="3530520"/>
              <a:ext cx="2565360" cy="1701720"/>
              <a:chOff x="2730600" y="3530520"/>
              <a:chExt cx="2565360" cy="1701720"/>
            </a:xfrm>
          </p:grpSpPr>
          <p:sp>
            <p:nvSpPr>
              <p:cNvPr id="387" name=""/>
              <p:cNvSpPr/>
              <p:nvPr/>
            </p:nvSpPr>
            <p:spPr>
              <a:xfrm>
                <a:off x="4724280" y="3530520"/>
                <a:ext cx="571680" cy="203400"/>
              </a:xfrm>
              <a:custGeom>
                <a:avLst/>
                <a:gdLst/>
                <a:ahLst/>
                <a:rect l="l" t="t" r="r" b="b"/>
                <a:pathLst>
                  <a:path w="360" h="128">
                    <a:moveTo>
                      <a:pt x="0" y="128"/>
                    </a:moveTo>
                    <a:cubicBezTo>
                      <a:pt x="70" y="98"/>
                      <a:pt x="140" y="69"/>
                      <a:pt x="200" y="48"/>
                    </a:cubicBezTo>
                    <a:cubicBezTo>
                      <a:pt x="260" y="27"/>
                      <a:pt x="310" y="13"/>
                      <a:pt x="360" y="0"/>
                    </a:cubicBezTo>
                  </a:path>
                </a:pathLst>
              </a:custGeom>
              <a:noFill/>
              <a:ln w="763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730600" y="4889520"/>
                <a:ext cx="253800" cy="342720"/>
              </a:xfrm>
              <a:custGeom>
                <a:avLst/>
                <a:gdLst/>
                <a:ahLst/>
                <a:rect l="l" t="t" r="r" b="b"/>
                <a:pathLst>
                  <a:path w="360" h="128">
                    <a:moveTo>
                      <a:pt x="0" y="128"/>
                    </a:moveTo>
                    <a:cubicBezTo>
                      <a:pt x="70" y="98"/>
                      <a:pt x="140" y="69"/>
                      <a:pt x="200" y="48"/>
                    </a:cubicBezTo>
                    <a:cubicBezTo>
                      <a:pt x="260" y="27"/>
                      <a:pt x="310" y="13"/>
                      <a:pt x="360" y="0"/>
                    </a:cubicBezTo>
                  </a:path>
                </a:pathLst>
              </a:custGeom>
              <a:noFill/>
              <a:ln w="763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3272400" y="4097160"/>
              <a:ext cx="189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ff"/>
                  </a:solidFill>
                  <a:latin typeface="Tahoma"/>
                </a:rPr>
                <a:t>pool-boil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992240" y="2281320"/>
            <a:ext cx="1834200" cy="1604880"/>
            <a:chOff x="1992240" y="2281320"/>
            <a:chExt cx="1834200" cy="1604880"/>
          </a:xfrm>
        </p:grpSpPr>
        <p:sp>
          <p:nvSpPr>
            <p:cNvPr id="391" name=""/>
            <p:cNvSpPr/>
            <p:nvPr/>
          </p:nvSpPr>
          <p:spPr>
            <a:xfrm>
              <a:off x="2552760" y="3403440"/>
              <a:ext cx="558720" cy="48276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992240" y="2281320"/>
              <a:ext cx="1834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sub-coole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superflu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 rot="19646400">
            <a:off x="338040" y="3259080"/>
            <a:ext cx="861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Best to take the cryogenics course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52280" y="1762200"/>
            <a:ext cx="5181840" cy="46386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1509840" y="2610000"/>
            <a:ext cx="1614240" cy="2809800"/>
          </a:xfrm>
          <a:custGeom>
            <a:avLst/>
            <a:gdLst/>
            <a:ahLst/>
            <a:rect l="l" t="t" r="r" b="b"/>
            <a:pathLst>
              <a:path w="1017" h="1770">
                <a:moveTo>
                  <a:pt x="3" y="1629"/>
                </a:moveTo>
                <a:lnTo>
                  <a:pt x="69" y="1548"/>
                </a:lnTo>
                <a:lnTo>
                  <a:pt x="171" y="1422"/>
                </a:lnTo>
                <a:lnTo>
                  <a:pt x="327" y="1197"/>
                </a:lnTo>
                <a:lnTo>
                  <a:pt x="537" y="864"/>
                </a:lnTo>
                <a:lnTo>
                  <a:pt x="666" y="636"/>
                </a:lnTo>
                <a:lnTo>
                  <a:pt x="729" y="480"/>
                </a:lnTo>
                <a:lnTo>
                  <a:pt x="804" y="282"/>
                </a:lnTo>
                <a:lnTo>
                  <a:pt x="873" y="48"/>
                </a:lnTo>
                <a:lnTo>
                  <a:pt x="873" y="0"/>
                </a:lnTo>
                <a:lnTo>
                  <a:pt x="1017" y="0"/>
                </a:lnTo>
                <a:lnTo>
                  <a:pt x="1017" y="240"/>
                </a:lnTo>
                <a:lnTo>
                  <a:pt x="924" y="324"/>
                </a:lnTo>
                <a:lnTo>
                  <a:pt x="834" y="486"/>
                </a:lnTo>
                <a:lnTo>
                  <a:pt x="783" y="615"/>
                </a:lnTo>
                <a:lnTo>
                  <a:pt x="729" y="768"/>
                </a:lnTo>
                <a:lnTo>
                  <a:pt x="654" y="969"/>
                </a:lnTo>
                <a:lnTo>
                  <a:pt x="585" y="1200"/>
                </a:lnTo>
                <a:lnTo>
                  <a:pt x="507" y="1473"/>
                </a:lnTo>
                <a:lnTo>
                  <a:pt x="441" y="1770"/>
                </a:lnTo>
                <a:lnTo>
                  <a:pt x="0" y="1770"/>
                </a:lnTo>
                <a:lnTo>
                  <a:pt x="3" y="1629"/>
                </a:lnTo>
                <a:close/>
              </a:path>
            </a:pathLst>
          </a:custGeom>
          <a:solidFill>
            <a:srgbClr val="00ccff">
              <a:alpha val="50000"/>
            </a:srgbClr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362400" y="2143080"/>
            <a:ext cx="1438200" cy="1728720"/>
          </a:xfrm>
          <a:custGeom>
            <a:avLst/>
            <a:gdLst/>
            <a:ahLst/>
            <a:rect l="l" t="t" r="r" b="b"/>
            <a:pathLst>
              <a:path w="906" h="1089">
                <a:moveTo>
                  <a:pt x="0" y="876"/>
                </a:moveTo>
                <a:lnTo>
                  <a:pt x="906" y="0"/>
                </a:lnTo>
                <a:lnTo>
                  <a:pt x="906" y="192"/>
                </a:lnTo>
                <a:lnTo>
                  <a:pt x="0" y="1089"/>
                </a:lnTo>
                <a:lnTo>
                  <a:pt x="0" y="876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5048280" y="1600200"/>
            <a:ext cx="390672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cleate boiling heat flu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’’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h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n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…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NB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0 kW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m boiling heat flu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’’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h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ing heat trans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4952880" y="3454560"/>
            <a:ext cx="4077000" cy="5079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5562720" y="5638680"/>
            <a:ext cx="3009960" cy="5079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1676520" y="2286000"/>
            <a:ext cx="3124080" cy="3124080"/>
          </a:xfrm>
          <a:custGeom>
            <a:avLst/>
            <a:gdLst/>
            <a:ahLst/>
            <a:rect l="l" t="t" r="r" b="b"/>
            <a:pathLst>
              <a:path w="1968" h="1968">
                <a:moveTo>
                  <a:pt x="0" y="1968"/>
                </a:moveTo>
                <a:cubicBezTo>
                  <a:pt x="44" y="1899"/>
                  <a:pt x="169" y="1719"/>
                  <a:pt x="264" y="1552"/>
                </a:cubicBezTo>
                <a:cubicBezTo>
                  <a:pt x="359" y="1385"/>
                  <a:pt x="479" y="1156"/>
                  <a:pt x="568" y="968"/>
                </a:cubicBezTo>
                <a:cubicBezTo>
                  <a:pt x="657" y="780"/>
                  <a:pt x="751" y="546"/>
                  <a:pt x="800" y="424"/>
                </a:cubicBezTo>
                <a:cubicBezTo>
                  <a:pt x="849" y="302"/>
                  <a:pt x="847" y="204"/>
                  <a:pt x="864" y="235"/>
                </a:cubicBezTo>
                <a:cubicBezTo>
                  <a:pt x="881" y="266"/>
                  <a:pt x="879" y="511"/>
                  <a:pt x="904" y="608"/>
                </a:cubicBezTo>
                <a:cubicBezTo>
                  <a:pt x="929" y="705"/>
                  <a:pt x="972" y="780"/>
                  <a:pt x="1016" y="816"/>
                </a:cubicBezTo>
                <a:cubicBezTo>
                  <a:pt x="1060" y="852"/>
                  <a:pt x="1100" y="863"/>
                  <a:pt x="1168" y="824"/>
                </a:cubicBezTo>
                <a:cubicBezTo>
                  <a:pt x="1236" y="785"/>
                  <a:pt x="1291" y="721"/>
                  <a:pt x="1424" y="584"/>
                </a:cubicBezTo>
                <a:cubicBezTo>
                  <a:pt x="1557" y="447"/>
                  <a:pt x="1855" y="122"/>
                  <a:pt x="1968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at transfer coeffici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18652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ahoma"/>
              </a:rPr>
              <a:t>Plan of the l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642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training and degrad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perturbation spectrum over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heat bal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Joule hea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cooling and heat trans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bility crite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nthalpy stabil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cryost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cold end recovery and the </a:t>
            </a:r>
            <a:r>
              <a:rPr b="0" i="1" lang="en-US" sz="1800" spc="-1" strike="noStrike">
                <a:solidFill>
                  <a:srgbClr val="b2b2b2"/>
                </a:solidFill>
                <a:latin typeface="Tahoma"/>
              </a:rPr>
              <a:t>equal-area theor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meta-stable conductor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well-cooled operation in CICC’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MPZ and MQ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143000" y="2895480"/>
            <a:ext cx="5270400" cy="8636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iabatic stabi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642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iabatic conditio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oling (dry or impregnated winding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ergy perturbation over large volume (no conduc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ble only if q’’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ou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 (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! Integra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1143000" y="4827600"/>
            <a:ext cx="2019240" cy="10396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4533840" y="5106960"/>
            <a:ext cx="2781360" cy="4827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5334120" y="5638680"/>
            <a:ext cx="2324160" cy="9669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 rot="2704800">
            <a:off x="5181120" y="2742840"/>
            <a:ext cx="1187280" cy="1187640"/>
          </a:xfrm>
          <a:prstGeom prst="plus">
            <a:avLst>
              <a:gd name="adj" fmla="val 46667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2704800">
            <a:off x="3543120" y="2755800"/>
            <a:ext cx="1187640" cy="1187280"/>
          </a:xfrm>
          <a:prstGeom prst="plus">
            <a:avLst>
              <a:gd name="adj" fmla="val 46667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429000" y="5238720"/>
            <a:ext cx="736560" cy="216000"/>
          </a:xfrm>
          <a:prstGeom prst="rightArrow">
            <a:avLst>
              <a:gd name="adj1" fmla="val 50000"/>
              <a:gd name="adj2" fmla="val 8525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135160" y="4397400"/>
            <a:ext cx="1770120" cy="368280"/>
          </a:xfr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ergy mar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04040" y="5921280"/>
            <a:ext cx="2324880" cy="368280"/>
          </a:xfr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lumetric enthal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w temperature heat capac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1166760" y="1460520"/>
            <a:ext cx="6581880" cy="45720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3300480" y="6035760"/>
            <a:ext cx="3006360" cy="368280"/>
          </a:xfr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e that 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0 for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0 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ahoma"/>
              </a:rPr>
              <a:t>Plan of the l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642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raining and degrad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perturbation spectrum over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heat bal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Joule hea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cooling and heat trans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stability crite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enthalpy stabil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cryost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cold end recovery and the </a:t>
            </a:r>
            <a:r>
              <a:rPr b="0" i="1" lang="en-US" sz="1800" spc="-1" strike="noStrike">
                <a:solidFill>
                  <a:srgbClr val="b2b2b2"/>
                </a:solidFill>
                <a:latin typeface="Tahoma"/>
              </a:rPr>
              <a:t>equal-area theor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meta-stable conductor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well-cooled operation in CICC’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MPZ and MQ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cific enthal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1171440" y="1460520"/>
            <a:ext cx="6572520" cy="4572000"/>
          </a:xfrm>
          <a:prstGeom prst="rect">
            <a:avLst/>
          </a:prstGeom>
          <a:ln w="0">
            <a:noFill/>
          </a:ln>
        </p:spPr>
      </p:pic>
      <p:grpSp>
        <p:nvGrpSpPr>
          <p:cNvPr id="422" name=""/>
          <p:cNvGrpSpPr/>
          <p:nvPr/>
        </p:nvGrpSpPr>
        <p:grpSpPr>
          <a:xfrm>
            <a:off x="2801160" y="2682720"/>
            <a:ext cx="891000" cy="486000"/>
            <a:chOff x="2801160" y="2682720"/>
            <a:chExt cx="891000" cy="486000"/>
          </a:xfrm>
        </p:grpSpPr>
        <p:sp>
          <p:nvSpPr>
            <p:cNvPr id="423" name=""/>
            <p:cNvSpPr/>
            <p:nvPr/>
          </p:nvSpPr>
          <p:spPr>
            <a:xfrm>
              <a:off x="2801160" y="3168720"/>
              <a:ext cx="4078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2804760" y="2682720"/>
              <a:ext cx="8874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152880" y="3114720"/>
            <a:ext cx="95040" cy="788760"/>
            <a:chOff x="3152880" y="3114720"/>
            <a:chExt cx="95040" cy="788760"/>
          </a:xfrm>
        </p:grpSpPr>
        <p:sp>
          <p:nvSpPr>
            <p:cNvPr id="426" name=""/>
            <p:cNvSpPr/>
            <p:nvPr/>
          </p:nvSpPr>
          <p:spPr>
            <a:xfrm flipV="1">
              <a:off x="3200400" y="3180960"/>
              <a:ext cx="4680" cy="7225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152880" y="3114720"/>
              <a:ext cx="95040" cy="88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3648240" y="2647800"/>
            <a:ext cx="95040" cy="1249560"/>
            <a:chOff x="3648240" y="2647800"/>
            <a:chExt cx="95040" cy="1249560"/>
          </a:xfrm>
        </p:grpSpPr>
        <p:sp>
          <p:nvSpPr>
            <p:cNvPr id="429" name=""/>
            <p:cNvSpPr/>
            <p:nvPr/>
          </p:nvSpPr>
          <p:spPr>
            <a:xfrm flipV="1">
              <a:off x="3695760" y="2705040"/>
              <a:ext cx="0" cy="11923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48240" y="2647800"/>
              <a:ext cx="95040" cy="88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204720" y="3809880"/>
            <a:ext cx="476280" cy="459720"/>
            <a:chOff x="3204720" y="3809880"/>
            <a:chExt cx="476280" cy="459720"/>
          </a:xfrm>
        </p:grpSpPr>
        <p:sp>
          <p:nvSpPr>
            <p:cNvPr id="432" name=""/>
            <p:cNvSpPr/>
            <p:nvPr/>
          </p:nvSpPr>
          <p:spPr>
            <a:xfrm flipH="1">
              <a:off x="3204720" y="3819600"/>
              <a:ext cx="476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230640" y="3809880"/>
              <a:ext cx="35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038320" y="2671920"/>
            <a:ext cx="880920" cy="497520"/>
            <a:chOff x="2038320" y="2671920"/>
            <a:chExt cx="880920" cy="497520"/>
          </a:xfrm>
        </p:grpSpPr>
        <p:sp>
          <p:nvSpPr>
            <p:cNvPr id="435" name=""/>
            <p:cNvSpPr/>
            <p:nvPr/>
          </p:nvSpPr>
          <p:spPr>
            <a:xfrm>
              <a:off x="2919240" y="2671920"/>
              <a:ext cx="0" cy="4856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38320" y="2709720"/>
              <a:ext cx="77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</a:t>
              </a: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2115360" y="3425760"/>
            <a:ext cx="891000" cy="1038240"/>
            <a:chOff x="2115360" y="3425760"/>
            <a:chExt cx="891000" cy="1038240"/>
          </a:xfrm>
        </p:grpSpPr>
        <p:sp>
          <p:nvSpPr>
            <p:cNvPr id="438" name=""/>
            <p:cNvSpPr/>
            <p:nvPr/>
          </p:nvSpPr>
          <p:spPr>
            <a:xfrm>
              <a:off x="2115360" y="4464000"/>
              <a:ext cx="407880" cy="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2118960" y="3425760"/>
              <a:ext cx="887400" cy="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2467080" y="4410000"/>
            <a:ext cx="95040" cy="788760"/>
            <a:chOff x="2467080" y="4410000"/>
            <a:chExt cx="95040" cy="788760"/>
          </a:xfrm>
        </p:grpSpPr>
        <p:sp>
          <p:nvSpPr>
            <p:cNvPr id="441" name=""/>
            <p:cNvSpPr/>
            <p:nvPr/>
          </p:nvSpPr>
          <p:spPr>
            <a:xfrm flipV="1">
              <a:off x="2514600" y="4476240"/>
              <a:ext cx="4680" cy="72252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67080" y="4410000"/>
              <a:ext cx="9504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2962440" y="3381480"/>
            <a:ext cx="95040" cy="1830240"/>
            <a:chOff x="2962440" y="3381480"/>
            <a:chExt cx="95040" cy="1830240"/>
          </a:xfrm>
        </p:grpSpPr>
        <p:sp>
          <p:nvSpPr>
            <p:cNvPr id="444" name=""/>
            <p:cNvSpPr/>
            <p:nvPr/>
          </p:nvSpPr>
          <p:spPr>
            <a:xfrm flipV="1">
              <a:off x="3009960" y="3429000"/>
              <a:ext cx="0" cy="178272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2440" y="3381480"/>
              <a:ext cx="9504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2518920" y="4610160"/>
            <a:ext cx="476280" cy="504720"/>
            <a:chOff x="2518920" y="4610160"/>
            <a:chExt cx="476280" cy="504720"/>
          </a:xfrm>
        </p:grpSpPr>
        <p:sp>
          <p:nvSpPr>
            <p:cNvPr id="447" name=""/>
            <p:cNvSpPr/>
            <p:nvPr/>
          </p:nvSpPr>
          <p:spPr>
            <a:xfrm flipH="1">
              <a:off x="2518920" y="5114880"/>
              <a:ext cx="476280" cy="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590560" y="4610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2124000" y="3424320"/>
            <a:ext cx="596880" cy="1028520"/>
            <a:chOff x="2124000" y="3424320"/>
            <a:chExt cx="596880" cy="1028520"/>
          </a:xfrm>
        </p:grpSpPr>
        <p:sp>
          <p:nvSpPr>
            <p:cNvPr id="450" name=""/>
            <p:cNvSpPr/>
            <p:nvPr/>
          </p:nvSpPr>
          <p:spPr>
            <a:xfrm>
              <a:off x="2233440" y="3424320"/>
              <a:ext cx="0" cy="102852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124000" y="374184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</a:t>
              </a:r>
              <a:r>
                <a:rPr b="0" lang="en-US" sz="2400" spc="-1" strike="noStrike">
                  <a:solidFill>
                    <a:srgbClr val="ff00ff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7199280" y="2743200"/>
            <a:ext cx="1944720" cy="916920"/>
          </a:xfr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nthalpy reser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creases at increasing 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6032520" y="380880"/>
            <a:ext cx="2324160" cy="96696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3505320" y="6019920"/>
            <a:ext cx="2985840" cy="642600"/>
          </a:xfr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 not sub-cool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f you can only avoid it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iabatic stabil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81000" y="2679840"/>
            <a:ext cx="4440240" cy="3659040"/>
            <a:chOff x="81000" y="2679840"/>
            <a:chExt cx="4440240" cy="3659040"/>
          </a:xfrm>
        </p:grpSpPr>
        <p:pic>
          <p:nvPicPr>
            <p:cNvPr id="457" name="" descr=""/>
            <p:cNvPicPr/>
            <p:nvPr/>
          </p:nvPicPr>
          <p:blipFill>
            <a:blip r:embed="rId1"/>
            <a:stretch/>
          </p:blipFill>
          <p:spPr>
            <a:xfrm>
              <a:off x="81000" y="2892600"/>
              <a:ext cx="4440240" cy="34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2610360" y="2679840"/>
              <a:ext cx="1642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b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c0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9.5 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c20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14.5 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589640" y="2679840"/>
            <a:ext cx="4440240" cy="3659040"/>
            <a:chOff x="4589640" y="2679840"/>
            <a:chExt cx="4440240" cy="3659040"/>
          </a:xfrm>
        </p:grpSpPr>
        <p:pic>
          <p:nvPicPr>
            <p:cNvPr id="460" name="" descr=""/>
            <p:cNvPicPr/>
            <p:nvPr/>
          </p:nvPicPr>
          <p:blipFill>
            <a:blip r:embed="rId2"/>
            <a:stretch/>
          </p:blipFill>
          <p:spPr>
            <a:xfrm>
              <a:off x="4589640" y="2892600"/>
              <a:ext cx="4440240" cy="34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7318800" y="2679840"/>
              <a:ext cx="14504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c0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18 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c20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28 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1098720" y="1866960"/>
            <a:ext cx="3720960" cy="5079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5292000" y="1650960"/>
            <a:ext cx="3105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.3,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.4,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ypic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iabatic stabil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4589640" y="1676520"/>
            <a:ext cx="4491000" cy="3762360"/>
            <a:chOff x="4589640" y="1676520"/>
            <a:chExt cx="4491000" cy="3762360"/>
          </a:xfrm>
        </p:grpSpPr>
        <p:pic>
          <p:nvPicPr>
            <p:cNvPr id="466" name="" descr=""/>
            <p:cNvPicPr/>
            <p:nvPr/>
          </p:nvPicPr>
          <p:blipFill>
            <a:blip r:embed="rId1"/>
            <a:stretch/>
          </p:blipFill>
          <p:spPr>
            <a:xfrm>
              <a:off x="4589640" y="1960560"/>
              <a:ext cx="4491000" cy="347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7791120" y="1676520"/>
              <a:ext cx="837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1536840" y="5448240"/>
            <a:ext cx="62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ub-cooling makes sense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bov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8 T for NbTi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15 T for Nb3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131760" y="1701720"/>
            <a:ext cx="4491000" cy="3737160"/>
            <a:chOff x="131760" y="1701720"/>
            <a:chExt cx="4491000" cy="3737160"/>
          </a:xfrm>
        </p:grpSpPr>
        <p:grpSp>
          <p:nvGrpSpPr>
            <p:cNvPr id="470" name=""/>
            <p:cNvGrpSpPr/>
            <p:nvPr/>
          </p:nvGrpSpPr>
          <p:grpSpPr>
            <a:xfrm>
              <a:off x="131760" y="1701720"/>
              <a:ext cx="4491000" cy="3737160"/>
              <a:chOff x="131760" y="1701720"/>
              <a:chExt cx="4491000" cy="3737160"/>
            </a:xfrm>
          </p:grpSpPr>
          <p:pic>
            <p:nvPicPr>
              <p:cNvPr id="47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31760" y="1960560"/>
                <a:ext cx="4491000" cy="347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2" name=""/>
              <p:cNvSpPr/>
              <p:nvPr/>
            </p:nvSpPr>
            <p:spPr>
              <a:xfrm>
                <a:off x="3459240" y="1701720"/>
                <a:ext cx="68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bT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1295280" y="2133720"/>
              <a:ext cx="1316160" cy="368280"/>
              <a:chOff x="1295280" y="2133720"/>
              <a:chExt cx="1316160" cy="368280"/>
            </a:xfrm>
          </p:grpSpPr>
          <p:sp>
            <p:nvSpPr>
              <p:cNvPr id="474" name=""/>
              <p:cNvSpPr/>
              <p:nvPr/>
            </p:nvSpPr>
            <p:spPr>
              <a:xfrm>
                <a:off x="1295280" y="231624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906560" y="21337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4.2 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1295280" y="2514600"/>
              <a:ext cx="1316160" cy="368280"/>
              <a:chOff x="1295280" y="2514600"/>
              <a:chExt cx="1316160" cy="368280"/>
            </a:xfrm>
          </p:grpSpPr>
          <p:sp>
            <p:nvSpPr>
              <p:cNvPr id="477" name=""/>
              <p:cNvSpPr/>
              <p:nvPr/>
            </p:nvSpPr>
            <p:spPr>
              <a:xfrm>
                <a:off x="1295280" y="269712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906560" y="25146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1.8 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ahoma"/>
              </a:rPr>
              <a:t>Plan of the l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642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training and degrad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perturbation spectrum over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heat bal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Joule hea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cooling and heat trans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bility crite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enthalpy stabil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ryost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cold end recovery and the </a:t>
            </a:r>
            <a:r>
              <a:rPr b="0" i="1" lang="en-US" sz="1800" spc="-1" strike="noStrike">
                <a:solidFill>
                  <a:srgbClr val="b2b2b2"/>
                </a:solidFill>
                <a:latin typeface="Tahoma"/>
              </a:rPr>
              <a:t>equal-area theor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meta-stable conductor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well-cooled operation in CICC’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MPZ and MQ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79642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oling in a bath of pool boiling hel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gnore conduction for large energy perturb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steady state stability in all conditio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1523880" y="2819520"/>
            <a:ext cx="5270760" cy="86364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2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yostabi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"/>
          <p:cNvSpPr/>
          <p:nvPr/>
        </p:nvSpPr>
        <p:spPr>
          <a:xfrm rot="2704800">
            <a:off x="3924000" y="2679840"/>
            <a:ext cx="1187280" cy="1187280"/>
          </a:xfrm>
          <a:prstGeom prst="plus">
            <a:avLst>
              <a:gd name="adj" fmla="val 46667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685800" y="5003640"/>
            <a:ext cx="2171880" cy="7858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5854680" y="5003640"/>
            <a:ext cx="2603520" cy="863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87" name=""/>
          <p:cNvSpPr/>
          <p:nvPr/>
        </p:nvSpPr>
        <p:spPr>
          <a:xfrm>
            <a:off x="4073400" y="5289480"/>
            <a:ext cx="736560" cy="216000"/>
          </a:xfrm>
          <a:prstGeom prst="rightArrow">
            <a:avLst>
              <a:gd name="adj1" fmla="val 50000"/>
              <a:gd name="adj2" fmla="val 8525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959560" y="4800600"/>
            <a:ext cx="29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st possible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62520" y="6073920"/>
            <a:ext cx="1792080" cy="368280"/>
          </a:xfr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899840" y="4495680"/>
            <a:ext cx="1028160" cy="368280"/>
          </a:xfr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ol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114800" y="152280"/>
            <a:ext cx="487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.R. Krantowitz, Z.J.J. Stekly, Appl. Phys. Lett.,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, 3, 56-57, 196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Z.J.J. Stekly, J.L. Zar, IEEE Trans. Nucl. Sci.,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, 367-372, 196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591240" cy="401148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at balance (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ideal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cas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4" name=""/>
          <p:cNvSpPr/>
          <p:nvPr/>
        </p:nvSpPr>
        <p:spPr>
          <a:xfrm>
            <a:off x="4648320" y="4724280"/>
            <a:ext cx="1792080" cy="459720"/>
          </a:xfr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gen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183320" y="3962520"/>
            <a:ext cx="1310040" cy="459720"/>
          </a:xfr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coo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017480" y="426708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994800" y="360684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yo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980400" y="2895480"/>
            <a:ext cx="22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cryo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980400" y="2209680"/>
            <a:ext cx="22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cryo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83040" y="1523880"/>
            <a:ext cx="53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heat transfer to the hel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495360" y="2263680"/>
            <a:ext cx="6591240" cy="367992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at balance (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real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cas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"/>
          <p:cNvSpPr/>
          <p:nvPr/>
        </p:nvSpPr>
        <p:spPr>
          <a:xfrm>
            <a:off x="4648320" y="4724280"/>
            <a:ext cx="1792080" cy="459720"/>
          </a:xfr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gen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107360" y="3962520"/>
            <a:ext cx="1310040" cy="459720"/>
          </a:xfr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coo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017480" y="426708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994800" y="360684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yo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980400" y="2895480"/>
            <a:ext cx="22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cryo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980400" y="2209680"/>
            <a:ext cx="22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cryo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280880" y="1523880"/>
            <a:ext cx="51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iling heat transfer to the hel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kly-</a:t>
            </a:r>
            <a:r>
              <a:rPr b="0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642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kly cryostability cond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formulated as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Stekl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1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um cryostable operating curren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Stek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2603520" cy="86364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1828800" y="5334120"/>
            <a:ext cx="3060720" cy="9903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3"/>
          <a:stretch/>
        </p:blipFill>
        <p:spPr>
          <a:xfrm>
            <a:off x="1828800" y="3657600"/>
            <a:ext cx="28065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ahoma"/>
              </a:rPr>
              <a:t>Plan of the l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642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training and degrad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perturbation spectrum over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heat bal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Joule hea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cooling and heat trans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bility crite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enthalpy stabil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cryost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ld end recovery and the </a:t>
            </a:r>
            <a:r>
              <a:rPr b="0" i="1" lang="en-US" sz="1800" spc="-1" strike="noStrike">
                <a:solidFill>
                  <a:srgbClr val="ff0000"/>
                </a:solidFill>
                <a:latin typeface="Tahoma"/>
              </a:rPr>
              <a:t>equal-area theor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meta-stable conductor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well-cooled operation in CICC’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MPZ and MQ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ld-end eff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642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the contribution of heat conduction ? Request steady state stability in all conditio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the normal zon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o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i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quilibr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1676520" y="4876920"/>
            <a:ext cx="1942920" cy="78876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4114800" y="4191120"/>
            <a:ext cx="3959280" cy="221112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7162920" y="464832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3"/>
          <a:stretch/>
        </p:blipFill>
        <p:spPr>
          <a:xfrm>
            <a:off x="2286000" y="2666880"/>
            <a:ext cx="5270400" cy="86364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 rot="2704800">
            <a:off x="2095200" y="2527200"/>
            <a:ext cx="1187640" cy="1187280"/>
          </a:xfrm>
          <a:prstGeom prst="plus">
            <a:avLst>
              <a:gd name="adj" fmla="val 46667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rot="2704800">
            <a:off x="3086640" y="2831400"/>
            <a:ext cx="609480" cy="610920"/>
          </a:xfrm>
          <a:prstGeom prst="plus">
            <a:avLst>
              <a:gd name="adj" fmla="val 42199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F9" descr=""/>
          <p:cNvPicPr/>
          <p:nvPr/>
        </p:nvPicPr>
        <p:blipFill>
          <a:blip r:embed="rId1"/>
          <a:stretch/>
        </p:blipFill>
        <p:spPr>
          <a:xfrm>
            <a:off x="5062680" y="2300400"/>
            <a:ext cx="3527280" cy="32144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ining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9052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conducting solenoids built from NbZr and N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n in the early 60’s quenched much below the rated current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quench current increased gradually quench after quench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M.A.R. LeBlanc, Phys. Rev., </a:t>
            </a:r>
            <a:r>
              <a:rPr b="1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124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, 1423, 1961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6217560" y="1709640"/>
            <a:ext cx="154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bZr solen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ster, 19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48240" y="5692680"/>
            <a:ext cx="369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P.F. Chester, Rep. Prog. Phys., </a:t>
            </a:r>
            <a:r>
              <a:rPr b="1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XXX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, II, 561, 1967.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4667400" y="3352680"/>
            <a:ext cx="4248000" cy="104004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qual-area theor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642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a new varia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"/>
          <p:cNvSpPr/>
          <p:nvPr/>
        </p:nvSpPr>
        <p:spPr>
          <a:xfrm>
            <a:off x="3886200" y="15228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.J. Maddock, G.B. James, W.T. Norris, Cryogenics,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, 261-273, 196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6095880" y="1447920"/>
            <a:ext cx="1214640" cy="790560"/>
          </a:xfrm>
          <a:prstGeom prst="rect">
            <a:avLst/>
          </a:prstGeom>
          <a:ln w="0">
            <a:noFill/>
          </a:ln>
        </p:spPr>
      </p:pic>
      <p:grpSp>
        <p:nvGrpSpPr>
          <p:cNvPr id="530" name=""/>
          <p:cNvGrpSpPr/>
          <p:nvPr/>
        </p:nvGrpSpPr>
        <p:grpSpPr>
          <a:xfrm>
            <a:off x="5486400" y="4521240"/>
            <a:ext cx="2666880" cy="736560"/>
            <a:chOff x="5486400" y="4521240"/>
            <a:chExt cx="2666880" cy="736560"/>
          </a:xfrm>
        </p:grpSpPr>
        <p:sp>
          <p:nvSpPr>
            <p:cNvPr id="531" name=""/>
            <p:cNvSpPr/>
            <p:nvPr/>
          </p:nvSpPr>
          <p:spPr>
            <a:xfrm rot="5400000">
              <a:off x="6457320" y="4781520"/>
              <a:ext cx="736560" cy="215640"/>
            </a:xfrm>
            <a:prstGeom prst="rightArrow">
              <a:avLst>
                <a:gd name="adj1" fmla="val 50000"/>
                <a:gd name="adj2" fmla="val 85392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486400" y="459756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0000ff"/>
                  </a:solidFill>
                  <a:latin typeface="Tahoma"/>
                </a:rPr>
                <a:t>op </a:t>
              </a: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= 0     S</a:t>
              </a:r>
              <a:r>
                <a:rPr b="0" lang="en-US" sz="2400" spc="-1" strike="noStrike" baseline="-25000">
                  <a:solidFill>
                    <a:srgbClr val="0000ff"/>
                  </a:solidFill>
                  <a:latin typeface="Tahoma"/>
                </a:rPr>
                <a:t>eq</a:t>
              </a: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=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155600" y="4952880"/>
            <a:ext cx="13716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wh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op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971800" y="4114800"/>
            <a:ext cx="1295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A/w q’’’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474480" y="1981080"/>
            <a:ext cx="4035960" cy="2369160"/>
            <a:chOff x="474480" y="1981080"/>
            <a:chExt cx="4035960" cy="2369160"/>
          </a:xfrm>
        </p:grpSpPr>
        <p:sp>
          <p:nvSpPr>
            <p:cNvPr id="536" name=""/>
            <p:cNvSpPr/>
            <p:nvPr/>
          </p:nvSpPr>
          <p:spPr>
            <a:xfrm>
              <a:off x="611280" y="19810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1039680" y="2099880"/>
              <a:ext cx="0" cy="189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954000" y="3908520"/>
              <a:ext cx="344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201560" y="3951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97880" y="2743200"/>
              <a:ext cx="4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74480" y="3124080"/>
              <a:ext cx="485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1039680" y="3392640"/>
              <a:ext cx="15940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028880" y="2624040"/>
              <a:ext cx="3139920" cy="1274760"/>
            </a:xfrm>
            <a:custGeom>
              <a:avLst/>
              <a:gdLst/>
              <a:ahLst/>
              <a:rect l="l" t="t" r="r" b="b"/>
              <a:pathLst>
                <a:path w="1978" h="803">
                  <a:moveTo>
                    <a:pt x="0" y="803"/>
                  </a:moveTo>
                  <a:cubicBezTo>
                    <a:pt x="63" y="796"/>
                    <a:pt x="256" y="792"/>
                    <a:pt x="376" y="763"/>
                  </a:cubicBezTo>
                  <a:cubicBezTo>
                    <a:pt x="496" y="734"/>
                    <a:pt x="623" y="670"/>
                    <a:pt x="720" y="627"/>
                  </a:cubicBezTo>
                  <a:cubicBezTo>
                    <a:pt x="817" y="584"/>
                    <a:pt x="882" y="551"/>
                    <a:pt x="959" y="507"/>
                  </a:cubicBezTo>
                  <a:cubicBezTo>
                    <a:pt x="1036" y="463"/>
                    <a:pt x="1102" y="429"/>
                    <a:pt x="1182" y="363"/>
                  </a:cubicBezTo>
                  <a:cubicBezTo>
                    <a:pt x="1262" y="297"/>
                    <a:pt x="1352" y="169"/>
                    <a:pt x="1438" y="111"/>
                  </a:cubicBezTo>
                  <a:cubicBezTo>
                    <a:pt x="1524" y="54"/>
                    <a:pt x="1607" y="40"/>
                    <a:pt x="1697" y="22"/>
                  </a:cubicBezTo>
                  <a:cubicBezTo>
                    <a:pt x="1787" y="3"/>
                    <a:pt x="1919" y="5"/>
                    <a:pt x="197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1039320" y="3048120"/>
              <a:ext cx="2024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 flipV="1">
              <a:off x="1039320" y="2617560"/>
              <a:ext cx="3102120" cy="61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78080" y="2362320"/>
              <a:ext cx="50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e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78080" y="3657600"/>
              <a:ext cx="50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41800" y="2624040"/>
              <a:ext cx="0" cy="1262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610920" y="3048120"/>
            <a:ext cx="3883680" cy="3511800"/>
            <a:chOff x="610920" y="3048120"/>
            <a:chExt cx="3883680" cy="3511800"/>
          </a:xfrm>
        </p:grpSpPr>
        <p:grpSp>
          <p:nvGrpSpPr>
            <p:cNvPr id="550" name=""/>
            <p:cNvGrpSpPr/>
            <p:nvPr/>
          </p:nvGrpSpPr>
          <p:grpSpPr>
            <a:xfrm>
              <a:off x="2590920" y="3048120"/>
              <a:ext cx="473040" cy="3055680"/>
              <a:chOff x="2590920" y="3048120"/>
              <a:chExt cx="473040" cy="3055680"/>
            </a:xfrm>
          </p:grpSpPr>
          <p:sp>
            <p:nvSpPr>
              <p:cNvPr id="551" name=""/>
              <p:cNvSpPr/>
              <p:nvPr/>
            </p:nvSpPr>
            <p:spPr>
              <a:xfrm>
                <a:off x="2590920" y="3390840"/>
                <a:ext cx="0" cy="2711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063960" y="3048120"/>
                <a:ext cx="0" cy="3055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610920" y="4267080"/>
              <a:ext cx="3883680" cy="2292840"/>
              <a:chOff x="610920" y="4267080"/>
              <a:chExt cx="3883680" cy="2292840"/>
            </a:xfrm>
          </p:grpSpPr>
          <p:grpSp>
            <p:nvGrpSpPr>
              <p:cNvPr id="554" name=""/>
              <p:cNvGrpSpPr/>
              <p:nvPr/>
            </p:nvGrpSpPr>
            <p:grpSpPr>
              <a:xfrm>
                <a:off x="610920" y="4267080"/>
                <a:ext cx="3883680" cy="2292840"/>
                <a:chOff x="610920" y="4267080"/>
                <a:chExt cx="3883680" cy="229284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610920" y="4267080"/>
                  <a:ext cx="435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q’’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flipV="1">
                  <a:off x="1023840" y="4309560"/>
                  <a:ext cx="0" cy="1893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938160" y="6118200"/>
                  <a:ext cx="344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4185720" y="616104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028520" y="4562280"/>
                  <a:ext cx="3122640" cy="1551240"/>
                </a:xfrm>
                <a:custGeom>
                  <a:avLst/>
                  <a:gdLst/>
                  <a:ahLst/>
                  <a:rect l="l" t="t" r="r" b="b"/>
                  <a:pathLst>
                    <a:path w="8195" h="4071">
                      <a:moveTo>
                        <a:pt x="0" y="4071"/>
                      </a:moveTo>
                      <a:cubicBezTo>
                        <a:pt x="417" y="4011"/>
                        <a:pt x="1881" y="4054"/>
                        <a:pt x="2505" y="3711"/>
                      </a:cubicBezTo>
                      <a:cubicBezTo>
                        <a:pt x="3129" y="3368"/>
                        <a:pt x="3355" y="2158"/>
                        <a:pt x="3745" y="2011"/>
                      </a:cubicBezTo>
                      <a:cubicBezTo>
                        <a:pt x="4135" y="1864"/>
                        <a:pt x="4535" y="2918"/>
                        <a:pt x="4845" y="2831"/>
                      </a:cubicBezTo>
                      <a:cubicBezTo>
                        <a:pt x="5155" y="2744"/>
                        <a:pt x="5345" y="1888"/>
                        <a:pt x="5605" y="1491"/>
                      </a:cubicBezTo>
                      <a:cubicBezTo>
                        <a:pt x="5865" y="1094"/>
                        <a:pt x="6125" y="688"/>
                        <a:pt x="6405" y="451"/>
                      </a:cubicBezTo>
                      <a:cubicBezTo>
                        <a:pt x="6685" y="214"/>
                        <a:pt x="6987" y="142"/>
                        <a:pt x="7285" y="71"/>
                      </a:cubicBezTo>
                      <a:cubicBezTo>
                        <a:pt x="7583" y="0"/>
                        <a:pt x="8006" y="32"/>
                        <a:pt x="8195" y="22"/>
                      </a:cubicBezTo>
                    </a:path>
                  </a:pathLst>
                </a:custGeom>
                <a:noFill/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1023840" y="4568760"/>
                  <a:ext cx="3143160" cy="1549440"/>
                </a:xfrm>
                <a:custGeom>
                  <a:avLst/>
                  <a:gdLst/>
                  <a:ahLst/>
                  <a:rect l="l" t="t" r="r" b="b"/>
                  <a:pathLst>
                    <a:path w="8249" h="4068">
                      <a:moveTo>
                        <a:pt x="0" y="4068"/>
                      </a:moveTo>
                      <a:lnTo>
                        <a:pt x="4068" y="4068"/>
                      </a:lnTo>
                      <a:lnTo>
                        <a:pt x="5311" y="0"/>
                      </a:lnTo>
                      <a:lnTo>
                        <a:pt x="8249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1" name=""/>
              <p:cNvSpPr/>
              <p:nvPr/>
            </p:nvSpPr>
            <p:spPr>
              <a:xfrm>
                <a:off x="4097160" y="4579920"/>
                <a:ext cx="0" cy="1523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62" name="" descr=""/>
          <p:cNvPicPr/>
          <p:nvPr/>
        </p:nvPicPr>
        <p:blipFill>
          <a:blip r:embed="rId3"/>
          <a:stretch/>
        </p:blipFill>
        <p:spPr>
          <a:xfrm>
            <a:off x="5067360" y="2362320"/>
            <a:ext cx="3448080" cy="85860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4"/>
          <a:stretch/>
        </p:blipFill>
        <p:spPr>
          <a:xfrm>
            <a:off x="5029200" y="5334120"/>
            <a:ext cx="3524400" cy="1039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qual area theorem (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ideal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cas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152280" y="3200400"/>
            <a:ext cx="4657680" cy="285264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4844880" y="4419720"/>
            <a:ext cx="3994200" cy="81576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5618160" y="3352680"/>
            <a:ext cx="2448000" cy="79236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4"/>
          <a:stretch/>
        </p:blipFill>
        <p:spPr>
          <a:xfrm>
            <a:off x="5580000" y="5334120"/>
            <a:ext cx="2525760" cy="75384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783360" y="2666880"/>
            <a:ext cx="78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area between generation and cooling curves 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5"/>
          <a:stretch/>
        </p:blipFill>
        <p:spPr>
          <a:xfrm>
            <a:off x="2743200" y="1600200"/>
            <a:ext cx="3524400" cy="1039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qual area theorem (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real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cas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6046560" cy="366732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5880240" y="1765440"/>
            <a:ext cx="1942920" cy="7887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6934320" y="2971800"/>
            <a:ext cx="1295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/w q’’’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676960" y="2158920"/>
            <a:ext cx="153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wh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op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ahoma"/>
              </a:rPr>
              <a:t>Plan of the l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642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training and degrad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perturbation spectrum over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heat bal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Joule hea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cooling and heat trans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bility crite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enthalpy stabil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cryost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cold end recovery and the </a:t>
            </a:r>
            <a:r>
              <a:rPr b="0" i="1" lang="en-US" sz="1800" spc="-1" strike="noStrike">
                <a:solidFill>
                  <a:srgbClr val="b2b2b2"/>
                </a:solidFill>
                <a:latin typeface="Tahoma"/>
              </a:rPr>
              <a:t>equal-area theor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eta-stable conductor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well-cooled operation in CICC’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MPZ and MQ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a-stable conduct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642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iabatically stabilized conductor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good for co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’’’ (bad for large magne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o-stabilized conductor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’’’, ideally infinite (good for large magne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bad for co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there a compromis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-1: helium 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5628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CS’s and CICC’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5572080" cy="397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4" name=""/>
          <p:cNvGraphicFramePr/>
          <p:nvPr/>
        </p:nvGraphicFramePr>
        <p:xfrm>
          <a:off x="5638680" y="1523880"/>
          <a:ext cx="1419480" cy="189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1523880"/>
                    <a:ext cx="1419480" cy="18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6629400" y="2286000"/>
          <a:ext cx="1886040" cy="1828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2286000"/>
                    <a:ext cx="18860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"/>
          <p:cNvSpPr/>
          <p:nvPr/>
        </p:nvSpPr>
        <p:spPr>
          <a:xfrm>
            <a:off x="5334120" y="152280"/>
            <a:ext cx="365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.O. Hoenig, Y. Iwasa, D.B. Montgomer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. 5th Magn. Tech. Conf., Frascati, 519, (197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6"/>
          <a:stretch/>
        </p:blipFill>
        <p:spPr>
          <a:xfrm>
            <a:off x="4952880" y="3657600"/>
            <a:ext cx="34768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79642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uctor temperatu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the helium temperature evolves as wel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 which conditions the heat capacity is effectively used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OTE: at large enough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ahoma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at balance for CICC’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3044880" y="3759120"/>
            <a:ext cx="2952720" cy="88920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1917720" y="2197080"/>
            <a:ext cx="52704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bility of CICC’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914400" y="2284560"/>
            <a:ext cx="0" cy="3657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-3785040" y="2665440"/>
            <a:ext cx="9398880" cy="472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3263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326332"/>
              </a:path>
            </a:pathLst>
          </a:cu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-3543120" y="4722840"/>
            <a:ext cx="8914680" cy="365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7196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719600"/>
              </a:path>
            </a:pathLst>
          </a:cu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38080" y="5865840"/>
            <a:ext cx="4419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rot="16200000">
            <a:off x="152640" y="252144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’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659480" y="59421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-3785760" y="2666880"/>
            <a:ext cx="9399960" cy="472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4791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479183"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895480" y="2894040"/>
            <a:ext cx="0" cy="20574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-3543120" y="4723920"/>
            <a:ext cx="8914680" cy="365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626" y="1138"/>
                </a:moveTo>
                <a:arcTo wR="10800" hR="10800" stAng="-3807320" swAng="2126920"/>
                <a:lnTo>
                  <a:pt x="10800" y="10800"/>
                </a:lnTo>
                <a:close/>
              </a:path>
              <a:path fill="none" w="21600" h="21600">
                <a:moveTo>
                  <a:pt x="15626" y="1138"/>
                </a:moveTo>
                <a:arcTo wR="10800" hR="10800" stAng="-3807320" swAng="2126920"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890800" y="1600200"/>
            <a:ext cx="4680" cy="426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607480" y="5942160"/>
            <a:ext cx="5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l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18840" y="3579840"/>
            <a:ext cx="212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lium + str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t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943200" y="4772160"/>
            <a:ext cx="175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t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075320" y="1447920"/>
            <a:ext cx="16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ule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o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48640" y="1447920"/>
            <a:ext cx="16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ule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o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5791320" y="2514600"/>
            <a:ext cx="2948040" cy="101916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1011960" y="335124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-coo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686400" y="464652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l-coo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86400" y="1600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 of Joule heat and cooling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486400" y="3581280"/>
            <a:ext cx="350532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quivalent to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ahoma"/>
              </a:rPr>
              <a:t>Stekly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is case however the CICC i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eta-s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large enough energy input will cause a quenc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352680" y="152280"/>
            <a:ext cx="563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.W. Lue, J.R. Miller, L. Dresner, J. Appl. Phys., 51, 1, 772, (198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.H. Schultz, J.V. Minervini, Proc. 9th Magn. Tech. Conf., Zurich , 643, (198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ahoma"/>
              </a:rPr>
              <a:t>Plan of the l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642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training and degrad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perturbation spectrum over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heat bal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Joule hea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cooling and heat trans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bility crite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enthalpy stabil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cryost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cold end recovery and the </a:t>
            </a:r>
            <a:r>
              <a:rPr b="0" i="1" lang="en-US" sz="1800" spc="-1" strike="noStrike">
                <a:solidFill>
                  <a:srgbClr val="b2b2b2"/>
                </a:solidFill>
                <a:latin typeface="Tahoma"/>
              </a:rPr>
              <a:t>equal-area theor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eta-stable conductor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well-cooled operation in CICC’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PZ and MQ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…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degrad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F5" descr=""/>
          <p:cNvPicPr/>
          <p:nvPr/>
        </p:nvPicPr>
        <p:blipFill>
          <a:blip r:embed="rId1"/>
          <a:stretch/>
        </p:blipFill>
        <p:spPr>
          <a:xfrm>
            <a:off x="4567320" y="2338560"/>
            <a:ext cx="4243320" cy="3457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562720" y="1677960"/>
            <a:ext cx="25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bZr solenoid vs. w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ster, 19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67480" y="3097080"/>
            <a:ext cx="1967040" cy="336600"/>
          </a:xfr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f NbZr w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70720" y="3610080"/>
            <a:ext cx="1773360" cy="503280"/>
          </a:xfr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max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ched in NbZr solen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6120" y="1789200"/>
            <a:ext cx="38797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905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did not quite reach the expected maximum current for the superconducting wire 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was initially explained as a local damage of the wire: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degrad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 very misleading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this had to do with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bility 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5321160" y="5934240"/>
            <a:ext cx="382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P.F. Chester, Rep. Prog. Phys., </a:t>
            </a:r>
            <a:r>
              <a:rPr b="1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XXX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, II, 561, 1967.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-2: heat conduction 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273960" y="1771560"/>
            <a:ext cx="4122360" cy="2464200"/>
            <a:chOff x="273960" y="1771560"/>
            <a:chExt cx="4122360" cy="2464200"/>
          </a:xfrm>
        </p:grpSpPr>
        <p:sp>
          <p:nvSpPr>
            <p:cNvPr id="620" name=""/>
            <p:cNvSpPr/>
            <p:nvPr/>
          </p:nvSpPr>
          <p:spPr>
            <a:xfrm>
              <a:off x="4087440" y="3836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24080" y="17715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843120" y="1928880"/>
              <a:ext cx="0" cy="200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57080" y="3851280"/>
              <a:ext cx="3445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00960" y="2685960"/>
              <a:ext cx="4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77920" y="3067200"/>
              <a:ext cx="485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843120" y="3335400"/>
              <a:ext cx="2108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38080" y="2260440"/>
              <a:ext cx="3124440" cy="1575000"/>
            </a:xfrm>
            <a:custGeom>
              <a:avLst/>
              <a:gdLst/>
              <a:ahLst/>
              <a:rect l="l" t="t" r="r" b="b"/>
              <a:pathLst>
                <a:path w="1968" h="992">
                  <a:moveTo>
                    <a:pt x="0" y="992"/>
                  </a:moveTo>
                  <a:cubicBezTo>
                    <a:pt x="47" y="989"/>
                    <a:pt x="152" y="992"/>
                    <a:pt x="280" y="976"/>
                  </a:cubicBezTo>
                  <a:cubicBezTo>
                    <a:pt x="408" y="960"/>
                    <a:pt x="612" y="935"/>
                    <a:pt x="768" y="896"/>
                  </a:cubicBezTo>
                  <a:cubicBezTo>
                    <a:pt x="924" y="857"/>
                    <a:pt x="1088" y="800"/>
                    <a:pt x="1216" y="744"/>
                  </a:cubicBezTo>
                  <a:cubicBezTo>
                    <a:pt x="1344" y="688"/>
                    <a:pt x="1453" y="655"/>
                    <a:pt x="1536" y="560"/>
                  </a:cubicBezTo>
                  <a:cubicBezTo>
                    <a:pt x="1619" y="465"/>
                    <a:pt x="1667" y="263"/>
                    <a:pt x="1712" y="176"/>
                  </a:cubicBezTo>
                  <a:cubicBezTo>
                    <a:pt x="1757" y="89"/>
                    <a:pt x="1765" y="69"/>
                    <a:pt x="1808" y="40"/>
                  </a:cubicBezTo>
                  <a:cubicBezTo>
                    <a:pt x="1851" y="11"/>
                    <a:pt x="1935" y="8"/>
                    <a:pt x="196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842760" y="2990880"/>
              <a:ext cx="2506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 flipV="1">
              <a:off x="843120" y="2251080"/>
              <a:ext cx="3101760" cy="64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73960" y="2048040"/>
              <a:ext cx="556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’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e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81520" y="3600360"/>
              <a:ext cx="50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944880" y="2271600"/>
              <a:ext cx="0" cy="155736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413280" y="4195800"/>
            <a:ext cx="3882960" cy="2292840"/>
            <a:chOff x="413280" y="4195800"/>
            <a:chExt cx="3882960" cy="2292840"/>
          </a:xfrm>
        </p:grpSpPr>
        <p:sp>
          <p:nvSpPr>
            <p:cNvPr id="634" name=""/>
            <p:cNvSpPr/>
            <p:nvPr/>
          </p:nvSpPr>
          <p:spPr>
            <a:xfrm>
              <a:off x="3987360" y="60897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13280" y="419580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q’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825480" y="4238280"/>
              <a:ext cx="0" cy="189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39800" y="6046920"/>
              <a:ext cx="344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30160" y="4800600"/>
              <a:ext cx="3122640" cy="1266840"/>
            </a:xfrm>
            <a:custGeom>
              <a:avLst/>
              <a:gdLst/>
              <a:ahLst/>
              <a:rect l="l" t="t" r="r" b="b"/>
              <a:pathLst>
                <a:path w="1967" h="798">
                  <a:moveTo>
                    <a:pt x="0" y="782"/>
                  </a:moveTo>
                  <a:cubicBezTo>
                    <a:pt x="100" y="771"/>
                    <a:pt x="396" y="798"/>
                    <a:pt x="601" y="713"/>
                  </a:cubicBezTo>
                  <a:cubicBezTo>
                    <a:pt x="806" y="628"/>
                    <a:pt x="1078" y="283"/>
                    <a:pt x="1229" y="272"/>
                  </a:cubicBezTo>
                  <a:cubicBezTo>
                    <a:pt x="1380" y="261"/>
                    <a:pt x="1447" y="584"/>
                    <a:pt x="1509" y="648"/>
                  </a:cubicBezTo>
                  <a:cubicBezTo>
                    <a:pt x="1571" y="712"/>
                    <a:pt x="1574" y="687"/>
                    <a:pt x="1603" y="656"/>
                  </a:cubicBezTo>
                  <a:cubicBezTo>
                    <a:pt x="1632" y="625"/>
                    <a:pt x="1664" y="524"/>
                    <a:pt x="1685" y="464"/>
                  </a:cubicBezTo>
                  <a:cubicBezTo>
                    <a:pt x="1706" y="404"/>
                    <a:pt x="1715" y="347"/>
                    <a:pt x="1731" y="294"/>
                  </a:cubicBezTo>
                  <a:cubicBezTo>
                    <a:pt x="1747" y="241"/>
                    <a:pt x="1761" y="187"/>
                    <a:pt x="1783" y="146"/>
                  </a:cubicBezTo>
                  <a:cubicBezTo>
                    <a:pt x="1805" y="105"/>
                    <a:pt x="1830" y="72"/>
                    <a:pt x="1861" y="48"/>
                  </a:cubicBezTo>
                  <a:cubicBezTo>
                    <a:pt x="1892" y="24"/>
                    <a:pt x="1945" y="10"/>
                    <a:pt x="1967" y="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25480" y="4495680"/>
              <a:ext cx="3143160" cy="1551240"/>
            </a:xfrm>
            <a:custGeom>
              <a:avLst/>
              <a:gdLst/>
              <a:ahLst/>
              <a:rect l="l" t="t" r="r" b="b"/>
              <a:pathLst>
                <a:path w="1980" h="977">
                  <a:moveTo>
                    <a:pt x="0" y="977"/>
                  </a:moveTo>
                  <a:lnTo>
                    <a:pt x="1348" y="976"/>
                  </a:lnTo>
                  <a:lnTo>
                    <a:pt x="1600" y="0"/>
                  </a:lnTo>
                  <a:lnTo>
                    <a:pt x="1980" y="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898800" y="4508640"/>
              <a:ext cx="0" cy="152388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2971800" y="2990880"/>
            <a:ext cx="387360" cy="3067200"/>
            <a:chOff x="2971800" y="2990880"/>
            <a:chExt cx="387360" cy="3067200"/>
          </a:xfrm>
        </p:grpSpPr>
        <p:sp>
          <p:nvSpPr>
            <p:cNvPr id="642" name=""/>
            <p:cNvSpPr/>
            <p:nvPr/>
          </p:nvSpPr>
          <p:spPr>
            <a:xfrm>
              <a:off x="2971800" y="3333960"/>
              <a:ext cx="0" cy="27241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359160" y="2990880"/>
              <a:ext cx="0" cy="30481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1130400" y="5207040"/>
            <a:ext cx="13716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wh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op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997360" y="4076640"/>
            <a:ext cx="1295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A/w q’’’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194000" y="1468440"/>
            <a:ext cx="50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at the boundaries (symme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4826160" y="3297240"/>
            <a:ext cx="3868560" cy="3094200"/>
            <a:chOff x="4826160" y="3297240"/>
            <a:chExt cx="3868560" cy="3094200"/>
          </a:xfrm>
        </p:grpSpPr>
        <p:pic>
          <p:nvPicPr>
            <p:cNvPr id="648" name="" descr=""/>
            <p:cNvPicPr/>
            <p:nvPr/>
          </p:nvPicPr>
          <p:blipFill>
            <a:blip r:embed="rId1"/>
            <a:stretch/>
          </p:blipFill>
          <p:spPr>
            <a:xfrm>
              <a:off x="4826160" y="4191120"/>
              <a:ext cx="363528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"/>
            <p:cNvSpPr/>
            <p:nvPr/>
          </p:nvSpPr>
          <p:spPr>
            <a:xfrm>
              <a:off x="4854600" y="3297240"/>
              <a:ext cx="38401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ahoma"/>
                </a:rPr>
                <a:t>equal are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still poss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ut implies lower T’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eq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&lt; 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e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040760" y="146844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normal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4952880" y="2084400"/>
            <a:ext cx="3524400" cy="1039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rmal zone tempera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642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responding temperature profile can be traced by numerical integration of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qual are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alanc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4863960" y="2541600"/>
            <a:ext cx="3578040" cy="3933000"/>
            <a:chOff x="4863960" y="2541600"/>
            <a:chExt cx="3578040" cy="3933000"/>
          </a:xfrm>
        </p:grpSpPr>
        <p:pic>
          <p:nvPicPr>
            <p:cNvPr id="655" name="MPZ_profiles" descr=""/>
            <p:cNvPicPr/>
            <p:nvPr/>
          </p:nvPicPr>
          <p:blipFill>
            <a:blip r:embed="rId1"/>
            <a:stretch/>
          </p:blipFill>
          <p:spPr>
            <a:xfrm>
              <a:off x="5221080" y="2541600"/>
              <a:ext cx="3220920" cy="36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7968600" y="601488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16200000">
              <a:off x="4918680" y="264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221520" y="4122720"/>
              <a:ext cx="57672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q’’’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413040" y="4394160"/>
              <a:ext cx="507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1244520" y="5816520"/>
            <a:ext cx="365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.N. Wilson, Y. Iwasa, Cryogenics, 18, 17-25, 19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2"/>
          <a:stretch/>
        </p:blipFill>
        <p:spPr>
          <a:xfrm>
            <a:off x="1295280" y="3733920"/>
            <a:ext cx="3524400" cy="1039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P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90528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table equilibrium 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mperature increas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generation &gt; cool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hermal runaw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mperature decrease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generation &lt; cool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recove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4557600" y="2171880"/>
            <a:ext cx="4243680" cy="256824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225000" y="5156280"/>
            <a:ext cx="86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a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Minimum Propagating Zone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MP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ergy needed to form (instantaneously) a MPZ is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Minimum Quench Energ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MQE) among all possible ener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Q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9052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QE provides lower boundary for energy margin vs. all possible situ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QE allows verification of energy margin vs. perturbation spectrum, 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idate operation above the cryostable limits, 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 energy margin larger than adiabatic limi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st be computed numeric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8" name="MQE" descr=""/>
          <p:cNvPicPr/>
          <p:nvPr/>
        </p:nvPicPr>
        <p:blipFill>
          <a:blip r:embed="rId1"/>
          <a:stretch/>
        </p:blipFill>
        <p:spPr>
          <a:xfrm>
            <a:off x="5199120" y="1673280"/>
            <a:ext cx="3240000" cy="437364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4114800" y="5699160"/>
            <a:ext cx="851040" cy="368280"/>
          </a:xfr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-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076640" y="4911840"/>
            <a:ext cx="851040" cy="368280"/>
          </a:xfr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-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96080" y="2946240"/>
            <a:ext cx="1193760" cy="642600"/>
          </a:xfr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rt he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696080" y="2108160"/>
            <a:ext cx="1193760" cy="642600"/>
          </a:xfr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ng he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108840" y="2146320"/>
            <a:ext cx="2120760" cy="2730600"/>
          </a:xfrm>
          <a:custGeom>
            <a:avLst/>
            <a:gdLst/>
            <a:ahLst/>
            <a:rect l="l" t="t" r="r" b="b"/>
            <a:pathLst>
              <a:path w="1336" h="1720">
                <a:moveTo>
                  <a:pt x="0" y="0"/>
                </a:moveTo>
                <a:cubicBezTo>
                  <a:pt x="28" y="227"/>
                  <a:pt x="57" y="455"/>
                  <a:pt x="104" y="632"/>
                </a:cubicBezTo>
                <a:cubicBezTo>
                  <a:pt x="151" y="809"/>
                  <a:pt x="189" y="925"/>
                  <a:pt x="280" y="1064"/>
                </a:cubicBezTo>
                <a:cubicBezTo>
                  <a:pt x="371" y="1203"/>
                  <a:pt x="528" y="1371"/>
                  <a:pt x="648" y="1464"/>
                </a:cubicBezTo>
                <a:cubicBezTo>
                  <a:pt x="768" y="1557"/>
                  <a:pt x="885" y="1581"/>
                  <a:pt x="1000" y="1624"/>
                </a:cubicBezTo>
                <a:cubicBezTo>
                  <a:pt x="1115" y="1667"/>
                  <a:pt x="1225" y="1693"/>
                  <a:pt x="1336" y="172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134040" y="2158920"/>
            <a:ext cx="2133720" cy="1727280"/>
          </a:xfrm>
          <a:custGeom>
            <a:avLst/>
            <a:gdLst/>
            <a:ahLst/>
            <a:rect l="l" t="t" r="r" b="b"/>
            <a:pathLst>
              <a:path w="1344" h="1088">
                <a:moveTo>
                  <a:pt x="0" y="0"/>
                </a:moveTo>
                <a:cubicBezTo>
                  <a:pt x="12" y="69"/>
                  <a:pt x="40" y="276"/>
                  <a:pt x="72" y="416"/>
                </a:cubicBezTo>
                <a:cubicBezTo>
                  <a:pt x="104" y="556"/>
                  <a:pt x="101" y="745"/>
                  <a:pt x="192" y="840"/>
                </a:cubicBezTo>
                <a:cubicBezTo>
                  <a:pt x="283" y="935"/>
                  <a:pt x="484" y="949"/>
                  <a:pt x="616" y="984"/>
                </a:cubicBezTo>
                <a:cubicBezTo>
                  <a:pt x="748" y="1019"/>
                  <a:pt x="863" y="1031"/>
                  <a:pt x="984" y="1048"/>
                </a:cubicBezTo>
                <a:cubicBezTo>
                  <a:pt x="1105" y="1065"/>
                  <a:pt x="1269" y="1080"/>
                  <a:pt x="1344" y="1088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1447920"/>
            <a:ext cx="365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.N. Wilson, Y. Iwasa, Cryogenics, 18, 17-25, 19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general case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3924360" y="1650960"/>
            <a:ext cx="1752480" cy="2487600"/>
            <a:chOff x="3924360" y="1650960"/>
            <a:chExt cx="1752480" cy="2487600"/>
          </a:xfrm>
        </p:grpSpPr>
        <p:sp>
          <p:nvSpPr>
            <p:cNvPr id="678" name=""/>
            <p:cNvSpPr/>
            <p:nvPr/>
          </p:nvSpPr>
          <p:spPr>
            <a:xfrm>
              <a:off x="4527000" y="1650960"/>
              <a:ext cx="86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I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79" name=""/>
            <p:cNvGraphicFramePr/>
            <p:nvPr/>
          </p:nvGraphicFramePr>
          <p:xfrm>
            <a:off x="3924360" y="2133720"/>
            <a:ext cx="993600" cy="132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24360" y="2133720"/>
                      <a:ext cx="993600" cy="13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1" name=""/>
            <p:cNvGraphicFramePr/>
            <p:nvPr/>
          </p:nvGraphicFramePr>
          <p:xfrm>
            <a:off x="4356000" y="2857680"/>
            <a:ext cx="1320840" cy="1280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56000" y="2857680"/>
                      <a:ext cx="1320840" cy="12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83" name=""/>
          <p:cNvGrpSpPr/>
          <p:nvPr/>
        </p:nvGrpSpPr>
        <p:grpSpPr>
          <a:xfrm>
            <a:off x="916200" y="1650960"/>
            <a:ext cx="2808000" cy="1533600"/>
            <a:chOff x="916200" y="1650960"/>
            <a:chExt cx="2808000" cy="1533600"/>
          </a:xfrm>
        </p:grpSpPr>
        <p:sp>
          <p:nvSpPr>
            <p:cNvPr id="684" name=""/>
            <p:cNvSpPr/>
            <p:nvPr/>
          </p:nvSpPr>
          <p:spPr>
            <a:xfrm>
              <a:off x="916200" y="1650960"/>
              <a:ext cx="28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apes and stran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5" name="" descr=""/>
            <p:cNvPicPr/>
            <p:nvPr/>
          </p:nvPicPr>
          <p:blipFill>
            <a:blip r:embed="rId5"/>
            <a:stretch/>
          </p:blipFill>
          <p:spPr>
            <a:xfrm>
              <a:off x="1041480" y="2324160"/>
              <a:ext cx="2533680" cy="86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6" name=""/>
          <p:cNvGrpSpPr/>
          <p:nvPr/>
        </p:nvGrpSpPr>
        <p:grpSpPr>
          <a:xfrm>
            <a:off x="5907600" y="1582560"/>
            <a:ext cx="3021480" cy="2797200"/>
            <a:chOff x="5907600" y="1582560"/>
            <a:chExt cx="3021480" cy="2797200"/>
          </a:xfrm>
        </p:grpSpPr>
        <p:sp>
          <p:nvSpPr>
            <p:cNvPr id="687" name=""/>
            <p:cNvSpPr/>
            <p:nvPr/>
          </p:nvSpPr>
          <p:spPr>
            <a:xfrm>
              <a:off x="5907600" y="1582560"/>
              <a:ext cx="3021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ables and brai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o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ower transmis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8" name="170wire" descr=""/>
            <p:cNvPicPr/>
            <p:nvPr/>
          </p:nvPicPr>
          <p:blipFill>
            <a:blip r:embed="rId6"/>
            <a:stretch/>
          </p:blipFill>
          <p:spPr>
            <a:xfrm>
              <a:off x="6662880" y="2776680"/>
              <a:ext cx="1612800" cy="160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9" name=""/>
          <p:cNvGrpSpPr/>
          <p:nvPr/>
        </p:nvGrpSpPr>
        <p:grpSpPr>
          <a:xfrm>
            <a:off x="762120" y="3733920"/>
            <a:ext cx="2771640" cy="1900080"/>
            <a:chOff x="762120" y="3733920"/>
            <a:chExt cx="2771640" cy="1900080"/>
          </a:xfrm>
        </p:grpSpPr>
        <p:sp>
          <p:nvSpPr>
            <p:cNvPr id="690" name=""/>
            <p:cNvSpPr/>
            <p:nvPr/>
          </p:nvSpPr>
          <p:spPr>
            <a:xfrm>
              <a:off x="1303920" y="3733920"/>
              <a:ext cx="175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utherfor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1" name="inner%20cable" descr=""/>
            <p:cNvPicPr/>
            <p:nvPr/>
          </p:nvPicPr>
          <p:blipFill>
            <a:blip r:embed="rId7"/>
            <a:stretch/>
          </p:blipFill>
          <p:spPr>
            <a:xfrm>
              <a:off x="762120" y="4648320"/>
              <a:ext cx="2771640" cy="98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cable_avec_ame" descr=""/>
            <p:cNvPicPr/>
            <p:nvPr/>
          </p:nvPicPr>
          <p:blipFill>
            <a:blip r:embed="rId8"/>
            <a:stretch/>
          </p:blipFill>
          <p:spPr>
            <a:xfrm>
              <a:off x="1371600" y="4419720"/>
              <a:ext cx="2048040" cy="44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"/>
          <p:cNvSpPr/>
          <p:nvPr/>
        </p:nvSpPr>
        <p:spPr>
          <a:xfrm>
            <a:off x="3735720" y="4275000"/>
            <a:ext cx="35013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nduced flo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transient heat transf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AC oper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current distribu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coolants (N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, Ne, H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)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…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odels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5" name=""/>
          <p:cNvSpPr/>
          <p:nvPr/>
        </p:nvSpPr>
        <p:spPr>
          <a:xfrm>
            <a:off x="1739520" y="5873760"/>
            <a:ext cx="579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ings can get VERY complicated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1030320" y="1773360"/>
            <a:ext cx="743904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…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ere to find out mo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81532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pers and revie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A.R. Krantowitz, Z.J.J. Stekly, </a:t>
            </a:r>
            <a:r>
              <a:rPr b="0" i="1" lang="en-GB" sz="1600" spc="-1" strike="noStrike">
                <a:solidFill>
                  <a:srgbClr val="000000"/>
                </a:solidFill>
                <a:latin typeface="Tahoma"/>
              </a:rPr>
              <a:t>A New Principle for the Construction of Stabilized Superconducting Coils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, Applied Physics Letters, 6, 3, 56-57, 1965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.F. Chester, </a:t>
            </a:r>
            <a:r>
              <a:rPr b="0" i="1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uperconducting Magnets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, Rep. Prog. Phys., 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XXX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, Part II, 561-614, 1967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B.J. Maddock, G.B. James, W.T. Norris, </a:t>
            </a:r>
            <a:r>
              <a:rPr b="0" i="1" lang="en-GB" sz="1600" spc="-1" strike="noStrike">
                <a:solidFill>
                  <a:srgbClr val="000000"/>
                </a:solidFill>
                <a:latin typeface="Tahoma"/>
              </a:rPr>
              <a:t>Superconductive Composites: Heat Transfer and Steady State Stabilization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, Cryogenics, 9, 261-273, 1969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M.N. Wilson, Y. Iwasa, </a:t>
            </a:r>
            <a:r>
              <a:rPr b="0" i="1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tability of Superconductors against Localized Disturbances of Limited Magnitude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, Cryogenics, 18, 17-25, 1978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L. Dresner, </a:t>
            </a:r>
            <a:r>
              <a:rPr b="0" i="1" lang="en-GB" sz="1600" spc="-1" strike="noStrike">
                <a:solidFill>
                  <a:srgbClr val="000000"/>
                </a:solidFill>
                <a:latin typeface="Tahoma"/>
              </a:rPr>
              <a:t>Superconductor Stability 1983: a Review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, Cryogenics, 24, 283,  198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ook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M.N. Wilson, </a:t>
            </a:r>
            <a:r>
              <a:rPr b="0" i="1" lang="en-GB" sz="1600" spc="-1" strike="noStrike">
                <a:solidFill>
                  <a:srgbClr val="000000"/>
                </a:solidFill>
                <a:latin typeface="Tahoma"/>
              </a:rPr>
              <a:t>Superconducting Magnets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, Plenum Press, 198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L. Dresner, </a:t>
            </a:r>
            <a:r>
              <a:rPr b="0" i="1" lang="en-GB" sz="1600" spc="-1" strike="noStrike">
                <a:solidFill>
                  <a:srgbClr val="000000"/>
                </a:solidFill>
                <a:latin typeface="Tahoma"/>
              </a:rPr>
              <a:t>Stability of Superconductors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, Plenum Press, 1995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.J. Lee ed., </a:t>
            </a:r>
            <a:r>
              <a:rPr b="0" i="1" lang="en-GB" sz="1600" spc="-1" strike="noStrike">
                <a:solidFill>
                  <a:srgbClr val="000000"/>
                </a:solidFill>
                <a:latin typeface="Tahoma"/>
              </a:rPr>
              <a:t>Engineering Superconductivity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, J. Wiley &amp; Sons, 2001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 Seeber ed.,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Handbook of Applied Superconductiv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IoP, 1998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. Iwasa,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Case Studies in Superconducting Magnet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Plenum Press, 199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79642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more difficult and special iss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mp-rate eff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49720" y="1600200"/>
            <a:ext cx="39052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nch current in SSC dipoles prototype showed a remarkable ramp-rate dependen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 behaviour (continuous drop of Iq as f dI/d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B behaviour (initial jump of Iq followed by a flat dependen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A. Devred, T. Ogitsu, </a:t>
            </a:r>
            <a:r>
              <a:rPr b="0" i="1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Frontiers of Accelerator Magnet Technology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, World Scientific, 184, 1996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4762440" cy="427680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3301200" y="279072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typ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517200" y="41115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typ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rrl" descr=""/>
          <p:cNvPicPr/>
          <p:nvPr/>
        </p:nvPicPr>
        <p:blipFill>
          <a:blip r:embed="rId1"/>
          <a:stretch/>
        </p:blipFill>
        <p:spPr>
          <a:xfrm>
            <a:off x="192240" y="1790640"/>
            <a:ext cx="4524120" cy="401004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2706840" y="3543480"/>
            <a:ext cx="146520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e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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que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RL in fusion magne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48280" y="1600200"/>
            <a:ext cx="390672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d fusion magnets showed significa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amp-rate limi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RRL) much below rated current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r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RL was observed below a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limiting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curr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lim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1117440" y="2349360"/>
            <a:ext cx="3124440" cy="38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323960" y="2103480"/>
            <a:ext cx="72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ahoma"/>
              </a:rPr>
              <a:t>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1079640" y="3441600"/>
            <a:ext cx="3124080" cy="3816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345920" y="3170160"/>
            <a:ext cx="913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ahoma"/>
              </a:rPr>
              <a:t>lim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66760" y="5896080"/>
            <a:ext cx="43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. Takayasu, et al., IEEE Trans. Appl. Sup.,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1), 456, 199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ining tod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03040" y="2352600"/>
            <a:ext cx="5124600" cy="37371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71960" y="1600200"/>
            <a:ext cx="39830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of an LHC short dipole model at superfluid hel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(limited) training may be necessary to reach nominal operating curr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sample limit is not reached, even after a long training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bility is (still) important 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2693880" y="1567800"/>
            <a:ext cx="1905120" cy="642600"/>
          </a:xfr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 T field in the dipole b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3880" y="4380840"/>
            <a:ext cx="1905120" cy="642600"/>
          </a:xfr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.3 field in the dipole b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60400" y="6095880"/>
            <a:ext cx="264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Courtesy of A. Siemko, CERN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lux-jum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9052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ring a complete flux-jump the field profile in a superconducting filament becomes fla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: field profile in a fully penetrated superconducting sl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ergy stored in the magnetic field profil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 = 50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, J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= 5000 A/m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"/>
          <p:cNvSpPr/>
          <p:nvPr/>
        </p:nvSpPr>
        <p:spPr>
          <a:xfrm>
            <a:off x="5672520" y="572616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Q’’’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3 mJ/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759120" y="5867280"/>
            <a:ext cx="1486080" cy="203400"/>
          </a:xfrm>
          <a:prstGeom prst="rightArrow">
            <a:avLst>
              <a:gd name="adj1" fmla="val 50000"/>
              <a:gd name="adj2" fmla="val 182655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4826160" y="2470320"/>
            <a:ext cx="1981080" cy="273024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/>
          <p:cNvPicPr/>
          <p:nvPr/>
        </p:nvPicPr>
        <p:blipFill>
          <a:blip r:embed="rId2"/>
          <a:stretch/>
        </p:blipFill>
        <p:spPr>
          <a:xfrm>
            <a:off x="2077920" y="3645000"/>
            <a:ext cx="1490760" cy="457200"/>
          </a:xfrm>
          <a:prstGeom prst="rect">
            <a:avLst/>
          </a:prstGeom>
          <a:ln w="0">
            <a:noFill/>
          </a:ln>
        </p:spPr>
      </p:pic>
      <p:pic>
        <p:nvPicPr>
          <p:cNvPr id="720" name="" descr=""/>
          <p:cNvPicPr/>
          <p:nvPr/>
        </p:nvPicPr>
        <p:blipFill>
          <a:blip r:embed="rId3"/>
          <a:stretch/>
        </p:blipFill>
        <p:spPr>
          <a:xfrm>
            <a:off x="6991200" y="2421000"/>
            <a:ext cx="1992600" cy="221760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4876920" y="1812240"/>
            <a:ext cx="2452680" cy="642600"/>
          </a:xfr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ea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o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uring flux ju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4"/>
          <a:stretch/>
        </p:blipFill>
        <p:spPr>
          <a:xfrm>
            <a:off x="1143000" y="4800600"/>
            <a:ext cx="3619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chanical ev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9052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trand carrying a current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a field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subjected to a force 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ce per unit length acting on the str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’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ahoma"/>
              </a:rPr>
              <a:t>op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= 400 A/m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, 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ahoma"/>
              </a:rPr>
              <a:t>op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= 10 T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4 GN/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displacement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a leng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quires a 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= 10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= 1 mm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’’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40 mJ/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6026040" y="1997640"/>
            <a:ext cx="2243520" cy="2692080"/>
            <a:chOff x="6026040" y="1997640"/>
            <a:chExt cx="2243520" cy="2692080"/>
          </a:xfrm>
        </p:grpSpPr>
        <p:sp>
          <p:nvSpPr>
            <p:cNvPr id="726" name=""/>
            <p:cNvSpPr/>
            <p:nvPr/>
          </p:nvSpPr>
          <p:spPr>
            <a:xfrm flipH="1" rot="8721000">
              <a:off x="6761160" y="2204640"/>
              <a:ext cx="223920" cy="2657160"/>
            </a:xfrm>
            <a:prstGeom prst="can">
              <a:avLst>
                <a:gd name="adj" fmla="val 3703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 rot="8721000">
              <a:off x="7309440" y="1825560"/>
              <a:ext cx="223920" cy="2657160"/>
            </a:xfrm>
            <a:prstGeom prst="can">
              <a:avLst>
                <a:gd name="adj" fmla="val 3703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7649640" y="4205880"/>
              <a:ext cx="36936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7563240" y="4080960"/>
              <a:ext cx="36936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7476480" y="3955680"/>
              <a:ext cx="36936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7389720" y="3830040"/>
              <a:ext cx="36936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7303320" y="3704760"/>
              <a:ext cx="36936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7216560" y="3579480"/>
              <a:ext cx="36936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7129800" y="3453840"/>
              <a:ext cx="36900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7043400" y="3328920"/>
              <a:ext cx="36936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6956640" y="3203640"/>
              <a:ext cx="36936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6869880" y="3077640"/>
              <a:ext cx="36900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6783480" y="2952720"/>
              <a:ext cx="36900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6696720" y="2827440"/>
              <a:ext cx="36936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6609960" y="2701440"/>
              <a:ext cx="36900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6523560" y="2576520"/>
              <a:ext cx="36900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6436800" y="2451240"/>
              <a:ext cx="36936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6350040" y="2325600"/>
              <a:ext cx="36900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6263280" y="2200320"/>
              <a:ext cx="36936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7375680" y="3117960"/>
            <a:ext cx="409320" cy="571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7378560" y="2251080"/>
            <a:ext cx="0" cy="87624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774560" y="3170160"/>
            <a:ext cx="52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381800" y="222408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6651720" y="3117960"/>
            <a:ext cx="714240" cy="536400"/>
          </a:xfrm>
          <a:prstGeom prst="line">
            <a:avLst/>
          </a:prstGeom>
          <a:ln w="28440">
            <a:solidFill>
              <a:srgbClr val="ff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620120" y="4572000"/>
            <a:ext cx="2919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140680" y="4203720"/>
            <a:ext cx="2919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7822800" y="4508640"/>
            <a:ext cx="507960" cy="34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810560" y="42544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645880" y="554832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Q’’’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1…10 mJ/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952880" y="5715000"/>
            <a:ext cx="736560" cy="216000"/>
          </a:xfrm>
          <a:prstGeom prst="rightArrow">
            <a:avLst>
              <a:gd name="adj1" fmla="val 50000"/>
              <a:gd name="adj2" fmla="val 8525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1"/>
          <a:stretch/>
        </p:blipFill>
        <p:spPr>
          <a:xfrm>
            <a:off x="2027160" y="5130720"/>
            <a:ext cx="1238400" cy="357120"/>
          </a:xfrm>
          <a:prstGeom prst="rect">
            <a:avLst/>
          </a:prstGeom>
          <a:ln w="0">
            <a:noFill/>
          </a:ln>
        </p:spPr>
      </p:pic>
      <p:sp>
        <p:nvSpPr>
          <p:cNvPr id="757" name=""/>
          <p:cNvSpPr/>
          <p:nvPr/>
        </p:nvSpPr>
        <p:spPr>
          <a:xfrm flipH="1">
            <a:off x="7029360" y="4667400"/>
            <a:ext cx="432000" cy="29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5594040" y="2546280"/>
            <a:ext cx="43164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638680" y="2793960"/>
            <a:ext cx="1447920" cy="2108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983200" y="3059280"/>
            <a:ext cx="3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5697360" y="3670200"/>
            <a:ext cx="1389240" cy="45720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3"/>
          <a:stretch/>
        </p:blipFill>
        <p:spPr>
          <a:xfrm>
            <a:off x="2205000" y="3340080"/>
            <a:ext cx="13892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 lo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48280" y="1600200"/>
            <a:ext cx="390672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hanging magnetic field causes persistent and coupling currents in a superconducting c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currents caus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ysteres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up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C lo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upling current loss due to a field ram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= 100 ms, dB/dt = 1 T/s,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 = 1 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"/>
          <p:cNvSpPr/>
          <p:nvPr/>
        </p:nvSpPr>
        <p:spPr>
          <a:xfrm>
            <a:off x="1217880" y="5472000"/>
            <a:ext cx="24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Q’’’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80 mJ/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4064040" y="5587920"/>
            <a:ext cx="736560" cy="216000"/>
          </a:xfrm>
          <a:prstGeom prst="rightArrow">
            <a:avLst>
              <a:gd name="adj1" fmla="val 50000"/>
              <a:gd name="adj2" fmla="val 8525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7" name=""/>
          <p:cNvGraphicFramePr/>
          <p:nvPr/>
        </p:nvGraphicFramePr>
        <p:xfrm>
          <a:off x="1333440" y="2273400"/>
          <a:ext cx="28288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3440" y="2273400"/>
                    <a:ext cx="28288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9" name=""/>
          <p:cNvSpPr/>
          <p:nvPr/>
        </p:nvSpPr>
        <p:spPr>
          <a:xfrm>
            <a:off x="2286000" y="2158920"/>
            <a:ext cx="0" cy="2971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812240" y="16336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B/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1523520" y="2908440"/>
            <a:ext cx="584280" cy="1294920"/>
            <a:chOff x="1523520" y="2908440"/>
            <a:chExt cx="584280" cy="1294920"/>
          </a:xfrm>
        </p:grpSpPr>
        <p:sp>
          <p:nvSpPr>
            <p:cNvPr id="772" name=""/>
            <p:cNvSpPr/>
            <p:nvPr/>
          </p:nvSpPr>
          <p:spPr>
            <a:xfrm flipH="1">
              <a:off x="1523520" y="3393720"/>
              <a:ext cx="461880" cy="75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1523520" y="3156480"/>
              <a:ext cx="461880" cy="75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1542600" y="3663720"/>
              <a:ext cx="461520" cy="75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1646280" y="2908440"/>
              <a:ext cx="461520" cy="75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1560960" y="3890520"/>
              <a:ext cx="461880" cy="75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1608840" y="4128120"/>
              <a:ext cx="461520" cy="75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2552760" y="3010320"/>
            <a:ext cx="570960" cy="1371240"/>
            <a:chOff x="2552760" y="3010320"/>
            <a:chExt cx="570960" cy="1371240"/>
          </a:xfrm>
        </p:grpSpPr>
        <p:sp>
          <p:nvSpPr>
            <p:cNvPr id="779" name=""/>
            <p:cNvSpPr/>
            <p:nvPr/>
          </p:nvSpPr>
          <p:spPr>
            <a:xfrm flipV="1">
              <a:off x="2672280" y="3787200"/>
              <a:ext cx="451440" cy="79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2672280" y="4038840"/>
              <a:ext cx="451440" cy="79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2653920" y="3501720"/>
              <a:ext cx="451440" cy="79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2552760" y="4301640"/>
              <a:ext cx="451440" cy="79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2635920" y="3261600"/>
              <a:ext cx="451080" cy="79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2589480" y="3010320"/>
              <a:ext cx="451440" cy="79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5" name="" descr=""/>
          <p:cNvPicPr/>
          <p:nvPr/>
        </p:nvPicPr>
        <p:blipFill>
          <a:blip r:embed="rId3"/>
          <a:stretch/>
        </p:blipFill>
        <p:spPr>
          <a:xfrm>
            <a:off x="5943600" y="4419720"/>
            <a:ext cx="19684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oule heating (cont’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5678280" cy="4314960"/>
          </a:xfrm>
          <a:prstGeom prst="rect">
            <a:avLst/>
          </a:prstGeom>
          <a:ln w="0">
            <a:noFill/>
          </a:ln>
        </p:spPr>
      </p:pic>
      <p:pic>
        <p:nvPicPr>
          <p:cNvPr id="788" name="" descr=""/>
          <p:cNvPicPr/>
          <p:nvPr/>
        </p:nvPicPr>
        <p:blipFill>
          <a:blip r:embed="rId2"/>
          <a:stretch/>
        </p:blipFill>
        <p:spPr>
          <a:xfrm>
            <a:off x="6705720" y="1523880"/>
            <a:ext cx="1765080" cy="101628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3"/>
          <a:stretch/>
        </p:blipFill>
        <p:spPr>
          <a:xfrm>
            <a:off x="6400800" y="2743200"/>
            <a:ext cx="232416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4800600" y="2003400"/>
            <a:ext cx="4146480" cy="3711600"/>
          </a:xfrm>
          <a:prstGeom prst="rect">
            <a:avLst/>
          </a:prstGeom>
          <a:ln w="0">
            <a:noFill/>
          </a:ln>
        </p:spPr>
      </p:pic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ced-flow heat trans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9052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ied Dittus-Boelter-Giarratano-Yaskin cor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coeffic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rection for large surface temperature differe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2"/>
          <a:stretch/>
        </p:blipFill>
        <p:spPr>
          <a:xfrm>
            <a:off x="457200" y="4572000"/>
            <a:ext cx="466092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perfluid helium heat trans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048280" y="1600200"/>
            <a:ext cx="390672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t transfer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sual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imited by the Kapitza resistance at the su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3…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200…400 W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quivalent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4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1"/>
          <a:stretch/>
        </p:blipFill>
        <p:spPr>
          <a:xfrm>
            <a:off x="5181480" y="5486400"/>
            <a:ext cx="3676680" cy="507960"/>
          </a:xfrm>
          <a:prstGeom prst="rect">
            <a:avLst/>
          </a:prstGeom>
          <a:ln w="0">
            <a:noFill/>
          </a:ln>
        </p:spPr>
      </p:pic>
      <p:pic>
        <p:nvPicPr>
          <p:cNvPr id="797" name="" descr=""/>
          <p:cNvPicPr/>
          <p:nvPr/>
        </p:nvPicPr>
        <p:blipFill>
          <a:blip r:embed="rId2"/>
          <a:stretch/>
        </p:blipFill>
        <p:spPr>
          <a:xfrm>
            <a:off x="501480" y="1981080"/>
            <a:ext cx="4146840" cy="3711600"/>
          </a:xfrm>
          <a:prstGeom prst="rect">
            <a:avLst/>
          </a:prstGeom>
          <a:ln w="0">
            <a:noFill/>
          </a:ln>
        </p:spPr>
      </p:pic>
      <p:pic>
        <p:nvPicPr>
          <p:cNvPr id="798" name="" descr=""/>
          <p:cNvPicPr/>
          <p:nvPr/>
        </p:nvPicPr>
        <p:blipFill>
          <a:blip r:embed="rId3"/>
          <a:stretch/>
        </p:blipFill>
        <p:spPr>
          <a:xfrm>
            <a:off x="5943600" y="3301920"/>
            <a:ext cx="24512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at flux limi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18148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asured stability of a CIC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1"/>
          <a:stretch/>
        </p:blipFill>
        <p:spPr>
          <a:xfrm>
            <a:off x="3301920" y="1612800"/>
            <a:ext cx="3530520" cy="448308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-1132200" y="1578600"/>
            <a:ext cx="5972760" cy="182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147" y="258"/>
                </a:moveTo>
                <a:arcTo wR="10800" hR="10800" stAng="-4646816" swAng="3078729"/>
                <a:lnTo>
                  <a:pt x="10800" y="10800"/>
                </a:lnTo>
                <a:close/>
              </a:path>
              <a:path fill="none" w="21600" h="21600">
                <a:moveTo>
                  <a:pt x="13147" y="258"/>
                </a:moveTo>
                <a:arcTo wR="10800" hR="10800" stAng="-4646816" swAng="3078729"/>
              </a:path>
            </a:pathLst>
          </a:cu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068920" y="4515480"/>
            <a:ext cx="5971320" cy="182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833" y="781"/>
                </a:moveTo>
                <a:arcTo wR="10800" hR="10800" stAng="-4084351" swAng="1777018"/>
                <a:lnTo>
                  <a:pt x="10800" y="10800"/>
                </a:lnTo>
                <a:close/>
              </a:path>
              <a:path fill="none" w="21600" h="21600">
                <a:moveTo>
                  <a:pt x="14833" y="781"/>
                </a:moveTo>
                <a:arcTo wR="10800" hR="10800" stAng="-4084351" swAng="1777018"/>
              </a:path>
            </a:pathLst>
          </a:custGeom>
          <a:noFill/>
          <a:ln w="2844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204920" y="1606680"/>
            <a:ext cx="24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well-cooled reg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928120" y="4756320"/>
            <a:ext cx="21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Tahoma"/>
              </a:rPr>
              <a:t>ill-cooled reg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940280" y="2387160"/>
            <a:ext cx="0" cy="37846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96600" y="2211480"/>
            <a:ext cx="2449800" cy="24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4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1.93 m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  = 9.4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h=1875 W/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K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6.2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4.5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388200" y="5629320"/>
            <a:ext cx="1003320" cy="405720"/>
          </a:xfr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H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2"/>
          <a:stretch/>
        </p:blipFill>
        <p:spPr>
          <a:xfrm>
            <a:off x="254160" y="5397480"/>
            <a:ext cx="2947680" cy="1019160"/>
          </a:xfrm>
          <a:prstGeom prst="rect">
            <a:avLst/>
          </a:prstGeom>
          <a:ln w="0">
            <a:noFill/>
          </a:ln>
        </p:spPr>
      </p:pic>
      <p:sp>
        <p:nvSpPr>
          <p:cNvPr id="811" name=""/>
          <p:cNvSpPr/>
          <p:nvPr/>
        </p:nvSpPr>
        <p:spPr>
          <a:xfrm>
            <a:off x="4102920" y="6173640"/>
            <a:ext cx="1668240" cy="510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ahoma"/>
              </a:rPr>
              <a:t>lim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= 380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rot="5400000">
            <a:off x="1320840" y="4800600"/>
            <a:ext cx="812880" cy="203040"/>
          </a:xfrm>
          <a:prstGeom prst="rightArrow">
            <a:avLst>
              <a:gd name="adj1" fmla="val 50000"/>
              <a:gd name="adj2" fmla="val 10008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 rot="10800000">
            <a:off x="3351600" y="5892840"/>
            <a:ext cx="559080" cy="203040"/>
          </a:xfrm>
          <a:prstGeom prst="rightArrow">
            <a:avLst>
              <a:gd name="adj1" fmla="val 50000"/>
              <a:gd name="adj2" fmla="val 6883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515280" y="1866960"/>
            <a:ext cx="25779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’’’ induces flow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helium and affect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f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Q’’’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f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Q’’’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949560" y="1981080"/>
            <a:ext cx="17528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858480" y="137952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ual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800600"/>
            <a:ext cx="533520" cy="3049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ICC’s in superfluid Heli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4559400" cy="455940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/>
          <p:nvPr/>
        </p:nvSpPr>
        <p:spPr>
          <a:xfrm>
            <a:off x="101520" y="5029200"/>
            <a:ext cx="4241880" cy="954360"/>
          </a:xfr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til th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transition from He-II to He-I (i.e. about 200 mJ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f helium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’’’ obtained scaling by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h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57200" y="6019920"/>
            <a:ext cx="6527880" cy="405720"/>
          </a:xfr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He-II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higher (Kapitza resistance) thus increasing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li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04920" y="1841400"/>
            <a:ext cx="354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ramatic effect is observed on stability as soon as the CICC is operated in superfluid Hel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01520" y="3962520"/>
            <a:ext cx="4013280" cy="916920"/>
          </a:xfr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in practice no effect for higher temperatures (corresponding to large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’’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bility exam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642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RI mag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B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training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3989520" y="1581120"/>
            <a:ext cx="2869920" cy="430200"/>
          </a:xfrm>
          <a:prstGeom prst="flowChartAlternate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ble operating 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6440" y="1581120"/>
            <a:ext cx="2943000" cy="2152800"/>
          </a:xfrm>
          <a:prstGeom prst="flowChartAlternate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ternal energy inp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lux ju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ductor mo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sulation cr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 l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eat lea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ucl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632040" y="2021040"/>
            <a:ext cx="3227400" cy="718920"/>
            <a:chOff x="3632040" y="2021040"/>
            <a:chExt cx="3227400" cy="718920"/>
          </a:xfrm>
        </p:grpSpPr>
        <p:sp>
          <p:nvSpPr>
            <p:cNvPr id="138" name=""/>
            <p:cNvSpPr/>
            <p:nvPr/>
          </p:nvSpPr>
          <p:spPr>
            <a:xfrm>
              <a:off x="3989520" y="2308320"/>
              <a:ext cx="2869920" cy="431640"/>
            </a:xfrm>
            <a:prstGeom prst="flowChartAlternate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emperature incre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24480" y="202104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632040" y="252396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070680" y="4548240"/>
            <a:ext cx="2870280" cy="1722240"/>
            <a:chOff x="6070680" y="4548240"/>
            <a:chExt cx="2870280" cy="1722240"/>
          </a:xfrm>
        </p:grpSpPr>
        <p:sp>
          <p:nvSpPr>
            <p:cNvPr id="142" name=""/>
            <p:cNvSpPr/>
            <p:nvPr/>
          </p:nvSpPr>
          <p:spPr>
            <a:xfrm>
              <a:off x="6070680" y="5840280"/>
              <a:ext cx="2870280" cy="430200"/>
            </a:xfrm>
            <a:prstGeom prst="flowChartAlternate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uen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02360" y="4548240"/>
              <a:ext cx="64620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74000" y="5051520"/>
              <a:ext cx="431640" cy="788760"/>
            </a:xfrm>
            <a:custGeom>
              <a:avLst/>
              <a:gdLst/>
              <a:ahLst/>
              <a:rect l="l" t="t" r="r" b="b"/>
              <a:pathLst>
                <a:path w="678" h="1243">
                  <a:moveTo>
                    <a:pt x="0" y="0"/>
                  </a:moveTo>
                  <a:lnTo>
                    <a:pt x="678" y="0"/>
                  </a:lnTo>
                  <a:lnTo>
                    <a:pt x="678" y="124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908000" y="4548240"/>
            <a:ext cx="2870280" cy="1650960"/>
            <a:chOff x="1908000" y="4548240"/>
            <a:chExt cx="2870280" cy="1650960"/>
          </a:xfrm>
        </p:grpSpPr>
        <p:sp>
          <p:nvSpPr>
            <p:cNvPr id="146" name=""/>
            <p:cNvSpPr/>
            <p:nvPr/>
          </p:nvSpPr>
          <p:spPr>
            <a:xfrm>
              <a:off x="3127320" y="4548240"/>
              <a:ext cx="64620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908000" y="5051520"/>
              <a:ext cx="2870280" cy="1147680"/>
              <a:chOff x="1908000" y="5051520"/>
              <a:chExt cx="2870280" cy="1147680"/>
            </a:xfrm>
          </p:grpSpPr>
          <p:sp>
            <p:nvSpPr>
              <p:cNvPr id="148" name=""/>
              <p:cNvSpPr/>
              <p:nvPr/>
            </p:nvSpPr>
            <p:spPr>
              <a:xfrm flipH="1">
                <a:off x="3342600" y="5051520"/>
                <a:ext cx="430200" cy="788760"/>
              </a:xfrm>
              <a:custGeom>
                <a:avLst/>
                <a:gdLst/>
                <a:ahLst/>
                <a:rect l="l" t="t" r="r" b="b"/>
                <a:pathLst>
                  <a:path w="678" h="1243">
                    <a:moveTo>
                      <a:pt x="0" y="0"/>
                    </a:moveTo>
                    <a:lnTo>
                      <a:pt x="678" y="0"/>
                    </a:lnTo>
                    <a:lnTo>
                      <a:pt x="678" y="1243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908000" y="5769000"/>
                <a:ext cx="2870280" cy="430200"/>
              </a:xfrm>
              <a:prstGeom prst="flowChartAlternateProcess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table operating condi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3989520" y="2725560"/>
            <a:ext cx="2869920" cy="1243080"/>
            <a:chOff x="3989520" y="2725560"/>
            <a:chExt cx="2869920" cy="1243080"/>
          </a:xfrm>
        </p:grpSpPr>
        <p:sp>
          <p:nvSpPr>
            <p:cNvPr id="151" name=""/>
            <p:cNvSpPr/>
            <p:nvPr/>
          </p:nvSpPr>
          <p:spPr>
            <a:xfrm>
              <a:off x="3989520" y="3036960"/>
              <a:ext cx="2869920" cy="931680"/>
            </a:xfrm>
            <a:prstGeom prst="flowChartAlternate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ransition to normal state and Joule heat generation in current sha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24480" y="2725560"/>
              <a:ext cx="0" cy="28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773520" y="3954600"/>
            <a:ext cx="3300480" cy="1885680"/>
            <a:chOff x="3773520" y="3954600"/>
            <a:chExt cx="3300480" cy="1885680"/>
          </a:xfrm>
        </p:grpSpPr>
        <p:sp>
          <p:nvSpPr>
            <p:cNvPr id="154" name=""/>
            <p:cNvSpPr/>
            <p:nvPr/>
          </p:nvSpPr>
          <p:spPr>
            <a:xfrm>
              <a:off x="3773520" y="4260960"/>
              <a:ext cx="3300480" cy="1579320"/>
            </a:xfrm>
            <a:prstGeom prst="flowChartDecision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ahoma"/>
                </a:rPr>
                <a:t>heat gener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&gt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ahoma"/>
                </a:rPr>
                <a:t>heat remov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24480" y="395460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333600" y="2514600"/>
            <a:ext cx="2105280" cy="3233880"/>
          </a:xfrm>
          <a:custGeom>
            <a:avLst/>
            <a:gdLst/>
            <a:ahLst/>
            <a:rect l="l" t="t" r="r" b="b"/>
            <a:pathLst>
              <a:path w="1326" h="2037">
                <a:moveTo>
                  <a:pt x="204" y="0"/>
                </a:moveTo>
                <a:lnTo>
                  <a:pt x="1323" y="0"/>
                </a:lnTo>
                <a:lnTo>
                  <a:pt x="1326" y="1587"/>
                </a:lnTo>
                <a:lnTo>
                  <a:pt x="0" y="1587"/>
                </a:lnTo>
                <a:lnTo>
                  <a:pt x="0" y="2037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5715000"/>
            <a:ext cx="3568680" cy="800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3600" y="4724280"/>
            <a:ext cx="25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bility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d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e4a8"/>
                </a:solidFill>
                <a:latin typeface="Tahoma"/>
              </a:rPr>
              <a:t>Adiabatic stability: MRI mag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102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2 (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4.2 (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400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*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bT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1650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0.2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7.6 (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0.83,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0.1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4038480" y="1295280"/>
            <a:ext cx="4419720" cy="2438280"/>
            <a:chOff x="4038480" y="1295280"/>
            <a:chExt cx="4419720" cy="2438280"/>
          </a:xfrm>
        </p:grpSpPr>
        <p:grpSp>
          <p:nvGrpSpPr>
            <p:cNvPr id="829" name=""/>
            <p:cNvGrpSpPr/>
            <p:nvPr/>
          </p:nvGrpSpPr>
          <p:grpSpPr>
            <a:xfrm>
              <a:off x="4038480" y="1828440"/>
              <a:ext cx="4419720" cy="304920"/>
              <a:chOff x="4038480" y="1828440"/>
              <a:chExt cx="4419720" cy="304920"/>
            </a:xfrm>
          </p:grpSpPr>
          <p:sp>
            <p:nvSpPr>
              <p:cNvPr id="830" name=""/>
              <p:cNvSpPr/>
              <p:nvPr/>
            </p:nvSpPr>
            <p:spPr>
              <a:xfrm>
                <a:off x="4114800" y="1828440"/>
                <a:ext cx="60948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257800" y="1904760"/>
                <a:ext cx="45720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019560" y="1904760"/>
                <a:ext cx="45720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781680" y="1904760"/>
                <a:ext cx="45720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772400" y="1828440"/>
                <a:ext cx="60948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038480" y="1904760"/>
                <a:ext cx="4419720" cy="228600"/>
              </a:xfrm>
              <a:custGeom>
                <a:avLst/>
                <a:gdLst/>
                <a:ahLst/>
                <a:rect l="l" t="t" r="r" b="b"/>
                <a:pathLst>
                  <a:path w="2784" h="144">
                    <a:moveTo>
                      <a:pt x="48" y="0"/>
                    </a:moveTo>
                    <a:lnTo>
                      <a:pt x="0" y="0"/>
                    </a:lnTo>
                    <a:lnTo>
                      <a:pt x="0" y="144"/>
                    </a:lnTo>
                    <a:lnTo>
                      <a:pt x="2784" y="144"/>
                    </a:lnTo>
                    <a:lnTo>
                      <a:pt x="2784" y="0"/>
                    </a:lnTo>
                    <a:lnTo>
                      <a:pt x="2736" y="0"/>
                    </a:lnTo>
                    <a:lnTo>
                      <a:pt x="2736" y="96"/>
                    </a:lnTo>
                    <a:lnTo>
                      <a:pt x="2352" y="96"/>
                    </a:lnTo>
                    <a:lnTo>
                      <a:pt x="2352" y="48"/>
                    </a:lnTo>
                    <a:lnTo>
                      <a:pt x="2016" y="48"/>
                    </a:lnTo>
                    <a:lnTo>
                      <a:pt x="2016" y="96"/>
                    </a:lnTo>
                    <a:lnTo>
                      <a:pt x="1728" y="96"/>
                    </a:lnTo>
                    <a:lnTo>
                      <a:pt x="1728" y="48"/>
                    </a:lnTo>
                    <a:lnTo>
                      <a:pt x="1536" y="48"/>
                    </a:lnTo>
                    <a:lnTo>
                      <a:pt x="1536" y="96"/>
                    </a:lnTo>
                    <a:lnTo>
                      <a:pt x="1248" y="96"/>
                    </a:lnTo>
                    <a:lnTo>
                      <a:pt x="1248" y="48"/>
                    </a:lnTo>
                    <a:lnTo>
                      <a:pt x="1056" y="48"/>
                    </a:lnTo>
                    <a:lnTo>
                      <a:pt x="1056" y="96"/>
                    </a:lnTo>
                    <a:lnTo>
                      <a:pt x="768" y="96"/>
                    </a:lnTo>
                    <a:lnTo>
                      <a:pt x="768" y="48"/>
                    </a:lnTo>
                    <a:lnTo>
                      <a:pt x="432" y="48"/>
                    </a:lnTo>
                    <a:lnTo>
                      <a:pt x="432" y="96"/>
                    </a:lnTo>
                    <a:lnTo>
                      <a:pt x="48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6" name=""/>
            <p:cNvSpPr/>
            <p:nvPr/>
          </p:nvSpPr>
          <p:spPr>
            <a:xfrm>
              <a:off x="4038480" y="3733560"/>
              <a:ext cx="4419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4495680" y="21330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rot="16200000">
              <a:off x="4011840" y="2790720"/>
              <a:ext cx="97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 8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038480" y="1523880"/>
              <a:ext cx="441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855040" y="1295280"/>
              <a:ext cx="875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6731280" y="2629080"/>
            <a:ext cx="2058480" cy="170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NbTi w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1 mm x 2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Cu:NbTi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J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5000 A/mm</a:t>
            </a:r>
            <a:r>
              <a:rPr b="0" lang="en-US" sz="20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T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Tahoma"/>
              </a:rPr>
              <a:t>c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= 8.7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2" name="OKSC-MRI-2" descr=""/>
          <p:cNvPicPr/>
          <p:nvPr/>
        </p:nvPicPr>
        <p:blipFill>
          <a:blip r:embed="rId1"/>
          <a:stretch/>
        </p:blipFill>
        <p:spPr>
          <a:xfrm>
            <a:off x="5410080" y="3505320"/>
            <a:ext cx="712800" cy="649080"/>
          </a:xfrm>
          <a:prstGeom prst="rect">
            <a:avLst/>
          </a:prstGeom>
          <a:ln w="0">
            <a:noFill/>
          </a:ln>
        </p:spPr>
      </p:pic>
      <p:pic>
        <p:nvPicPr>
          <p:cNvPr id="843" name="MRI-OKSC-1" descr=""/>
          <p:cNvPicPr/>
          <p:nvPr/>
        </p:nvPicPr>
        <p:blipFill>
          <a:blip r:embed="rId2"/>
          <a:stretch/>
        </p:blipFill>
        <p:spPr>
          <a:xfrm>
            <a:off x="5715000" y="3886200"/>
            <a:ext cx="1147680" cy="776160"/>
          </a:xfrm>
          <a:prstGeom prst="rect">
            <a:avLst/>
          </a:prstGeom>
          <a:ln w="0">
            <a:noFill/>
          </a:ln>
        </p:spPr>
      </p:pic>
      <p:pic>
        <p:nvPicPr>
          <p:cNvPr id="844" name="" descr=""/>
          <p:cNvPicPr/>
          <p:nvPr/>
        </p:nvPicPr>
        <p:blipFill>
          <a:blip r:embed="rId3"/>
          <a:stretch/>
        </p:blipFill>
        <p:spPr>
          <a:xfrm>
            <a:off x="1066680" y="4876920"/>
            <a:ext cx="3721320" cy="507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845" name=""/>
          <p:cNvSpPr/>
          <p:nvPr/>
        </p:nvSpPr>
        <p:spPr>
          <a:xfrm>
            <a:off x="3536640" y="5791320"/>
            <a:ext cx="27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Q’’’=13 mJ/cm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6" name="fig16_07" descr=""/>
          <p:cNvPicPr/>
          <p:nvPr/>
        </p:nvPicPr>
        <p:blipFill>
          <a:blip r:embed="rId4"/>
          <a:stretch/>
        </p:blipFill>
        <p:spPr>
          <a:xfrm>
            <a:off x="6553080" y="4419720"/>
            <a:ext cx="20732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7" name=""/>
          <p:cNvGrpSpPr/>
          <p:nvPr/>
        </p:nvGrpSpPr>
        <p:grpSpPr>
          <a:xfrm>
            <a:off x="4876920" y="1523880"/>
            <a:ext cx="3314160" cy="1371240"/>
            <a:chOff x="4876920" y="1523880"/>
            <a:chExt cx="3314160" cy="1371240"/>
          </a:xfrm>
        </p:grpSpPr>
        <p:grpSp>
          <p:nvGrpSpPr>
            <p:cNvPr id="848" name=""/>
            <p:cNvGrpSpPr/>
            <p:nvPr/>
          </p:nvGrpSpPr>
          <p:grpSpPr>
            <a:xfrm>
              <a:off x="4876920" y="1523880"/>
              <a:ext cx="3314160" cy="227880"/>
              <a:chOff x="4876920" y="1523880"/>
              <a:chExt cx="3314160" cy="227880"/>
            </a:xfrm>
          </p:grpSpPr>
          <p:sp>
            <p:nvSpPr>
              <p:cNvPr id="849" name=""/>
              <p:cNvSpPr/>
              <p:nvPr/>
            </p:nvSpPr>
            <p:spPr>
              <a:xfrm>
                <a:off x="4933800" y="1523880"/>
                <a:ext cx="456840" cy="171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790960" y="1580760"/>
                <a:ext cx="342720" cy="1137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362280" y="1580760"/>
                <a:ext cx="342720" cy="1137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933960" y="1580760"/>
                <a:ext cx="342720" cy="1137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76640" y="1523880"/>
                <a:ext cx="456840" cy="171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876920" y="1580760"/>
                <a:ext cx="3314160" cy="171000"/>
              </a:xfrm>
              <a:custGeom>
                <a:avLst/>
                <a:gdLst/>
                <a:ahLst/>
                <a:rect l="l" t="t" r="r" b="b"/>
                <a:pathLst>
                  <a:path w="2784" h="144">
                    <a:moveTo>
                      <a:pt x="48" y="0"/>
                    </a:moveTo>
                    <a:lnTo>
                      <a:pt x="0" y="0"/>
                    </a:lnTo>
                    <a:lnTo>
                      <a:pt x="0" y="144"/>
                    </a:lnTo>
                    <a:lnTo>
                      <a:pt x="2784" y="144"/>
                    </a:lnTo>
                    <a:lnTo>
                      <a:pt x="2784" y="0"/>
                    </a:lnTo>
                    <a:lnTo>
                      <a:pt x="2736" y="0"/>
                    </a:lnTo>
                    <a:lnTo>
                      <a:pt x="2736" y="96"/>
                    </a:lnTo>
                    <a:lnTo>
                      <a:pt x="2352" y="96"/>
                    </a:lnTo>
                    <a:lnTo>
                      <a:pt x="2352" y="48"/>
                    </a:lnTo>
                    <a:lnTo>
                      <a:pt x="2016" y="48"/>
                    </a:lnTo>
                    <a:lnTo>
                      <a:pt x="2016" y="96"/>
                    </a:lnTo>
                    <a:lnTo>
                      <a:pt x="1728" y="96"/>
                    </a:lnTo>
                    <a:lnTo>
                      <a:pt x="1728" y="48"/>
                    </a:lnTo>
                    <a:lnTo>
                      <a:pt x="1536" y="48"/>
                    </a:lnTo>
                    <a:lnTo>
                      <a:pt x="1536" y="96"/>
                    </a:lnTo>
                    <a:lnTo>
                      <a:pt x="1248" y="96"/>
                    </a:lnTo>
                    <a:lnTo>
                      <a:pt x="1248" y="48"/>
                    </a:lnTo>
                    <a:lnTo>
                      <a:pt x="1056" y="48"/>
                    </a:lnTo>
                    <a:lnTo>
                      <a:pt x="1056" y="96"/>
                    </a:lnTo>
                    <a:lnTo>
                      <a:pt x="768" y="96"/>
                    </a:lnTo>
                    <a:lnTo>
                      <a:pt x="768" y="48"/>
                    </a:lnTo>
                    <a:lnTo>
                      <a:pt x="432" y="48"/>
                    </a:lnTo>
                    <a:lnTo>
                      <a:pt x="432" y="96"/>
                    </a:lnTo>
                    <a:lnTo>
                      <a:pt x="48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5" name=""/>
            <p:cNvSpPr/>
            <p:nvPr/>
          </p:nvSpPr>
          <p:spPr>
            <a:xfrm>
              <a:off x="4876920" y="2895120"/>
              <a:ext cx="3314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533520" y="2565360"/>
            <a:ext cx="5138640" cy="3530520"/>
            <a:chOff x="533520" y="2565360"/>
            <a:chExt cx="5138640" cy="3530520"/>
          </a:xfrm>
        </p:grpSpPr>
        <p:pic>
          <p:nvPicPr>
            <p:cNvPr id="857" name="" descr=""/>
            <p:cNvPicPr/>
            <p:nvPr/>
          </p:nvPicPr>
          <p:blipFill>
            <a:blip r:embed="rId1"/>
            <a:stretch/>
          </p:blipFill>
          <p:spPr>
            <a:xfrm>
              <a:off x="533520" y="2565360"/>
              <a:ext cx="5138640" cy="35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"/>
            <p:cNvSpPr/>
            <p:nvPr/>
          </p:nvSpPr>
          <p:spPr>
            <a:xfrm>
              <a:off x="1252800" y="3251160"/>
              <a:ext cx="4114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e4a8"/>
                </a:solidFill>
                <a:latin typeface="Tahoma"/>
              </a:rPr>
              <a:t>Adiabatic stability: MRI mag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5516280" y="302256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Q’’’=13 mJ/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693760" y="4038480"/>
            <a:ext cx="273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arefu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areful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2" name="fig16_07" descr=""/>
          <p:cNvPicPr/>
          <p:nvPr/>
        </p:nvPicPr>
        <p:blipFill>
          <a:blip r:embed="rId2"/>
          <a:stretch/>
        </p:blipFill>
        <p:spPr>
          <a:xfrm>
            <a:off x="7238880" y="2286000"/>
            <a:ext cx="12985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e4a8"/>
                </a:solidFill>
                <a:latin typeface="Tahoma"/>
              </a:rPr>
              <a:t>Cryostability: the BEBC mag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9052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5.1 (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4.2 (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5700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3.4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176.5 (m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  = 61 (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7.4 (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=600 (W/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5" name="BEBC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664080" cy="291636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/>
          <p:cNvPicPr/>
          <p:nvPr/>
        </p:nvPicPr>
        <p:blipFill>
          <a:blip r:embed="rId2"/>
          <a:stretch/>
        </p:blipFill>
        <p:spPr>
          <a:xfrm>
            <a:off x="5791320" y="4267080"/>
            <a:ext cx="3101760" cy="236088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/>
          <p:nvPr/>
        </p:nvSpPr>
        <p:spPr>
          <a:xfrm>
            <a:off x="7256880" y="1523880"/>
            <a:ext cx="13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800 MJ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8" name="" descr=""/>
          <p:cNvPicPr/>
          <p:nvPr/>
        </p:nvPicPr>
        <p:blipFill>
          <a:blip r:embed="rId3"/>
          <a:stretch/>
        </p:blipFill>
        <p:spPr>
          <a:xfrm>
            <a:off x="1219320" y="4976640"/>
            <a:ext cx="2806560" cy="966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869" name=""/>
          <p:cNvSpPr/>
          <p:nvPr/>
        </p:nvSpPr>
        <p:spPr>
          <a:xfrm>
            <a:off x="3674880" y="5892840"/>
            <a:ext cx="1881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ahoma"/>
              </a:rPr>
              <a:t>Stekly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=0.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e4a8"/>
                </a:solidFill>
                <a:latin typeface="Tahoma"/>
              </a:rPr>
              <a:t>Cryostability: the BEBC mag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71" name="BEBC" descr=""/>
          <p:cNvPicPr/>
          <p:nvPr/>
        </p:nvPicPr>
        <p:blipFill>
          <a:blip r:embed="rId1"/>
          <a:stretch/>
        </p:blipFill>
        <p:spPr>
          <a:xfrm>
            <a:off x="6624720" y="1523880"/>
            <a:ext cx="2442960" cy="1944720"/>
          </a:xfrm>
          <a:prstGeom prst="rect">
            <a:avLst/>
          </a:prstGeom>
          <a:ln w="0">
            <a:noFill/>
          </a:ln>
        </p:spPr>
      </p:pic>
      <p:pic>
        <p:nvPicPr>
          <p:cNvPr id="872" name="" descr=""/>
          <p:cNvPicPr/>
          <p:nvPr/>
        </p:nvPicPr>
        <p:blipFill>
          <a:blip r:embed="rId2"/>
          <a:stretch/>
        </p:blipFill>
        <p:spPr>
          <a:xfrm>
            <a:off x="1066680" y="1752480"/>
            <a:ext cx="52102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BEBC" descr=""/>
          <p:cNvPicPr/>
          <p:nvPr/>
        </p:nvPicPr>
        <p:blipFill>
          <a:blip r:embed="rId1"/>
          <a:stretch/>
        </p:blipFill>
        <p:spPr>
          <a:xfrm>
            <a:off x="6616800" y="1484280"/>
            <a:ext cx="2442960" cy="194472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e4a8"/>
                </a:solidFill>
                <a:latin typeface="Tahoma"/>
              </a:rPr>
              <a:t>Equal area: the BEBC mag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9052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maximum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atisfying the Equal Area condition with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6" name="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2065320" cy="357120"/>
          </a:xfrm>
          <a:prstGeom prst="rect">
            <a:avLst/>
          </a:prstGeom>
          <a:ln w="0">
            <a:noFill/>
          </a:ln>
        </p:spPr>
      </p:pic>
      <p:pic>
        <p:nvPicPr>
          <p:cNvPr id="877" name="" descr=""/>
          <p:cNvPicPr/>
          <p:nvPr/>
        </p:nvPicPr>
        <p:blipFill>
          <a:blip r:embed="rId3"/>
          <a:stretch/>
        </p:blipFill>
        <p:spPr>
          <a:xfrm>
            <a:off x="1066680" y="4430880"/>
            <a:ext cx="2522520" cy="674640"/>
          </a:xfrm>
          <a:prstGeom prst="rect">
            <a:avLst/>
          </a:prstGeom>
          <a:ln w="0">
            <a:noFill/>
          </a:ln>
        </p:spPr>
      </p:pic>
      <p:pic>
        <p:nvPicPr>
          <p:cNvPr id="878" name="" descr=""/>
          <p:cNvPicPr/>
          <p:nvPr/>
        </p:nvPicPr>
        <p:blipFill>
          <a:blip r:embed="rId4"/>
          <a:stretch/>
        </p:blipFill>
        <p:spPr>
          <a:xfrm>
            <a:off x="1066680" y="3591000"/>
            <a:ext cx="2732040" cy="676080"/>
          </a:xfrm>
          <a:prstGeom prst="rect">
            <a:avLst/>
          </a:prstGeom>
          <a:ln w="0">
            <a:noFill/>
          </a:ln>
        </p:spPr>
      </p:pic>
      <p:pic>
        <p:nvPicPr>
          <p:cNvPr id="879" name="" descr=""/>
          <p:cNvPicPr/>
          <p:nvPr/>
        </p:nvPicPr>
        <p:blipFill>
          <a:blip r:embed="rId5"/>
          <a:stretch/>
        </p:blipFill>
        <p:spPr>
          <a:xfrm>
            <a:off x="3886200" y="2590920"/>
            <a:ext cx="4167360" cy="370980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2302560" y="5302080"/>
            <a:ext cx="20721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ahoma"/>
              </a:rPr>
              <a:t>op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= 7650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ahoma"/>
              </a:rPr>
              <a:t>op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= 6.8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ahoma"/>
              </a:rPr>
              <a:t>Plan of the l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642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training and degrad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erturbation spectrum over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heat bal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Joule hea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cooling and heat trans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stability crite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enthalpy stabil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cryost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cold end recovery and the </a:t>
            </a:r>
            <a:r>
              <a:rPr b="0" i="1" lang="en-US" sz="1800" spc="-1" strike="noStrike">
                <a:solidFill>
                  <a:srgbClr val="b2b2b2"/>
                </a:solidFill>
                <a:latin typeface="Tahoma"/>
              </a:rPr>
              <a:t>equal-area theor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meta-stable conductor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well-cooled operation in CICC’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MPZ and MQ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turbation spect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642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re motion under Lorentz force, micro-slip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ing deform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ilures (at insulation bonding, material yel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omagnetic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ux-jumps (important for large filaments, old story !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 loss (most magnet typ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sharing in cables through distribution/redistribu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m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leads, instrumentation wi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t leaks through thermal insulation, degraded cool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clea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ticle showers in particle accelerator magne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utron flux in fusion experi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21:15:21Z</dcterms:created>
  <dc:creator>Cri &amp; Lu</dc:creator>
  <dc:description/>
  <dc:language>en-US</dc:language>
  <cp:lastModifiedBy>Francesco Pietroapolo</cp:lastModifiedBy>
  <dcterms:modified xsi:type="dcterms:W3CDTF">2003-04-30T08:19:24Z</dcterms:modified>
  <cp:revision>114</cp:revision>
  <dc:subject/>
  <dc:title>Lecture 3 - ASC short course</dc:title>
</cp:coreProperties>
</file>