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7.png" ContentType="image/png"/>
  <Override PartName="/ppt/media/image54.pct" ContentType="image/x-pict"/>
  <Override PartName="/ppt/media/image56.png" ContentType="image/png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8.pct" ContentType="image/x-pict"/>
  <Override PartName="/ppt/media/image73.jpeg" ContentType="image/jpeg"/>
  <Override PartName="/ppt/media/image37.pct" ContentType="image/x-pict"/>
  <Override PartName="/ppt/media/image36.pct" ContentType="image/x-pict"/>
  <Override PartName="/ppt/media/image13.pct" ContentType="image/x-pict"/>
  <Override PartName="/ppt/media/image2.png" ContentType="image/png"/>
  <Override PartName="/ppt/media/image14.png" ContentType="image/png"/>
  <Override PartName="/ppt/media/image28.pct" ContentType="image/x-pict"/>
  <Override PartName="/ppt/media/image72.jpeg" ContentType="image/jpeg"/>
  <Override PartName="/ppt/media/image49.pct" ContentType="image/x-pict"/>
  <Override PartName="/ppt/media/image12.pct" ContentType="image/x-pict"/>
  <Override PartName="/ppt/media/image1.png" ContentType="image/png"/>
  <Override PartName="/ppt/media/image27.pct" ContentType="image/x-pict"/>
  <Override PartName="/ppt/media/image92.pct" ContentType="image/x-pict"/>
  <Override PartName="/ppt/media/image39.pct" ContentType="image/x-pict"/>
  <Override PartName="/ppt/media/image9.pct" ContentType="image/x-pict"/>
  <Override PartName="/ppt/media/image86.pct" ContentType="image/x-pict"/>
  <Override PartName="/ppt/media/image47.pct" ContentType="image/x-pict"/>
  <Override PartName="/ppt/media/image10.pct" ContentType="image/x-pict"/>
  <Override PartName="/ppt/media/image35.pct" ContentType="image/x-pict"/>
  <Override PartName="/ppt/media/image21.png" ContentType="image/png"/>
  <Override PartName="/ppt/media/image8.png" ContentType="image/png"/>
  <Override PartName="/ppt/media/image99.pct" ContentType="image/x-pict"/>
  <Override PartName="/ppt/media/image19.pct" ContentType="image/x-pict"/>
  <Override PartName="/ppt/media/image84.pct" ContentType="image/x-pict"/>
  <Override PartName="/ppt/media/image60.png" ContentType="image/png"/>
  <Override PartName="/ppt/media/image74.pct" ContentType="image/x-pict"/>
  <Override PartName="/ppt/media/image24.pct" ContentType="image/x-pict"/>
  <Override PartName="/ppt/media/image61.pct" ContentType="image/x-pict"/>
  <Override PartName="/ppt/media/image64.jpeg" ContentType="image/jpeg"/>
  <Override PartName="/ppt/media/image62.pct" ContentType="image/x-pict"/>
  <Override PartName="/ppt/media/image63.pct" ContentType="image/x-pict"/>
  <Override PartName="/ppt/media/image93.png" ContentType="image/png"/>
  <Override PartName="/ppt/media/image25.pct" ContentType="image/x-pict"/>
  <Override PartName="/ppt/media/image90.pct" ContentType="image/x-pict"/>
  <Override PartName="/ppt/media/image11.pct" ContentType="image/x-pict"/>
  <Override PartName="/ppt/media/image48.pct" ContentType="image/x-pict"/>
  <Override PartName="/ppt/media/image67.png" ContentType="image/png"/>
  <Override PartName="/ppt/media/image68.png" ContentType="image/png"/>
  <Override PartName="/ppt/media/image96.png" ContentType="image/png"/>
  <Override PartName="/ppt/media/image79.pct" ContentType="image/x-pict"/>
  <Override PartName="/ppt/media/image26.pct" ContentType="image/x-pict"/>
  <Override PartName="/ppt/media/image91.pct" ContentType="image/x-pict"/>
  <Override PartName="/ppt/media/image100.png" ContentType="image/png"/>
  <Override PartName="/ppt/media/image65.jpeg" ContentType="image/jpeg"/>
  <Override PartName="/ppt/media/image89.pct" ContentType="image/x-pict"/>
  <Override PartName="/ppt/media/image77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jpeg" ContentType="image/jpeg"/>
  <Override PartName="/ppt/media/image85.pct" ContentType="image/x-pict"/>
  <Override PartName="/ppt/media/image78.pct" ContentType="image/x-pict"/>
  <Override PartName="/ppt/media/image69.png" ContentType="image/png"/>
  <Override PartName="/ppt/media/image23.pct" ContentType="image/x-pict"/>
  <Override PartName="/ppt/media/image70.jpeg" ContentType="image/jpeg"/>
  <Override PartName="/ppt/media/image5.png" ContentType="image/png"/>
  <Override PartName="/ppt/media/image32.pct" ContentType="image/x-pict"/>
  <Override PartName="/ppt/media/image22.pct" ContentType="image/x-pict"/>
  <Override PartName="/ppt/media/image55.pct" ContentType="image/x-pict"/>
  <Override PartName="/ppt/media/image58.png" ContentType="image/png"/>
  <Override PartName="/ppt/media/image94.pct" ContentType="image/x-pict"/>
  <Override PartName="/ppt/media/image29.pct" ContentType="image/x-pict"/>
  <Override PartName="/ppt/media/image3.png" ContentType="image/png"/>
  <Override PartName="/ppt/media/image30.pct" ContentType="image/x-pict"/>
  <Override PartName="/ppt/media/image15.pct" ContentType="image/x-pict"/>
  <Override PartName="/ppt/media/image80.pct" ContentType="image/x-pict"/>
  <Override PartName="/ppt/media/image95.pct" ContentType="image/x-pict"/>
  <Override PartName="/ppt/media/image4.png" ContentType="image/png"/>
  <Override PartName="/ppt/media/image31.pct" ContentType="image/x-pict"/>
  <Override PartName="/ppt/media/image16.pct" ContentType="image/x-pict"/>
  <Override PartName="/ppt/media/image81.pct" ContentType="image/x-pict"/>
  <Override PartName="/ppt/media/image82.pct" ContentType="image/x-pict"/>
  <Override PartName="/ppt/media/image17.pct" ContentType="image/x-pict"/>
  <Override PartName="/ppt/media/image97.pct" ContentType="image/x-pict"/>
  <Override PartName="/ppt/media/image6.png" ContentType="image/png"/>
  <Override PartName="/ppt/media/image33.pct" ContentType="image/x-pict"/>
  <Override PartName="/ppt/media/image20.pct" ContentType="image/x-pict"/>
  <Override PartName="/ppt/media/image71.jpeg" ContentType="image/jpeg"/>
  <Override PartName="/ppt/media/image18.pct" ContentType="image/x-pict"/>
  <Override PartName="/ppt/media/image83.pct" ContentType="image/x-pict"/>
  <Override PartName="/ppt/media/image98.pct" ContentType="image/x-pict"/>
  <Override PartName="/ppt/media/image7.png" ContentType="image/png"/>
  <Override PartName="/ppt/media/image3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F69-CD17-4F01-9B2A-50C817CF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0F1-191E-409E-817B-9573225B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A26-B9EF-4EEA-B9F4-F6616025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AC7-F6D3-4915-B546-963F9CAD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6ADD-06D9-415F-B63E-C29ACB3A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A0D8-A898-42D3-9AA7-C4664782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4F5-8028-40B1-8CAA-29793585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9B9C-026C-439D-B17D-1F075E8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88C9-42C8-4083-925F-8B27725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2A7-55C7-4897-8B25-DB0BEC63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3F59-A07F-473C-B6BB-E6763CDE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DD2-6C66-481B-B2AD-D945047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9929-F34C-417E-9895-C9E0255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D5BE-0640-4C8D-8A27-BAB3DB08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263D-A000-44CC-9B96-6C0C626E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BA6B-CAEF-46E2-A40A-B7EE8FED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CDC5-3D51-45ED-B1A7-CA2E6938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632-5CE5-44C0-9405-7E0BD61B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02E-FC6E-4967-85EC-7CE06882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748-5383-4093-BEC5-FEAFED14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51F-1DC1-4948-88D0-62E513D4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342-2B2E-46CD-AA8A-9E03C35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CFD-9681-48E2-9830-42B931C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0AF-4FA6-4BDC-BFE9-C8D8D86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224-B99B-4A1C-932C-819D7881DC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42CD-876B-48F1-AB4E-E91571520C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image" Target="../media/image37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9.pct"/><Relationship Id="rId3" Type="http://schemas.openxmlformats.org/officeDocument/2006/relationships/image" Target="../media/image40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image" Target="../media/image41.pct"/><Relationship Id="rId3" Type="http://schemas.openxmlformats.org/officeDocument/2006/relationships/image" Target="../media/image4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image" Target="../media/image44.pct"/><Relationship Id="rId3" Type="http://schemas.openxmlformats.org/officeDocument/2006/relationships/image" Target="../media/image45.pct"/><Relationship Id="rId4" Type="http://schemas.openxmlformats.org/officeDocument/2006/relationships/image" Target="../media/image46.pct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image" Target="../media/image50.pct"/><Relationship Id="rId3" Type="http://schemas.openxmlformats.org/officeDocument/2006/relationships/image" Target="../media/image51.pct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55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61.pct"/><Relationship Id="rId3" Type="http://schemas.openxmlformats.org/officeDocument/2006/relationships/image" Target="../media/image55.pct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pct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6.pct"/><Relationship Id="rId2" Type="http://schemas.openxmlformats.org/officeDocument/2006/relationships/image" Target="../media/image77.pct"/><Relationship Id="rId3" Type="http://schemas.openxmlformats.org/officeDocument/2006/relationships/image" Target="../media/image78.pct"/><Relationship Id="rId4" Type="http://schemas.openxmlformats.org/officeDocument/2006/relationships/image" Target="../media/image79.pct"/><Relationship Id="rId5" Type="http://schemas.openxmlformats.org/officeDocument/2006/relationships/image" Target="../media/image80.pct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3.pct"/><Relationship Id="rId2" Type="http://schemas.openxmlformats.org/officeDocument/2006/relationships/image" Target="../media/image84.pct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5.pct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6.pct"/><Relationship Id="rId2" Type="http://schemas.openxmlformats.org/officeDocument/2006/relationships/image" Target="../media/image87.pct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8.pct"/><Relationship Id="rId2" Type="http://schemas.openxmlformats.org/officeDocument/2006/relationships/image" Target="../media/image89.pct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0.pct"/><Relationship Id="rId2" Type="http://schemas.openxmlformats.org/officeDocument/2006/relationships/image" Target="../media/image91.pct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2.pct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5.pct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7.pct"/><Relationship Id="rId3" Type="http://schemas.openxmlformats.org/officeDocument/2006/relationships/image" Target="../media/image98.pct"/><Relationship Id="rId4" Type="http://schemas.openxmlformats.org/officeDocument/2006/relationships/image" Target="../media/image99.pct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2.pct"/><Relationship Id="rId2" Type="http://schemas.openxmlformats.org/officeDocument/2006/relationships/image" Target="../media/image15.pct"/><Relationship Id="rId3" Type="http://schemas.openxmlformats.org/officeDocument/2006/relationships/image" Target="../media/image81.pct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ccelerator Magne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400" y="3352320"/>
            <a:ext cx="64771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a Bottur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RN Division LHC, CH-1211 Geneva 23, Switzerland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uca.Bottura@cern.ch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RN accelerator comple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CERNAcc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42148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 op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1960" y="2579760"/>
            <a:ext cx="4746600" cy="375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87840" y="2057400"/>
            <a:ext cx="4363920" cy="2494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66880" y="3319560"/>
            <a:ext cx="930240" cy="61092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nergy 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4548240"/>
            <a:ext cx="1397160" cy="59832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eparation an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66920" y="2739960"/>
            <a:ext cx="370080" cy="324000"/>
          </a:xfrm>
          <a:custGeom>
            <a:avLst/>
            <a:gdLst/>
            <a:ahLst/>
            <a:rect l="l" t="t" r="r" b="b"/>
            <a:pathLst>
              <a:path w="760" h="690">
                <a:moveTo>
                  <a:pt x="50" y="200"/>
                </a:moveTo>
                <a:lnTo>
                  <a:pt x="210" y="400"/>
                </a:lnTo>
                <a:lnTo>
                  <a:pt x="0" y="490"/>
                </a:lnTo>
                <a:lnTo>
                  <a:pt x="230" y="480"/>
                </a:lnTo>
                <a:lnTo>
                  <a:pt x="140" y="690"/>
                </a:lnTo>
                <a:lnTo>
                  <a:pt x="350" y="510"/>
                </a:lnTo>
                <a:lnTo>
                  <a:pt x="460" y="690"/>
                </a:lnTo>
                <a:lnTo>
                  <a:pt x="380" y="450"/>
                </a:lnTo>
                <a:lnTo>
                  <a:pt x="760" y="340"/>
                </a:lnTo>
                <a:lnTo>
                  <a:pt x="350" y="360"/>
                </a:lnTo>
                <a:lnTo>
                  <a:pt x="430" y="0"/>
                </a:lnTo>
                <a:lnTo>
                  <a:pt x="250" y="280"/>
                </a:lnTo>
                <a:lnTo>
                  <a:pt x="50" y="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276720"/>
            <a:ext cx="887400" cy="662040"/>
          </a:xfrm>
          <a:noFill/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eam d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6160" y="4708440"/>
            <a:ext cx="1611360" cy="62568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jection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971800"/>
            <a:ext cx="1098720" cy="41904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3886200"/>
            <a:ext cx="1409760" cy="63504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pre-in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73960" y="3828960"/>
            <a:ext cx="692280" cy="41904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64680" y="3254400"/>
            <a:ext cx="679320" cy="42084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40640" y="2590920"/>
            <a:ext cx="603360" cy="41904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17800" y="4392360"/>
            <a:ext cx="1905120" cy="112068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73520" y="4416120"/>
            <a:ext cx="4900680" cy="109692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560" y="2192400"/>
            <a:ext cx="765360" cy="41580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98960" y="2181240"/>
            <a:ext cx="739800" cy="41580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966960" y="176832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orm field (dipo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749400" cy="3400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5638680" y="3505320"/>
            <a:ext cx="2590920" cy="1295280"/>
          </a:xfrm>
          <a:custGeom>
            <a:avLst/>
            <a:gdLst/>
            <a:ahLst/>
            <a:rect l="l" t="t" r="r" b="b"/>
            <a:pathLst>
              <a:path w="1632" h="1344">
                <a:moveTo>
                  <a:pt x="0" y="1320"/>
                </a:moveTo>
                <a:cubicBezTo>
                  <a:pt x="272" y="1116"/>
                  <a:pt x="544" y="912"/>
                  <a:pt x="816" y="888"/>
                </a:cubicBezTo>
                <a:cubicBezTo>
                  <a:pt x="1088" y="864"/>
                  <a:pt x="1632" y="1104"/>
                  <a:pt x="1632" y="1176"/>
                </a:cubicBezTo>
                <a:cubicBezTo>
                  <a:pt x="1632" y="1248"/>
                  <a:pt x="1088" y="1344"/>
                  <a:pt x="816" y="1320"/>
                </a:cubicBezTo>
                <a:cubicBezTo>
                  <a:pt x="544" y="1296"/>
                  <a:pt x="0" y="1152"/>
                  <a:pt x="0" y="1032"/>
                </a:cubicBezTo>
                <a:cubicBezTo>
                  <a:pt x="0" y="912"/>
                  <a:pt x="544" y="624"/>
                  <a:pt x="816" y="600"/>
                </a:cubicBezTo>
                <a:cubicBezTo>
                  <a:pt x="1088" y="576"/>
                  <a:pt x="1632" y="816"/>
                  <a:pt x="1632" y="888"/>
                </a:cubicBezTo>
                <a:cubicBezTo>
                  <a:pt x="1632" y="960"/>
                  <a:pt x="1088" y="1056"/>
                  <a:pt x="816" y="1032"/>
                </a:cubicBezTo>
                <a:cubicBezTo>
                  <a:pt x="544" y="1008"/>
                  <a:pt x="0" y="864"/>
                  <a:pt x="0" y="744"/>
                </a:cubicBezTo>
                <a:cubicBezTo>
                  <a:pt x="0" y="624"/>
                  <a:pt x="544" y="336"/>
                  <a:pt x="816" y="312"/>
                </a:cubicBezTo>
                <a:cubicBezTo>
                  <a:pt x="1088" y="288"/>
                  <a:pt x="1632" y="528"/>
                  <a:pt x="1632" y="600"/>
                </a:cubicBezTo>
                <a:cubicBezTo>
                  <a:pt x="1632" y="672"/>
                  <a:pt x="1088" y="768"/>
                  <a:pt x="816" y="744"/>
                </a:cubicBezTo>
                <a:cubicBezTo>
                  <a:pt x="544" y="720"/>
                  <a:pt x="0" y="576"/>
                  <a:pt x="0" y="456"/>
                </a:cubicBezTo>
                <a:cubicBezTo>
                  <a:pt x="0" y="336"/>
                  <a:pt x="544" y="48"/>
                  <a:pt x="816" y="24"/>
                </a:cubicBezTo>
                <a:cubicBezTo>
                  <a:pt x="1088" y="0"/>
                  <a:pt x="1632" y="240"/>
                  <a:pt x="1632" y="312"/>
                </a:cubicBezTo>
                <a:cubicBezTo>
                  <a:pt x="1632" y="384"/>
                  <a:pt x="1088" y="480"/>
                  <a:pt x="816" y="456"/>
                </a:cubicBezTo>
                <a:cubicBezTo>
                  <a:pt x="544" y="432"/>
                  <a:pt x="272" y="300"/>
                  <a:pt x="0" y="168"/>
                </a:cubicBezTo>
              </a:path>
            </a:pathLst>
          </a:custGeom>
          <a:noFill/>
          <a:ln cap="rnd" w="25560">
            <a:solidFill>
              <a:srgbClr val="ff0000"/>
            </a:solidFill>
            <a:custDash>
              <a:ds d="100000" sp="1000"/>
            </a:custDash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638320" y="3504960"/>
            <a:ext cx="762120" cy="1522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2971800"/>
            <a:ext cx="0" cy="22096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67560" y="32004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68600" y="4800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s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3807000" cy="3390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1880" y="190512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ient field (quadrupo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2408040" cy="1990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791320" y="1828800"/>
            <a:ext cx="1985760" cy="2400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62040" y="25146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4800" y="175248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-focu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DO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sing (F) – bending (O) – defocussing (D) – bending (O) mag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tional correctors (see LHC examp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7320" y="3505320"/>
            <a:ext cx="8986680" cy="245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423720" y="5546880"/>
            <a:ext cx="1012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_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tice dip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tice quadru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C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tice sextupole+orbit correct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tice octu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Q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m quadrup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Q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ew trim quadru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CD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ol-piece decapole-octupol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ol-piece sextu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fi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D field (slender magnet), with components only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no component alo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gn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efine the complex plan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field fun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alytic 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chy-Riemann condi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1641600" cy="48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41600" y="5334120"/>
            <a:ext cx="2778120" cy="838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994280" y="5334120"/>
            <a:ext cx="2778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eld expan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alytic and can be expanded in Taylor series (the series converges) inside a current-fre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gnetic field expan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ole coefficie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6040" y="3200400"/>
            <a:ext cx="3297240" cy="1092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56040" y="4724280"/>
            <a:ext cx="1735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ole magne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60840" y="1752480"/>
            <a:ext cx="3123720" cy="1849680"/>
            <a:chOff x="960840" y="1752480"/>
            <a:chExt cx="3123720" cy="184968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1752480" y="1752480"/>
              <a:ext cx="2332080" cy="18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960840" y="236232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960840" y="3809880"/>
            <a:ext cx="2903040" cy="2563920"/>
            <a:chOff x="960840" y="3809880"/>
            <a:chExt cx="2903040" cy="256392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971720" y="3809880"/>
              <a:ext cx="189216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960840" y="49528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808880" y="1676520"/>
            <a:ext cx="2693520" cy="2227320"/>
            <a:chOff x="4808880" y="1676520"/>
            <a:chExt cx="2693520" cy="2227320"/>
          </a:xfrm>
        </p:grpSpPr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5486400" y="1676520"/>
              <a:ext cx="201600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808880" y="236232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808880" y="3962520"/>
            <a:ext cx="2693520" cy="2652480"/>
            <a:chOff x="4808880" y="3962520"/>
            <a:chExt cx="2693520" cy="265248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5486400" y="3962520"/>
              <a:ext cx="2016000" cy="26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808880" y="49528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rmalised coeffici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absolute, complex multipoles, in T @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relative multipoles, in units @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-order multipoles are generally small, 100 ppm and less of the main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735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81080" y="4800600"/>
            <a:ext cx="51040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rrent 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and harmonics of a current line I located a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o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057280" y="3267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89160" y="3276720"/>
            <a:ext cx="1828800" cy="812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89160" y="4343400"/>
            <a:ext cx="2778120" cy="1014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562720" y="2666880"/>
            <a:ext cx="3537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you will learn tod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 accelerator magnet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ield representation in 2-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oles and symme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s of magnetic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 accelerator magnet co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il winding and assembly,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HC dip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errors in SC accelerator mag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nd non linear con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 cable magnetization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 with current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mo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and harmonics of a momen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cated a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o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5057280" y="3267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91040" y="2286000"/>
            <a:ext cx="5052960" cy="3741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19320" y="5181480"/>
            <a:ext cx="3411360" cy="1041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219320" y="3657600"/>
            <a:ext cx="22096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ect of an iron yoke - 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curr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86200" y="1832040"/>
            <a:ext cx="5219640" cy="3044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1504800" cy="838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447920" y="46483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ect of an iron yoke - 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mo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mom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69880" y="4648320"/>
            <a:ext cx="1295640" cy="838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469880" y="3505320"/>
            <a:ext cx="2721240" cy="938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886200" y="1828800"/>
            <a:ext cx="5219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design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of a cos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el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o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1942920" cy="455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3714840" cy="109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971800" y="5181480"/>
            <a:ext cx="2820960" cy="1016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275440" y="1600200"/>
            <a:ext cx="37922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design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of intersecting circles (and ellip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form fiel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4343400"/>
            <a:ext cx="2187720" cy="81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289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design -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secting ellipses to generate a quadrup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form gradien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386240" cy="4172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718160" cy="1465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676520" y="5029200"/>
            <a:ext cx="18460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design -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ximation for the ideal dipole current distribution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4305600" cy="302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38680" y="2743200"/>
            <a:ext cx="2990880" cy="609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design -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for the ideal quadrupole current distributi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381560" cy="4178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943600" y="3048120"/>
            <a:ext cx="2990880" cy="609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therford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gnetic design - 6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orm current sh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o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drup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229280" cy="426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2760840"/>
            <a:ext cx="42289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vatron dipo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505480" cy="4438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58000" y="5562720"/>
            <a:ext cx="2057400" cy="10033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current shells (lay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1752480"/>
            <a:ext cx="838080" cy="5335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3200400"/>
            <a:ext cx="1447560" cy="5335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fo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icroscope for nuclear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ray source (lithography, spectrography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cer thera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topes transmu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1133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RA dipo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29120" cy="4533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920" y="2209680"/>
            <a:ext cx="1295280" cy="5335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486400"/>
            <a:ext cx="1524240" cy="45720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HC dipo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133720" y="1628640"/>
            <a:ext cx="48006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HC quadrupo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9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nding in blo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362320" y="4419360"/>
            <a:ext cx="83808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3276720"/>
            <a:ext cx="76212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5640" y="46483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8040" y="4800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LHCdip" descr=""/>
          <p:cNvPicPr/>
          <p:nvPr/>
        </p:nvPicPr>
        <p:blipFill>
          <a:blip r:embed="rId1"/>
          <a:srcRect l="21117" t="10152" r="17778" b="8913"/>
          <a:stretch/>
        </p:blipFill>
        <p:spPr>
          <a:xfrm>
            <a:off x="2057400" y="1828800"/>
            <a:ext cx="49528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lowed harmon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chn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urrent distribution can be considered as a series approxi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2714760" cy="1779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91320" y="2933640"/>
            <a:ext cx="2438280" cy="1973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256120" cy="1981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465280" y="3809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40120" y="3809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7000" y="38098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57360" y="5334120"/>
            <a:ext cx="7005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=           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+        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metr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ole symmet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change sign to the current – the dipole i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drupole symmet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2 and change sign to the current – the quadrupole i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y for a magnet of ord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tate 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m and change sign to the current – the magnet i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lowed multip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gnet of order m can only contain the following multipole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= (2 k + 1 ) 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p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1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{1,3,5,7,…}: dipole, sextupole, decapole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drup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2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{2,6,10,…}: quadrupole, dodecapole, 20-pole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tup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3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{3,9,15,…}: sextupole, 18-pole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2971800"/>
            <a:ext cx="30481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pole magnet princi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2120" y="2128680"/>
            <a:ext cx="76960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pole magnet desig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56280" cy="4457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1981080"/>
            <a:ext cx="1752480" cy="45720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T, 9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5562720"/>
            <a:ext cx="1752840" cy="53316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7 T, 75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1905120"/>
            <a:ext cx="2819520" cy="45720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8 T, 5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2133720" cy="3808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4 T, 8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HC dipo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2" name="Cryodipole" descr=""/>
          <p:cNvPicPr/>
          <p:nvPr/>
        </p:nvPicPr>
        <p:blipFill>
          <a:blip r:embed="rId1"/>
          <a:stretch/>
        </p:blipFill>
        <p:spPr>
          <a:xfrm>
            <a:off x="0" y="0"/>
            <a:ext cx="930276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52880" y="73080"/>
            <a:ext cx="5091120" cy="6784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ingston plot: particle energy in laboratory frame vs. commissioning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ady incr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jumps happen through technology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HC dipole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4" name="LHC%20dipole" descr=""/>
          <p:cNvPicPr/>
          <p:nvPr/>
        </p:nvPicPr>
        <p:blipFill>
          <a:blip r:embed="rId1"/>
          <a:stretch/>
        </p:blipFill>
        <p:spPr>
          <a:xfrm>
            <a:off x="1447920" y="1728720"/>
            <a:ext cx="6556320" cy="5129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2280" y="2209680"/>
            <a:ext cx="1905120" cy="38124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3 T, 56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erconducting co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7" name="dipole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535800" cy="4868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H="1" flipV="1">
            <a:off x="2362320" y="4419360"/>
            <a:ext cx="83808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276720"/>
            <a:ext cx="76212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5640" y="46483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8040" y="48006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utherford c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6197400" cy="2203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2778120" cy="2768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705720" y="4419720"/>
            <a:ext cx="1481040" cy="2030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477120" y="1752480"/>
            <a:ext cx="2514600" cy="825480"/>
          </a:xfrm>
          <a:noFill/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conducting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4038480"/>
            <a:ext cx="1600200" cy="459720"/>
          </a:xfrm>
          <a:noFill/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 st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57800" y="4419360"/>
            <a:ext cx="1752480" cy="1981440"/>
            <a:chOff x="5257800" y="4419360"/>
            <a:chExt cx="1752480" cy="1981440"/>
          </a:xfrm>
        </p:grpSpPr>
        <p:sp>
          <p:nvSpPr>
            <p:cNvPr id="289" name=""/>
            <p:cNvSpPr/>
            <p:nvPr/>
          </p:nvSpPr>
          <p:spPr>
            <a:xfrm>
              <a:off x="5257800" y="4495680"/>
              <a:ext cx="304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562720" y="4419360"/>
              <a:ext cx="137160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800" y="4952880"/>
              <a:ext cx="1752480" cy="144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321680" y="3811680"/>
            <a:ext cx="1752480" cy="825480"/>
          </a:xfrm>
          <a:noFill/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 fil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lla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4" name="lhcdipsect" descr=""/>
          <p:cNvPicPr/>
          <p:nvPr/>
        </p:nvPicPr>
        <p:blipFill>
          <a:blip r:embed="rId1"/>
          <a:srcRect l="0" t="0" r="0" b="10077"/>
          <a:stretch/>
        </p:blipFill>
        <p:spPr>
          <a:xfrm>
            <a:off x="1143000" y="1905120"/>
            <a:ext cx="7162920" cy="4335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flipH="1">
            <a:off x="1600200" y="4419720"/>
            <a:ext cx="83808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600200" y="441972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441972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3809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5 tons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4572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5 tons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02000" y="4952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on yo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2" name="two-in-one-dip" descr=""/>
          <p:cNvPicPr/>
          <p:nvPr/>
        </p:nvPicPr>
        <p:blipFill>
          <a:blip r:embed="rId1"/>
          <a:srcRect l="6941" t="8958" r="6531" b="11941"/>
          <a:stretch/>
        </p:blipFill>
        <p:spPr>
          <a:xfrm>
            <a:off x="2590920" y="1905120"/>
            <a:ext cx="4419360" cy="4419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447920" y="2133720"/>
            <a:ext cx="1523880" cy="38088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ux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048120"/>
            <a:ext cx="2057400" cy="76176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p between coil and y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1752480"/>
            <a:ext cx="2210040" cy="5335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t excha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5867280"/>
            <a:ext cx="1905120" cy="60984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turat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2438280"/>
            <a:ext cx="1143000" cy="53352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-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il 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3276720"/>
            <a:ext cx="76212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5640" y="46483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733560" cy="2571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4191120" cy="2619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58487" t="0" r="0" b="0"/>
          <a:stretch/>
        </p:blipFill>
        <p:spPr>
          <a:xfrm>
            <a:off x="3429000" y="4341960"/>
            <a:ext cx="57150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yostated mag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5" name="dipole_cry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8644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eal transfer f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inear material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, no movements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, no eddy currents (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dt=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ansfer 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343400" y="3048120"/>
            <a:ext cx="982800" cy="414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657600" y="4419720"/>
            <a:ext cx="2309760" cy="974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95280" y="5638680"/>
            <a:ext cx="1752840" cy="706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3470400" y="5638680"/>
            <a:ext cx="1803240" cy="7066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5695920" y="5638680"/>
            <a:ext cx="1770120" cy="7066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545240" y="5762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51040" y="5764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5160" y="5764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 fun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295280" y="1523880"/>
            <a:ext cx="5942160" cy="5010120"/>
            <a:chOff x="1295280" y="1523880"/>
            <a:chExt cx="5942160" cy="5010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1295280" y="1523880"/>
              <a:ext cx="594216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068280" y="2636640"/>
              <a:ext cx="211320" cy="20304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91320" y="1866960"/>
            <a:ext cx="2819160" cy="106668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ometric (linear) con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0.713 T/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3886200"/>
            <a:ext cx="3049560" cy="838080"/>
          </a:xfrm>
          <a:noFill/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sistent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-0.6 mT/kA (0.1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2895480"/>
            <a:ext cx="2590920" cy="83844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 = -6 mT/kA (1 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turation of the fi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4" name="two-in-one-dip" descr=""/>
          <p:cNvPicPr/>
          <p:nvPr/>
        </p:nvPicPr>
        <p:blipFill>
          <a:blip r:embed="rId1"/>
          <a:srcRect l="6941" t="8958" r="6531" b="11941"/>
          <a:stretch/>
        </p:blipFill>
        <p:spPr>
          <a:xfrm>
            <a:off x="1447920" y="1905120"/>
            <a:ext cx="4419360" cy="4419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 rot="5400000">
            <a:off x="2552400" y="2857320"/>
            <a:ext cx="6858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5" y="1677"/>
                  <a:pt x="9349" y="5080"/>
                  <a:pt x="9349" y="10800"/>
                </a:cubicBezTo>
                <a:cubicBezTo>
                  <a:pt x="9349" y="16520"/>
                  <a:pt x="15475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4000320" y="2857320"/>
            <a:ext cx="68580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5" y="1677"/>
                  <a:pt x="9349" y="5080"/>
                  <a:pt x="9349" y="10800"/>
                </a:cubicBezTo>
                <a:cubicBezTo>
                  <a:pt x="9349" y="16520"/>
                  <a:pt x="15475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 rot="5400000">
            <a:off x="4000320" y="4152240"/>
            <a:ext cx="68580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5" y="1677"/>
                  <a:pt x="9349" y="5080"/>
                  <a:pt x="9349" y="10800"/>
                </a:cubicBezTo>
                <a:cubicBezTo>
                  <a:pt x="9349" y="16520"/>
                  <a:pt x="15475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 rot="5400000">
            <a:off x="2551680" y="4152240"/>
            <a:ext cx="68580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75" y="1677"/>
                  <a:pt x="9349" y="5080"/>
                  <a:pt x="9349" y="10800"/>
                </a:cubicBezTo>
                <a:cubicBezTo>
                  <a:pt x="9349" y="16520"/>
                  <a:pt x="15475" y="1992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91320" y="2514600"/>
            <a:ext cx="2209680" cy="68580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turated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 &gt; 2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57600" y="3124080"/>
            <a:ext cx="137160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5334120"/>
            <a:ext cx="2971800" cy="990360"/>
          </a:xfr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ffec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ron boundary moves away from the coil: less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124080"/>
            <a:ext cx="1371600" cy="198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high energy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er wave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re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m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p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ore early universe time, corresponding to high energy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rmal sextupo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371600" y="1600200"/>
            <a:ext cx="5959440" cy="5029200"/>
            <a:chOff x="1371600" y="1600200"/>
            <a:chExt cx="5959440" cy="5029200"/>
          </a:xfrm>
        </p:grpSpPr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1371600" y="1600200"/>
              <a:ext cx="595944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650320" y="3746520"/>
              <a:ext cx="210960" cy="2026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429000" y="3962520"/>
            <a:ext cx="3276720" cy="119376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al compen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persistent currents at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istent curr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14400" y="2209320"/>
            <a:ext cx="3200400" cy="3124800"/>
            <a:chOff x="914400" y="2209320"/>
            <a:chExt cx="3200400" cy="3124800"/>
          </a:xfrm>
        </p:grpSpPr>
        <p:sp>
          <p:nvSpPr>
            <p:cNvPr id="350" name=""/>
            <p:cNvSpPr/>
            <p:nvPr/>
          </p:nvSpPr>
          <p:spPr>
            <a:xfrm flipV="1">
              <a:off x="1371600" y="2209320"/>
              <a:ext cx="8380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429000" y="3657240"/>
              <a:ext cx="68580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14400" y="2590920"/>
              <a:ext cx="2743200" cy="2743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581280" y="3505320"/>
              <a:ext cx="53352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657600" y="3352320"/>
              <a:ext cx="4572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33520" y="1523880"/>
            <a:ext cx="3504600" cy="4838040"/>
            <a:chOff x="533520" y="1523880"/>
            <a:chExt cx="3504600" cy="4838040"/>
          </a:xfrm>
        </p:grpSpPr>
        <p:sp>
          <p:nvSpPr>
            <p:cNvPr id="356" name=""/>
            <p:cNvSpPr/>
            <p:nvPr/>
          </p:nvSpPr>
          <p:spPr>
            <a:xfrm flipV="1">
              <a:off x="2286000" y="541008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600200" y="518148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914400" y="449568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33520" y="350532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914400" y="236232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600200" y="167652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286000" y="152388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71440" y="1676160"/>
              <a:ext cx="1066680" cy="4419000"/>
              <a:chOff x="2971440" y="1676160"/>
              <a:chExt cx="1066680" cy="441900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2971440" y="5181120"/>
                <a:ext cx="0" cy="9140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3657240" y="4495320"/>
                <a:ext cx="0" cy="9140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038120" y="3504600"/>
                <a:ext cx="0" cy="9140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3657240" y="2361600"/>
                <a:ext cx="0" cy="9140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971440" y="1676160"/>
                <a:ext cx="0" cy="91404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100680" y="59022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38080" y="2590920"/>
            <a:ext cx="2819160" cy="2743200"/>
            <a:chOff x="838080" y="2590920"/>
            <a:chExt cx="2819160" cy="2743200"/>
          </a:xfrm>
        </p:grpSpPr>
        <p:sp>
          <p:nvSpPr>
            <p:cNvPr id="371" name=""/>
            <p:cNvSpPr/>
            <p:nvPr/>
          </p:nvSpPr>
          <p:spPr>
            <a:xfrm>
              <a:off x="914760" y="2590920"/>
              <a:ext cx="2742480" cy="27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958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95861"/>
                </a:path>
              </a:pathLst>
            </a:cu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914400" y="2590920"/>
              <a:ext cx="2742480" cy="27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958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95861"/>
                </a:path>
              </a:pathLst>
            </a:custGeom>
            <a:solidFill>
              <a:srgbClr val="00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0200" y="2590920"/>
              <a:ext cx="1390680" cy="274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38080" y="3962520"/>
              <a:ext cx="45720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971800" y="3962520"/>
              <a:ext cx="38088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23640" y="350532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33"/>
                  </a:solidFill>
                  <a:latin typeface="Tahoma"/>
                </a:rPr>
                <a:t>+J</a:t>
              </a:r>
              <a:r>
                <a:rPr b="0" lang="en-US" sz="2400" spc="-1" strike="noStrike" baseline="-25000">
                  <a:solidFill>
                    <a:srgbClr val="996633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24920" y="3429000"/>
              <a:ext cx="44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-J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77000" y="3505320"/>
            <a:ext cx="697320" cy="914400"/>
            <a:chOff x="2277000" y="3505320"/>
            <a:chExt cx="697320" cy="914400"/>
          </a:xfrm>
        </p:grpSpPr>
        <p:sp>
          <p:nvSpPr>
            <p:cNvPr id="379" name=""/>
            <p:cNvSpPr/>
            <p:nvPr/>
          </p:nvSpPr>
          <p:spPr>
            <a:xfrm>
              <a:off x="2286000" y="3505320"/>
              <a:ext cx="0" cy="9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77000" y="3581280"/>
              <a:ext cx="69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M</a:t>
              </a:r>
              <a:r>
                <a:rPr b="0" lang="en-US" sz="2400" spc="-1" strike="noStrike" baseline="-25000">
                  <a:solidFill>
                    <a:srgbClr val="660066"/>
                  </a:solidFill>
                  <a:latin typeface="Tahoma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266720" y="1752120"/>
            <a:ext cx="4597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chan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dd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urrents 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ersis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magnetic moment at each filam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Df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D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,B,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4648320"/>
            <a:ext cx="99036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1520" y="4572000"/>
            <a:ext cx="9903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istent curr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322960" y="2184480"/>
            <a:ext cx="3821040" cy="34513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52280" y="1727280"/>
            <a:ext cx="5083200" cy="459108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2819520" y="2336400"/>
            <a:ext cx="2895480" cy="2667240"/>
            <a:chOff x="2819520" y="2336400"/>
            <a:chExt cx="2895480" cy="2667240"/>
          </a:xfrm>
        </p:grpSpPr>
        <p:sp>
          <p:nvSpPr>
            <p:cNvPr id="388" name=""/>
            <p:cNvSpPr/>
            <p:nvPr/>
          </p:nvSpPr>
          <p:spPr>
            <a:xfrm>
              <a:off x="2819520" y="3784320"/>
              <a:ext cx="4572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048120" y="2336400"/>
              <a:ext cx="2666880" cy="144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4317840"/>
              <a:ext cx="259092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 flipH="1">
            <a:off x="1937160" y="4384440"/>
            <a:ext cx="2437920" cy="19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12" y="942"/>
                </a:moveTo>
                <a:arcTo wR="10800" hR="10800" stAng="-3953221" swAng="3024892"/>
                <a:lnTo>
                  <a:pt x="10800" y="10800"/>
                </a:lnTo>
                <a:close/>
              </a:path>
              <a:path fill="none" w="21600" h="21600">
                <a:moveTo>
                  <a:pt x="15212" y="942"/>
                </a:moveTo>
                <a:arcTo wR="10800" hR="10800" stAng="-3953221" swAng="3024892"/>
              </a:path>
            </a:pathLst>
          </a:custGeom>
          <a:noFill/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 rot="5400000">
            <a:off x="1775880" y="811800"/>
            <a:ext cx="24375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9" y="1418"/>
                </a:moveTo>
                <a:arcTo wR="10800" hR="10800" stAng="-3618701" swAng="3130128"/>
                <a:lnTo>
                  <a:pt x="10800" y="10800"/>
                </a:lnTo>
                <a:close/>
              </a:path>
              <a:path fill="none" w="21600" h="21600">
                <a:moveTo>
                  <a:pt x="16149" y="1418"/>
                </a:moveTo>
                <a:arcTo wR="10800" hR="10800" stAng="-3618701" swAng="3130128"/>
              </a:path>
            </a:pathLst>
          </a:custGeom>
          <a:noFill/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8480" y="6016680"/>
            <a:ext cx="4724640" cy="703800"/>
          </a:xfrm>
          <a:noFill/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steresis crossing: no overshoot possible, operation of corrector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istent curr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523880" y="228960"/>
            <a:ext cx="5083200" cy="5962320"/>
            <a:chOff x="1523880" y="228960"/>
            <a:chExt cx="5083200" cy="596232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3880" y="1600200"/>
              <a:ext cx="50832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 flipV="1" rot="5400000">
              <a:off x="3401640" y="455760"/>
              <a:ext cx="2436120" cy="198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029" y="1977"/>
                  </a:moveTo>
                  <a:arcTo wR="10800" hR="10800" stAng="-3286626" swAng="20982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029" y="1977"/>
                  </a:moveTo>
                  <a:arcTo wR="10800" hR="10800" stAng="-3286626" swAng="2098245"/>
                </a:path>
              </a:pathLst>
            </a:custGeom>
            <a:noFill/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3537360" y="4203720"/>
              <a:ext cx="2437920" cy="197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38" y="2359"/>
                  </a:moveTo>
                  <a:arcTo wR="10800" hR="10800" stAng="-3084142" swAng="2155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38" y="2359"/>
                  </a:moveTo>
                  <a:arcTo wR="10800" hR="10800" stAng="-3084142" swAng="2155813"/>
                </a:path>
              </a:pathLst>
            </a:custGeom>
            <a:noFill/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562720" y="4378320"/>
            <a:ext cx="3200400" cy="1313640"/>
          </a:xfrm>
          <a:solidFill>
            <a:srgbClr val="ffff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+0.1 K temperature increase gives a +0.17 units change on b3 (1.7 units/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pling curr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742160" cy="275256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3276720" y="2742840"/>
            <a:ext cx="4038480" cy="762480"/>
            <a:chOff x="3276720" y="2742840"/>
            <a:chExt cx="4038480" cy="762480"/>
          </a:xfrm>
        </p:grpSpPr>
        <p:sp>
          <p:nvSpPr>
            <p:cNvPr id="403" name=""/>
            <p:cNvSpPr/>
            <p:nvPr/>
          </p:nvSpPr>
          <p:spPr>
            <a:xfrm flipV="1">
              <a:off x="3352680" y="2742840"/>
              <a:ext cx="19814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334120" y="2971800"/>
              <a:ext cx="1981080" cy="53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34120" y="2743200"/>
              <a:ext cx="1981080" cy="533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6720" y="2971800"/>
              <a:ext cx="1981080" cy="533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19720" y="2895480"/>
            <a:ext cx="1904760" cy="45720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192"/>
                </a:moveTo>
                <a:lnTo>
                  <a:pt x="624" y="0"/>
                </a:lnTo>
                <a:lnTo>
                  <a:pt x="1296" y="192"/>
                </a:lnTo>
                <a:lnTo>
                  <a:pt x="576" y="384"/>
                </a:lnTo>
                <a:lnTo>
                  <a:pt x="240" y="2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3733920"/>
            <a:ext cx="1511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ff"/>
                </a:solidFill>
                <a:latin typeface="Symbol"/>
                <a:ea typeface="Symbol"/>
              </a:rPr>
              <a:t></a:t>
            </a:r>
            <a:r>
              <a:rPr b="0" lang="en-AU" sz="2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00ff"/>
                </a:solidFill>
                <a:latin typeface="Tahoma"/>
              </a:rPr>
              <a:t>dB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48520" y="1752480"/>
            <a:ext cx="2514600" cy="1241640"/>
          </a:xfrm>
          <a:noFill/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istive contact at cross-overs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4648320"/>
            <a:ext cx="833112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ramp dB/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dy currents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edd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edd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/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3048120"/>
            <a:ext cx="3812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2971800"/>
            <a:ext cx="3812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pling current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924360" cy="3544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905280" cy="35449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457200" y="5638680"/>
            <a:ext cx="83311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n-allowed multipol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ay and Snap-b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181320" cy="28735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4043520" y="1676520"/>
            <a:ext cx="5100480" cy="4606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105520" y="3886200"/>
            <a:ext cx="1600200" cy="825480"/>
          </a:xfrm>
          <a:solidFill>
            <a:srgbClr val="ffffff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nap-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48520" y="1752480"/>
            <a:ext cx="990360" cy="825480"/>
          </a:xfrm>
          <a:solidFill>
            <a:srgbClr val="ffffff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0160" y="175248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HC operat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752480" y="2133360"/>
            <a:ext cx="2819160" cy="4038840"/>
            <a:chOff x="1752480" y="2133360"/>
            <a:chExt cx="2819160" cy="4038840"/>
          </a:xfrm>
        </p:grpSpPr>
        <p:sp>
          <p:nvSpPr>
            <p:cNvPr id="424" name=""/>
            <p:cNvSpPr/>
            <p:nvPr/>
          </p:nvSpPr>
          <p:spPr>
            <a:xfrm flipV="1">
              <a:off x="1981080" y="2133360"/>
              <a:ext cx="2590560" cy="19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81080" y="4495680"/>
              <a:ext cx="2438280" cy="1676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52480" y="4114800"/>
              <a:ext cx="6094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ay and snap-b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730680" cy="30909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916440" y="2286000"/>
            <a:ext cx="3173400" cy="3454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7238880" y="1981080"/>
            <a:ext cx="1905120" cy="144792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nap-back at the start of the acceleration r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38880" y="4419720"/>
            <a:ext cx="1905120" cy="76176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ay during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8120" y="2362320"/>
            <a:ext cx="288612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039760" y="1752480"/>
            <a:ext cx="5369040" cy="44802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562720" y="4114800"/>
            <a:ext cx="3205080" cy="114300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cay during simulated 10,000 s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676520"/>
            <a:ext cx="2209680" cy="914400"/>
          </a:xfrm>
          <a:solidFill>
            <a:srgbClr val="ffffff"/>
          </a:solidFill>
          <a:ln w="9360">
            <a:solidFill>
              <a:srgbClr val="ff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onential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= 900 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nap-b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039760" y="1752480"/>
            <a:ext cx="5218200" cy="43214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769000" y="1981080"/>
            <a:ext cx="2913120" cy="146556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snap-back 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[1-(I-I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ahoma"/>
              </a:rPr>
              <a:t>inj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)/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]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3= 3.7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 = 27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 = 19 m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43720" y="4191120"/>
            <a:ext cx="1346040" cy="444240"/>
          </a:xfrm>
          <a:solidFill>
            <a:srgbClr val="ffffff"/>
          </a:solidFill>
          <a:ln w="9360">
            <a:solidFill>
              <a:srgbClr val="ff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nap-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25800" y="4038480"/>
            <a:ext cx="1344600" cy="444600"/>
          </a:xfrm>
          <a:solidFill>
            <a:srgbClr val="ffffff"/>
          </a:solidFill>
          <a:ln w="9360">
            <a:solidFill>
              <a:srgbClr val="ff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ear accel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lerating stations (cavities)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sing elements (quadrupo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and C proportional to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1764000" cy="2513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743200" y="3505320"/>
            <a:ext cx="5745960" cy="990000"/>
            <a:chOff x="2743200" y="3505320"/>
            <a:chExt cx="5745960" cy="9900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743200" y="3733560"/>
              <a:ext cx="48290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696080" y="403848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44440" y="3505320"/>
              <a:ext cx="10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ccelerat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114800" y="4726080"/>
            <a:ext cx="27417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ay and SB phy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distribution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unifor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c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curr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/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distribu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nges in 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causing a variable rotating field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4817880" cy="1731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038480" y="685800"/>
            <a:ext cx="457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232520" y="5257440"/>
            <a:ext cx="4835160" cy="1195920"/>
            <a:chOff x="4232520" y="5257440"/>
            <a:chExt cx="4835160" cy="1195920"/>
          </a:xfrm>
        </p:grpSpPr>
        <p:grpSp>
          <p:nvGrpSpPr>
            <p:cNvPr id="447" name=""/>
            <p:cNvGrpSpPr/>
            <p:nvPr/>
          </p:nvGrpSpPr>
          <p:grpSpPr>
            <a:xfrm>
              <a:off x="4232520" y="5594400"/>
              <a:ext cx="2256480" cy="706320"/>
              <a:chOff x="4232520" y="5594400"/>
              <a:chExt cx="2256480" cy="706320"/>
            </a:xfrm>
          </p:grpSpPr>
          <p:sp>
            <p:nvSpPr>
              <p:cNvPr id="448" name=""/>
              <p:cNvSpPr/>
              <p:nvPr/>
            </p:nvSpPr>
            <p:spPr>
              <a:xfrm flipH="1">
                <a:off x="5362560" y="560196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32520" y="559440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717600" y="5603400"/>
              <a:ext cx="2256480" cy="706320"/>
              <a:chOff x="6717600" y="5603400"/>
              <a:chExt cx="2256480" cy="706320"/>
            </a:xfrm>
          </p:grpSpPr>
          <p:sp>
            <p:nvSpPr>
              <p:cNvPr id="451" name=""/>
              <p:cNvSpPr/>
              <p:nvPr/>
            </p:nvSpPr>
            <p:spPr>
              <a:xfrm flipH="1" flipV="1">
                <a:off x="7847640" y="560340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6717600" y="561096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452480" y="5613480"/>
              <a:ext cx="2256480" cy="706320"/>
              <a:chOff x="4452480" y="5613480"/>
              <a:chExt cx="2256480" cy="706320"/>
            </a:xfrm>
          </p:grpSpPr>
          <p:sp>
            <p:nvSpPr>
              <p:cNvPr id="454" name=""/>
              <p:cNvSpPr/>
              <p:nvPr/>
            </p:nvSpPr>
            <p:spPr>
              <a:xfrm flipH="1" flipV="1">
                <a:off x="5582520" y="561348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452480" y="562104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308840" y="5461200"/>
              <a:ext cx="4758840" cy="895680"/>
              <a:chOff x="4308840" y="5461200"/>
              <a:chExt cx="4758840" cy="895680"/>
            </a:xfrm>
          </p:grpSpPr>
          <p:sp>
            <p:nvSpPr>
              <p:cNvPr id="457" name=""/>
              <p:cNvSpPr/>
              <p:nvPr/>
            </p:nvSpPr>
            <p:spPr>
              <a:xfrm flipH="1" flipV="1">
                <a:off x="4317480" y="5461200"/>
                <a:ext cx="211680" cy="895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3614"/>
                    </a:lnTo>
                    <a:lnTo>
                      <a:pt x="19945" y="19986"/>
                    </a:lnTo>
                    <a:lnTo>
                      <a:pt x="19945" y="159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>
                <a:off x="8856000" y="5461200"/>
                <a:ext cx="211320" cy="895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3614"/>
                    </a:lnTo>
                    <a:lnTo>
                      <a:pt x="19945" y="19986"/>
                    </a:lnTo>
                    <a:lnTo>
                      <a:pt x="19945" y="159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4308840" y="5642280"/>
                <a:ext cx="454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flipV="1">
                <a:off x="4317840" y="5461200"/>
                <a:ext cx="4547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>
                <a:off x="4510800" y="6356520"/>
                <a:ext cx="4548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4510800" y="6175800"/>
                <a:ext cx="4548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flipH="1">
              <a:off x="5478840" y="5607000"/>
              <a:ext cx="786240" cy="48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530040" y="5603760"/>
              <a:ext cx="2256480" cy="706320"/>
              <a:chOff x="6530040" y="5603760"/>
              <a:chExt cx="2256480" cy="706320"/>
            </a:xfrm>
          </p:grpSpPr>
          <p:sp>
            <p:nvSpPr>
              <p:cNvPr id="465" name=""/>
              <p:cNvSpPr/>
              <p:nvPr/>
            </p:nvSpPr>
            <p:spPr>
              <a:xfrm flipH="1">
                <a:off x="7660080" y="561132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30040" y="5603760"/>
                <a:ext cx="1126440" cy="69876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 flipV="1">
              <a:off x="6006600" y="6040080"/>
              <a:ext cx="516240" cy="3178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687000" y="5257440"/>
              <a:ext cx="1923480" cy="1195920"/>
              <a:chOff x="6687000" y="5257440"/>
              <a:chExt cx="1923480" cy="1195920"/>
            </a:xfrm>
          </p:grpSpPr>
          <p:sp>
            <p:nvSpPr>
              <p:cNvPr id="469" name=""/>
              <p:cNvSpPr/>
              <p:nvPr/>
            </p:nvSpPr>
            <p:spPr>
              <a:xfrm flipH="1" flipV="1">
                <a:off x="7308720" y="5371560"/>
                <a:ext cx="41400" cy="605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40840" y="5905080"/>
                <a:ext cx="188280" cy="548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687000" y="5873040"/>
                <a:ext cx="1923480" cy="1656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7707600" y="5499000"/>
                <a:ext cx="35640" cy="452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531560" y="5409720"/>
                <a:ext cx="18360" cy="5547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860240" y="5726880"/>
                <a:ext cx="164520" cy="212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030160" y="5938560"/>
                <a:ext cx="106200" cy="1447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94680" y="5926320"/>
                <a:ext cx="123480" cy="284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6950880" y="5257440"/>
                <a:ext cx="229320" cy="732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ay and SB phy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52280" y="1709640"/>
            <a:ext cx="6027840" cy="4996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867280" y="2209680"/>
            <a:ext cx="3276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cal field change in tu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ffects the magnet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SC filaments: average M decreases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9880" y="3733920"/>
            <a:ext cx="2040120" cy="761760"/>
          </a:xfr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 decrease of magne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ay and SB phy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54529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gnetization state is re-established as soon as the background field is increased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nap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956200" y="1708200"/>
            <a:ext cx="2806920" cy="23302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3809880"/>
            <a:ext cx="82324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ckground field change necessary is of the same order of the internal field change in the 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 A change in current im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mT average internal field change (vs. 5…20 mT measu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demons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438280" y="1676520"/>
            <a:ext cx="3583080" cy="1983600"/>
            <a:chOff x="2438280" y="1676520"/>
            <a:chExt cx="3583080" cy="1983600"/>
          </a:xfrm>
        </p:grpSpPr>
        <p:graphicFrame>
          <p:nvGraphicFramePr>
            <p:cNvPr id="488" name=""/>
            <p:cNvGraphicFramePr/>
            <p:nvPr/>
          </p:nvGraphicFramePr>
          <p:xfrm>
            <a:off x="2438280" y="1676520"/>
            <a:ext cx="3583080" cy="1704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676520"/>
                      <a:ext cx="358308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2971800" y="1905120"/>
              <a:ext cx="76320" cy="160020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9920" y="3200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5119920" cy="3143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62720" y="3733920"/>
            <a:ext cx="3198600" cy="24350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648320" y="487692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20740200">
            <a:off x="4343040" y="5334120"/>
            <a:ext cx="152280" cy="60948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15000" y="3352680"/>
            <a:ext cx="1346040" cy="444600"/>
          </a:xfrm>
          <a:solidFill>
            <a:srgbClr val="ffffff"/>
          </a:solidFill>
          <a:ln w="9360">
            <a:solidFill>
              <a:srgbClr val="ff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38680" y="6095880"/>
            <a:ext cx="1346400" cy="44460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omp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280" y="2971800"/>
            <a:ext cx="1803600" cy="444600"/>
          </a:xfrm>
          <a:solidFill>
            <a:srgbClr val="ffffff"/>
          </a:solidFill>
          <a:ln w="9360">
            <a:solidFill>
              <a:srgbClr val="ff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Copper st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2133720"/>
            <a:ext cx="1650960" cy="444240"/>
          </a:xfrm>
          <a:solidFill>
            <a:srgbClr val="ffffff"/>
          </a:solidFill>
          <a:ln w="9360">
            <a:solidFill>
              <a:srgbClr val="ff00ff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NbTi st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00760" y="203364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Demonstration experi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at Twente Univers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Tahoma"/>
              </a:rPr>
              <a:t>Courtesy of M. Haverk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4724280"/>
            <a:ext cx="639720" cy="6397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bit of reality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eld qua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construc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rom measurements performed in MBP2N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ot of homogeneity |B(x,y)-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|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side the aperture of the magne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blue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OK (1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Tahoma"/>
              </a:rPr>
              <a:t>-4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green </a:t>
            </a:r>
            <a:r>
              <a:rPr b="0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 so, so (5 </a:t>
            </a:r>
            <a:r>
              <a:rPr b="0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 10</a:t>
            </a:r>
            <a:r>
              <a:rPr b="0" lang="en-US" sz="2000" spc="-1" strike="noStrike" baseline="30000">
                <a:solidFill>
                  <a:srgbClr val="00cc00"/>
                </a:solidFill>
                <a:latin typeface="Tahoma"/>
              </a:rPr>
              <a:t>-4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yellow </a:t>
            </a:r>
            <a:r>
              <a:rPr b="0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Houston, we have a problem (1 </a:t>
            </a:r>
            <a:r>
              <a:rPr b="0" lang="en-US" sz="2000" spc="-1" strike="noStrike">
                <a:solidFill>
                  <a:srgbClr val="ff99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10</a:t>
            </a:r>
            <a:r>
              <a:rPr b="0" lang="en-US" sz="2000" spc="-1" strike="noStrike" baseline="30000">
                <a:solidFill>
                  <a:srgbClr val="ff9900"/>
                </a:solidFill>
                <a:latin typeface="Tahoma"/>
              </a:rPr>
              <a:t>-3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bye, bye (5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ahoma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measur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019920" y="4381560"/>
            <a:ext cx="2933640" cy="2476440"/>
            <a:chOff x="6019920" y="4381560"/>
            <a:chExt cx="2933640" cy="247644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6019920" y="4381560"/>
              <a:ext cx="293364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649200" y="5438520"/>
              <a:ext cx="103680" cy="9972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473800" cy="432936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5791320" y="1676520"/>
            <a:ext cx="3076560" cy="2593800"/>
            <a:chOff x="5791320" y="1676520"/>
            <a:chExt cx="3076560" cy="2593800"/>
          </a:xfrm>
        </p:grpSpPr>
        <p:pic>
          <p:nvPicPr>
            <p:cNvPr id="510" name="" descr=""/>
            <p:cNvPicPr/>
            <p:nvPr/>
          </p:nvPicPr>
          <p:blipFill>
            <a:blip r:embed="rId3"/>
            <a:stretch/>
          </p:blipFill>
          <p:spPr>
            <a:xfrm>
              <a:off x="5791320" y="1676520"/>
              <a:ext cx="3076560" cy="25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6709320" y="2252520"/>
              <a:ext cx="109440" cy="10512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363000" cy="48387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y Playstation III (or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Tracking the LHC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.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7086600" y="5943600"/>
            <a:ext cx="2057400" cy="45720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coil of MBP2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81280" y="1752480"/>
            <a:ext cx="2210040" cy="457200"/>
          </a:xfrm>
          <a:solidFill>
            <a:srgbClr val="ffffff"/>
          </a:solidFill>
          <a:ln w="9360">
            <a:solidFill>
              <a:srgbClr val="99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operating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752480"/>
            <a:ext cx="2438280" cy="1067040"/>
          </a:xfrm>
          <a:solidFill>
            <a:srgbClr val="ffffff"/>
          </a:solidFill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Field homogeneit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reconstructed from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6095880"/>
            <a:ext cx="1828800" cy="381240"/>
          </a:xfr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ef = 17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lar acceler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lerating stations (cavities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ding and focussing elements (magn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42577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lim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ding radiu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a 1 TeV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1000 GeV) proton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1) is bent by a 5 T field on a radiu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667 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tron radi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a proton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1840) with 1 TeV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1000 GeV) bent 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667 m, loos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0.012 keV per tur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53040" y="1752480"/>
            <a:ext cx="2133720" cy="86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53040" y="3886200"/>
            <a:ext cx="353376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st consid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co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civil engineering, proportional to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magnetic system, proportional to length and field str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installed power, proportional to the energy loss per 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203640" cy="48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3343320" cy="276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335412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17:06:18Z</dcterms:created>
  <dc:creator>Luca Bottura</dc:creator>
  <dc:description/>
  <dc:language>en-US</dc:language>
  <cp:lastModifiedBy>Luca Bottura</cp:lastModifiedBy>
  <dcterms:modified xsi:type="dcterms:W3CDTF">2003-08-28T20:00:06Z</dcterms:modified>
  <cp:revision>36</cp:revision>
  <dc:subject/>
  <dc:title>Superconducting Accelerator Magnets</dc:title>
</cp:coreProperties>
</file>